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DCA5-7254-4D9B-88FE-15EB4AAC60A1}" type="slidenum"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888-F485-42EA-85F0-4461B7D83A5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534-7873-47A7-BDC3-D7B850753EC3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9EAC-7246-4B52-A385-0DE9BDA1FFCD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A7A4-A95F-4678-8582-493246607401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3788-7BF2-495E-975C-6B52F7670A1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A882-6FDA-441C-AABF-9C43390B0CF3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3AFD-A65D-4774-B757-762F78646237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EFBB-D1E1-49DF-B62D-F8F2CC6BDA2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0A0A-554D-4BA7-AC5E-489314B773A3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DCA-5C5D-4707-999F-BB51CCD8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75C-CBFF-47BE-9681-114596D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299-9C04-4BA4-9555-F8CC8796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4F0-BC58-42CC-B503-C1F3B83D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790B-EF55-4ED0-A234-834CFFEF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5C57-153B-404A-BE2E-85EBD9F5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D44A-45F3-42A2-A7E0-D1E3960C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AC0F-105A-4284-9B96-059A29A9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3041-A25C-4BF8-97C0-6690DDA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BDD7-71D9-4EF0-BC6C-A1BFA3D3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4857-FE8D-4E53-A116-24956C7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48E-C657-4278-84CA-7C5E69C8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8349-6D09-4183-B834-3CB286A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721F-3C19-44DD-A5A4-A0EC9710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B01E-D968-4A39-B562-54C15BB3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9663-D270-4ECE-8688-A9413FEA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BF0A-C0EF-4822-998B-BA072EEA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FF81-D394-486A-BFD5-BEBB1D6F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3423-BF97-4744-9F1E-248CA861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3249-3979-4A1E-949A-9744A91C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FC26-F070-4B63-8C75-5BF960E3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B36A2-0B57-4DC9-89D9-3E3C3956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593-D219-4718-89EA-0B002DD2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17DF-D422-4587-A663-1ADEE649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F8E9-EDCF-4D40-94CE-441E5E6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E4E9-1372-4DC9-9845-8C0A01B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AB11-21F5-4BB3-85C0-89D12D9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0FF2-AE3D-4471-BB00-06F96406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B184-F93C-4770-A472-D53B00CE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4517-4BDD-4F5C-918C-BE34FBA4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DD5E-3932-4FFA-A61C-99D6780F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AC1F-71C6-4EEA-9C4A-7163A8D7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0901-7480-42F4-8E01-2763B8E1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0D8-1496-4B21-B607-3CCB2EFC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76BA1-9601-405A-A01A-223EF237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F000-4634-4C7F-A48F-F38BD0E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5AD6F-B66C-4681-BEB1-4DF051A2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4369-83CF-4799-A645-052C7792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F781-7399-4ADD-9105-9CCCE64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3246-BDBD-4628-B0E3-9CDEAF33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CCBB-0C92-4368-B4CF-4B8DD1D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0FB7-154E-40E6-856C-77E13A42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83CC-CCA0-4AA0-95AB-0A43CEDF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FB1-DF7B-4875-9952-8EBD4EDB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6DB-9DC0-461F-A427-E515A595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9F1-9723-463B-A426-13DDE9F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56E-4C41-458C-97D8-A662DC7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415-1AE1-493D-8D7F-FAE34B6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2D63-2A52-4A27-8E2F-1552AFE2410D}" type="slidenum"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21F6-E6BB-49FD-B044-C3675BB91F56}" type="slidenum"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3693-C22F-4CBF-BBEC-9EB0D972FE4C}" type="slidenum"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087-4F39-4FB8-8BD7-969CB2567709}" type="slidenum"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74040" cy="2846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286160"/>
            <a:ext cx="7854840" cy="695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Eka Praja Wiyata Mandala, S.Ko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530280" y="3054240"/>
            <a:ext cx="8302680" cy="1157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928840" y="6357960"/>
            <a:ext cx="2459160" cy="357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ubtitle 2"/>
          <p:cNvSpPr/>
          <p:nvPr/>
        </p:nvSpPr>
        <p:spPr>
          <a:xfrm>
            <a:off x="5929200" y="635796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800" spc="-1" strike="noStrike" u="sng">
                <a:solidFill>
                  <a:srgbClr val="000000"/>
                </a:solidFill>
                <a:uFillTx/>
                <a:latin typeface="Constantia"/>
              </a:rPr>
              <a:t>Fungs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entuk Um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tipe_keluaran_fungsi   nama_fungsi  (deklarasi_argume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tubuh_fungsi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Keteranga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Constantia"/>
              </a:rPr>
              <a:t>tipe_keluaran_fungsi :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dapat berupa salah satu tipe data C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char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tau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int,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defaultnya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i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Constantia"/>
              </a:rPr>
              <a:t>nama_fungsi :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isi deklarasi variabel atau statemen-statemen yang akan melakukan tugas yang diberikan pada fungsi yang bersangkut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ubtitle 2"/>
          <p:cNvSpPr/>
          <p:nvPr/>
        </p:nvSpPr>
        <p:spPr>
          <a:xfrm>
            <a:off x="5929200" y="635796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6" descr="C:\Users\EKA PRAJA W M\Pictures\Screenshot\screenshot.22.jpeg"/>
          <p:cNvPicPr/>
          <p:nvPr/>
        </p:nvPicPr>
        <p:blipFill>
          <a:blip r:embed="rId1"/>
          <a:stretch/>
        </p:blipFill>
        <p:spPr>
          <a:xfrm>
            <a:off x="571680" y="1928880"/>
            <a:ext cx="44290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btitle 2"/>
          <p:cNvSpPr/>
          <p:nvPr/>
        </p:nvSpPr>
        <p:spPr>
          <a:xfrm>
            <a:off x="5929200" y="635796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EKA PRAJA W M\Pictures\Screenshot\screenshot.23.jpeg"/>
          <p:cNvPicPr/>
          <p:nvPr/>
        </p:nvPicPr>
        <p:blipFill>
          <a:blip r:embed="rId1"/>
          <a:stretch/>
        </p:blipFill>
        <p:spPr>
          <a:xfrm>
            <a:off x="571680" y="1857240"/>
            <a:ext cx="435744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ubtitle 2"/>
          <p:cNvSpPr/>
          <p:nvPr/>
        </p:nvSpPr>
        <p:spPr>
          <a:xfrm>
            <a:off x="5929200" y="635796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Users\EKA PRAJA W M\Pictures\Screenshot\screenshot.24.jpeg"/>
          <p:cNvPicPr/>
          <p:nvPr/>
        </p:nvPicPr>
        <p:blipFill>
          <a:blip r:embed="rId1"/>
          <a:stretch/>
        </p:blipFill>
        <p:spPr>
          <a:xfrm>
            <a:off x="571680" y="1857240"/>
            <a:ext cx="2857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EKA PRAJA W M\Pictures\Screenshot\screenshot.25.jpeg"/>
          <p:cNvPicPr/>
          <p:nvPr/>
        </p:nvPicPr>
        <p:blipFill>
          <a:blip r:embed="rId1"/>
          <a:stretch/>
        </p:blipFill>
        <p:spPr>
          <a:xfrm>
            <a:off x="500040" y="1785960"/>
            <a:ext cx="6627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Users\EKA PRAJA W M\Pictures\Screenshot\screenshot.26.jpeg"/>
          <p:cNvPicPr/>
          <p:nvPr/>
        </p:nvPicPr>
        <p:blipFill>
          <a:blip r:embed="rId1"/>
          <a:stretch/>
        </p:blipFill>
        <p:spPr>
          <a:xfrm>
            <a:off x="500040" y="1785960"/>
            <a:ext cx="4656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eof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4617b"/>
                </a:solidFill>
                <a:latin typeface="Constantia"/>
              </a:rPr>
              <a:t>Terima Kasih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3:45:53Z</dcterms:created>
  <dc:creator>EKA PRAJA W M</dc:creator>
  <dc:description/>
  <dc:language>en-US</dc:language>
  <cp:lastModifiedBy>Eka Praja Wiyata M</cp:lastModifiedBy>
  <dcterms:modified xsi:type="dcterms:W3CDTF">2010-12-13T01:08:47Z</dcterms:modified>
  <cp:revision>58</cp:revision>
  <dc:subject/>
  <dc:title>Bahasa Pemrograman I  (Bahasa C)</dc:title>
</cp:coreProperties>
</file>