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3159-CB4E-4F78-8D17-9859A2651D23}" type="slidenum">
              <a:rPr b="0" lang="id-ID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3D44-2817-4992-8452-D6564E34E844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D643-16A2-44B9-BF42-E2376392568D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D8C1-915B-49D6-BB8D-42D3198C2D01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EAC3-041E-4684-991D-10A1DF6B2B8F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B61D-AC52-4DA6-9DAE-D12D6CCBA825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55D6-6151-450D-81A7-DF56E10DA7E2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0873-CA19-4E15-B963-AFE57673412C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B03A-7C71-4840-A8A0-3599740E7793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CCDE-DB6C-4759-A292-F9645D846195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381B-C3D6-47D5-A0C3-24B313B9D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316C-F96F-4E0A-B7DA-863B70C9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A897-E04B-4660-A28A-0D39F6087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C7A1-FF80-4E89-86D1-E7233F610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7F4E-D6E0-4F79-9DC7-A1E004133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D5DD-331F-41F2-BDC8-61EB9027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9982-3CD5-4897-9300-66A27322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BB4D-250D-472F-AF7D-8B5761F3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B83A-28F1-4BD5-8874-ADFBDEE9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C34D-0C46-4BC7-9A29-D88E6836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B7C8-35D9-402B-8D35-9B598516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037D-B478-414B-8398-CCED8D06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9F0B-466D-4A5B-88D5-20741B19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53FB-2D92-4063-9398-28C2B30E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CFCA-0D43-4385-8CBC-7F6A5F10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D70A-67E8-4FFF-9C2D-9786AE6DD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BD60-BD91-4C88-9997-9D0B7BE4A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FAA53-4AF9-468A-8A6A-4757FADEA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D78E2-1D62-41D3-9E1F-FC478C61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7CE4A-28E3-4C26-AA0B-F3C89A9F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196CD-413E-4E58-8EC9-4FAB9363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1A9EB-1E52-4804-8AE1-76433097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E8A0-5859-402C-94F6-0BDF7E2C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0297A-4C81-421C-9A20-9C723E15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43705-04C4-4F81-BD92-C1F39727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66D45-7B64-441D-BF73-8E261FD3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B4462-CE8E-414A-8AB6-62E9D089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0C1FA-CAE4-4BE2-BA3F-44326253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5A2CB-D43E-4581-8FAC-D4841BFA7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2F500-4E40-4BBF-AA6C-C98485A8E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C7EF5-5498-4CF9-B769-AC727399B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F1375-72AA-4367-8FA5-538D5BE7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299EF-9FAA-4097-9779-2063FE12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13F5-D4C7-4A9B-BA5E-842F03E0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E91F9-8254-49E2-9773-04498E2A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44577-6BE0-4996-AF91-079A18C9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62DF2-08AE-454F-8539-7F880762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634E8-A526-4CC8-AC5C-1BC7C941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A66FF-09F1-4E87-B011-D97458F1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59B8E-7A44-47BF-968E-50D6F893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C6318-1058-4984-AC1C-CDF97AC2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C07A6-82C6-41BD-8F94-60C47F919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FE984-1029-47CD-86F7-FEA8948E3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5FA2-EE24-4E0C-842A-0C20C44F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8537-B69D-4733-9BBB-8E461AF3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18AB-6B92-442E-81D9-CDA1A0F7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2AA4-1884-4F8D-A1C6-F8B04ED0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C185-FB59-4DA5-9902-921135EA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A24C-6F47-429E-93C8-485B4657C6FD}" type="slidenum">
              <a:rPr b="0" lang="id-ID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4FA7-9F9C-4ACF-A82B-1A961839228F}" type="slidenum">
              <a:rPr b="0" lang="id-ID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CA9C-B45B-4F1B-81B2-67B2A8B2DFBA}" type="slidenum">
              <a:rPr b="0" lang="id-ID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CB3B-71B4-44D2-BBA9-FBBDFE25399C}" type="slidenum">
              <a:rPr b="0" lang="id-ID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474040" cy="28465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4286160"/>
            <a:ext cx="7854840" cy="6955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Constantia"/>
              </a:rPr>
              <a:t>Eka Praja Wiyata Mandala, S.Ko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530280" y="3054240"/>
            <a:ext cx="8302680" cy="11574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5928840" y="6357960"/>
            <a:ext cx="2459160" cy="357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Constantia"/>
              </a:rPr>
              <a:t>Eka Praja Wiyata Mandala, S.Kom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ubtitle 2"/>
          <p:cNvSpPr/>
          <p:nvPr/>
        </p:nvSpPr>
        <p:spPr>
          <a:xfrm>
            <a:off x="5929200" y="6357960"/>
            <a:ext cx="27860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617b"/>
                </a:solidFill>
                <a:latin typeface="Constantia"/>
              </a:rPr>
              <a:t>Eka Praja Wiyata Mandala, S.K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760" y="9288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2800" spc="-1" strike="noStrike" u="sng">
                <a:solidFill>
                  <a:srgbClr val="000000"/>
                </a:solidFill>
                <a:uFillTx/>
                <a:latin typeface="Constantia"/>
              </a:rPr>
              <a:t>Fungs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Bentuk Umum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onstantia"/>
              </a:rPr>
              <a:t>tipe_keluaran_fungsi   nama_fungsi  (deklarasi_argumen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onstantia"/>
              </a:rPr>
              <a:t>tubuh_fungsi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Keterangan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200" spc="-1" strike="noStrike">
                <a:solidFill>
                  <a:srgbClr val="000000"/>
                </a:solidFill>
                <a:latin typeface="Constantia"/>
              </a:rPr>
              <a:t>tipe_keluaran_fungsi :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dapat berupa salah satu tipe data C, </a:t>
            </a:r>
            <a:r>
              <a:rPr b="0" i="1" lang="id-ID" sz="2200" spc="-1" strike="noStrike">
                <a:solidFill>
                  <a:srgbClr val="000000"/>
                </a:solidFill>
                <a:latin typeface="Constantia"/>
              </a:rPr>
              <a:t>char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atau </a:t>
            </a:r>
            <a:r>
              <a:rPr b="0" i="1" lang="id-ID" sz="2200" spc="-1" strike="noStrike">
                <a:solidFill>
                  <a:srgbClr val="000000"/>
                </a:solidFill>
                <a:latin typeface="Constantia"/>
              </a:rPr>
              <a:t>int,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defaultnya </a:t>
            </a:r>
            <a:r>
              <a:rPr b="0" i="1" lang="id-ID" sz="2200" spc="-1" strike="noStrike">
                <a:solidFill>
                  <a:srgbClr val="000000"/>
                </a:solidFill>
                <a:latin typeface="Constantia"/>
              </a:rPr>
              <a:t>int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200" spc="-1" strike="noStrike">
                <a:solidFill>
                  <a:srgbClr val="000000"/>
                </a:solidFill>
                <a:latin typeface="Constantia"/>
              </a:rPr>
              <a:t>nama_fungsi :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berisi deklarasi variabel atau statemen-statemen yang akan melakukan tugas yang diberikan pada fungsi yang bersangkuta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ubtitle 2"/>
          <p:cNvSpPr/>
          <p:nvPr/>
        </p:nvSpPr>
        <p:spPr>
          <a:xfrm>
            <a:off x="5929200" y="6357960"/>
            <a:ext cx="27860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617b"/>
                </a:solidFill>
                <a:latin typeface="Constantia"/>
              </a:rPr>
              <a:t>Eka Praja Wiyata Mandala, S.K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28760" y="9288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Bahan Praktikum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2000" spc="-1" strike="noStrike">
                <a:solidFill>
                  <a:srgbClr val="000000"/>
                </a:solidFill>
                <a:latin typeface="Constantia"/>
              </a:rPr>
              <a:t>Fungs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6" descr="C:\Users\EKA PRAJA W M\Pictures\Screenshot\screenshot.22.jpeg"/>
          <p:cNvPicPr/>
          <p:nvPr/>
        </p:nvPicPr>
        <p:blipFill>
          <a:blip r:embed="rId1"/>
          <a:stretch/>
        </p:blipFill>
        <p:spPr>
          <a:xfrm>
            <a:off x="571680" y="1928880"/>
            <a:ext cx="442908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ubtitle 2"/>
          <p:cNvSpPr/>
          <p:nvPr/>
        </p:nvSpPr>
        <p:spPr>
          <a:xfrm>
            <a:off x="5929200" y="6357960"/>
            <a:ext cx="27860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617b"/>
                </a:solidFill>
                <a:latin typeface="Constantia"/>
              </a:rPr>
              <a:t>Eka Praja Wiyata Mandala, S.K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28760" y="9288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Bahan Praktikum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2000" spc="-1" strike="noStrike">
                <a:solidFill>
                  <a:srgbClr val="000000"/>
                </a:solidFill>
                <a:latin typeface="Constantia"/>
              </a:rPr>
              <a:t>Fungs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2" descr="C:\Users\EKA PRAJA W M\Pictures\Screenshot\screenshot.23.jpeg"/>
          <p:cNvPicPr/>
          <p:nvPr/>
        </p:nvPicPr>
        <p:blipFill>
          <a:blip r:embed="rId1"/>
          <a:stretch/>
        </p:blipFill>
        <p:spPr>
          <a:xfrm>
            <a:off x="571680" y="1857240"/>
            <a:ext cx="4357440" cy="34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ubtitle 2"/>
          <p:cNvSpPr/>
          <p:nvPr/>
        </p:nvSpPr>
        <p:spPr>
          <a:xfrm>
            <a:off x="5929200" y="6357960"/>
            <a:ext cx="27860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617b"/>
                </a:solidFill>
                <a:latin typeface="Constantia"/>
              </a:rPr>
              <a:t>Eka Praja Wiyata Mandala, S.K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28760" y="9288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Bahan Praktikum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2000" spc="-1" strike="noStrike">
                <a:solidFill>
                  <a:srgbClr val="000000"/>
                </a:solidFill>
                <a:latin typeface="Constantia"/>
              </a:rPr>
              <a:t>Fungs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2" descr="C:\Users\EKA PRAJA W M\Pictures\Screenshot\screenshot.24.jpeg"/>
          <p:cNvPicPr/>
          <p:nvPr/>
        </p:nvPicPr>
        <p:blipFill>
          <a:blip r:embed="rId1"/>
          <a:stretch/>
        </p:blipFill>
        <p:spPr>
          <a:xfrm>
            <a:off x="571680" y="1857240"/>
            <a:ext cx="285732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28760" y="9288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Bahan Praktikum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2000" spc="-1" strike="noStrike">
                <a:solidFill>
                  <a:srgbClr val="000000"/>
                </a:solidFill>
                <a:latin typeface="Constantia"/>
              </a:rPr>
              <a:t>Fungs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2" descr="C:\Users\EKA PRAJA W M\Pictures\Screenshot\screenshot.25.jpeg"/>
          <p:cNvPicPr/>
          <p:nvPr/>
        </p:nvPicPr>
        <p:blipFill>
          <a:blip r:embed="rId1"/>
          <a:stretch/>
        </p:blipFill>
        <p:spPr>
          <a:xfrm>
            <a:off x="500040" y="1785960"/>
            <a:ext cx="66279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28760" y="9288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Bahan Praktikum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2000" spc="-1" strike="noStrike">
                <a:solidFill>
                  <a:srgbClr val="000000"/>
                </a:solidFill>
                <a:latin typeface="Constantia"/>
              </a:rPr>
              <a:t>Fungs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C:\Users\EKA PRAJA W M\Pictures\Screenshot\screenshot.26.jpeg"/>
          <p:cNvPicPr/>
          <p:nvPr/>
        </p:nvPicPr>
        <p:blipFill>
          <a:blip r:embed="rId1"/>
          <a:stretch/>
        </p:blipFill>
        <p:spPr>
          <a:xfrm>
            <a:off x="500040" y="1785960"/>
            <a:ext cx="46562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000" spc="-1" strike="noStrike">
                <a:solidFill>
                  <a:srgbClr val="04617b"/>
                </a:solidFill>
                <a:latin typeface="Calibri"/>
              </a:rPr>
              <a:t>eof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04617b"/>
                </a:solidFill>
                <a:latin typeface="Constantia"/>
              </a:rPr>
              <a:t>Eka Praja Wiyata Mandala, S.Kom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4617b"/>
                </a:solidFill>
                <a:latin typeface="Constantia"/>
              </a:rPr>
              <a:t>Terima Kasih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3:45:53Z</dcterms:created>
  <dc:creator>EKA PRAJA W M</dc:creator>
  <dc:description/>
  <dc:language>en-US</dc:language>
  <cp:lastModifiedBy>Eka Praja Wiyata M</cp:lastModifiedBy>
  <dcterms:modified xsi:type="dcterms:W3CDTF">2010-12-13T01:08:47Z</dcterms:modified>
  <cp:revision>58</cp:revision>
  <dc:subject/>
  <dc:title>Bahasa Pemrograman I  (Bahasa C)</dc:title>
</cp:coreProperties>
</file>