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F5A-E83C-47D6-AAF8-303735C8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2B0-B175-4CB2-8805-F9E09B7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847-D04C-4F6B-B68F-441242D3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09B-61BB-4E5F-B145-A406A2A3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C86A-18FB-42E0-836F-BC461A11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0DC3-5ACE-4F2B-AC44-7CD7DBAC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DFD-2C1A-4EDC-8D40-787C708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B1AA-5EBD-431B-BE3C-97DC859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F00A-3E99-479C-B3FE-E6D7F250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D9D5-C648-4DEA-BC70-F75CE9A3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957F-5F2E-42EA-A4C5-25A0271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8A9-3152-4775-968B-5CA079C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5322-B8C7-4E0B-8C5E-5C5DACB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FEE4-3936-422F-A994-510EF02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041-6F9D-4071-8571-449E6DFC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6A0B-CCDA-4B85-8F19-A263301C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0594-347B-402B-A9BA-47A0E3C2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6C11-CB5B-435A-9F1A-EF4295FD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751E-6DC8-4689-BC55-CDBD39E8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3861-714D-4F32-ABD4-AB5410C9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6C8B-03D4-44DD-B123-17723F57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30E2-EDDB-4D04-9EA3-7A64795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EC0-4027-4C0C-B403-44C3A9A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A2E0-3767-4C4F-B5A5-FA62D0AB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1F7C-A493-48A2-96D3-EC737842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CF96-D693-4639-BFD2-10DBD69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6C4B-3974-401F-B156-F7C68D0B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6925-37A5-4533-9A08-04A0288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B242-E03C-4678-A672-55AF60A7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8437-FE35-4097-B1E3-AC94A9D3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B2239-FA0E-40BE-97E0-38765EA9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C00E6-5EE7-4FC1-8018-0916A97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6A28-863F-4C2E-935C-2159B8B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D70-9937-487E-B48C-A159E823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1028-4E10-4B52-9E6E-FBC4233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B23D-0321-49D3-A089-D1FC03E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5053-8793-4A56-AEBF-A89FBEEE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7B98-AA5D-4339-846A-27E9398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902D-9C17-49B4-AD3F-575B3F3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1CDC-A1DC-4BE6-967A-7BB3409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9582-8747-4416-B4BC-8C7079D9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8EE5-F815-458C-B3A5-F298B59D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6F69-F66D-47FC-9008-73170995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386-30B7-4DF4-A04A-B8F1B11F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AA2-9F81-4377-855D-7314B140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99E-39D9-4EC5-99CB-F10ABEA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34A-E882-4086-9F81-DDF78A80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016-8959-47F5-9FB5-35E6280E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4D8D-06C8-4D58-89B0-5F10348BE8D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877C-BDB0-48C6-A508-9BD6BE2202E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8D5F-7BE1-43EB-9F98-06EC37CCBA2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E17-16D6-4167-A8E1-86F7C1E56F7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520" y="2209680"/>
            <a:ext cx="716292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b5395"/>
                </a:solidFill>
                <a:latin typeface="Calibri"/>
              </a:rPr>
              <a:t>SISTEM URINARIA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57864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 Dr. H. Hulda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mbar sirkulasi ginj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4" descr="P6010056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sma Renal PAH = ERPF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fektif Renal Plasma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RPF = 630 ml / meni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atio ekstraksi rata-rata PAH = 0,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PF 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RPF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630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700 ml/meni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atio ekstraksi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0,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ila Hematokrit 45%    = Plasma 55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BF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RP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700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= 1273 ml/meni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sm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0,5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1200 ml/meni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lam keadaan normal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rbaring &amp; TD norma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BF 1200 cc darah/menit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20 – 25% C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al ini diseb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Renal Fractio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ardiac out pu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la berat rata-rata kedua ginjal 300 g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BR rata2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1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c darah/m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0 g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4 ml/mnt/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iran darah ginjal pad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korte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Lebih cepat dibandingk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Medull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arena ; &gt; semua nefron terletak di korte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 pada medul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vasa rekta panja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vikskositas darah na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ktor yang mempengaruhi Aliran darah ginj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yebab2 Vasokonstrik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yebab2 vasodilat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gaturan sendiri (autoreak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Penyebab2 vasokonstrik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Hipoksi--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khemo resep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Cathecolam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Epinefrin &amp; norepinefr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asokonstriksi arteriola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ffe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Penyebab2 vasodilat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Hidralazin (apresoli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bat hipertens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ambah aliran darah ginj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Makanan yang banyak mengandung prote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Prostagland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enambah aliran dara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 korteks, mengurangi di medul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Perdarahan yang banya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Autoregulas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erjadi di korteks ---- kontraksi afferent arteri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ow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ek.Arteri – Tekanan Ve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han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at-zat Vaso akti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7720" y="159984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pinefrin &amp; Norepinenefr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asokonstrik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oprotereno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osis kecil – vasodilat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sodilatasi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blokir propanol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sokonstriks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blokir phentolam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Resept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giotens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giotensin I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asokonstriktor yang ku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lepaskan neurotransmiter simpat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etilcho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Kenaikkan aliran darah ginj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Penambahan pengeluaran kencing dan ekskresi Na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natriuresi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adikinin ----- Asetilcho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36160" y="380880"/>
            <a:ext cx="800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pam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gurangi tahanan pembuluh darah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inj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menambah aliran dara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stagland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ri A dan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Vasodilat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hibisi oleh indometasin &amp; meklofena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ses Pembentukan Ur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ltrasi oleh glomerulu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absorbsi oleh tubulus (proksima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kresi oleh tubulus (dista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ju Filtrasi Glomerulus = GF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ukur dengan clearance inulin (polisakarid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idak di reabsorbsi sama sekali oleh tubulus nefro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M kecil 540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ama seperti kristaloid &amp; air plas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onsentrasi inulin 0,1 gr dalam 100 m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0,125 gr inulin keluar melalui ur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0,125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X 100 ml = 125 ml filfrat glomerulu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0,1                            terbentuk / meni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sma clearance inul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gsi Glomer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1447920"/>
            <a:ext cx="8312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ltrasi berlangsung melalui 3 lapis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Lapisan sel endotel kapi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membrana bas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lapisan epitel kapsul bow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meabilitas membran glomerulus 100 – 1000 x lebih besar dari kapiler bi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M         Permeabili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nulin (polimer fruktosa)   5.000            1,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Protein kecil                    30.000            0,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Albumin                           69.000           0,0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omerular Filtrate                            Zat yang difil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Filtrat Glomerulus)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6781680" y="548640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733920" y="5791320"/>
            <a:ext cx="1447560" cy="304560"/>
          </a:xfrm>
          <a:prstGeom prst="leftArrow">
            <a:avLst>
              <a:gd name="adj1" fmla="val 50000"/>
              <a:gd name="adj2" fmla="val 11882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aksi Filtras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aksi plasma yang merembes melalui membran glomer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arance PA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630 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ju filtrasi glomerulus / mnt (clearance inuli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125 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F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F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12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0,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PF    630                 atau 2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lebih stabil daripada RP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PF ---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hingga FF akan na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kanan Filtrasi, Koef. Filtrasi &amp; GF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= Tek.Filtrasi x kf, kf normal = 12,5 ml/mnt/mm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ta-rata tek.Filtrasi normal = 10 mm 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adi GFR = 12,5 x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 125 ml / m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aktor yang mempengaruhi GF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meabilitas membran filtrasi &amp; luas membran filtrasi (Pf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kanan hidrostatik kapiler glomerulus(P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kanan koloid osmotik plasma (P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kanan hidrostatik di dalam kapsula browman (P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f = Pb – (Po + P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= 75 -  (25 + 10) mm Hg = 40 mm H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adi Pf = 40 mm H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ltrasi Terjadi bil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kanan kapiler glomerulus &gt;  tekanan asmotik plasma dan kapsul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wm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i Ginj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21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atom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troperitoneu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r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150 gr, P = 6 – 7,5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cm tebal 1,5 - 2 ,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injal kiri VT 12 – L 2  Ginjal kanan L 1 – L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ntuk seperti biji kaca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uktur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edua ginjal ---- 2,4 juta nefr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engaruh Aliran Darah ke Glomerulu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7720" y="137124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ingkatan aliran dara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kenaikan plasm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te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ekanan asmotik koloid  plasma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F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af Simpat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Vasokonstriks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F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bahkan hampir no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arat zat yang digunakan untuk mengukur GF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iltrasi sempur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dak disekresi &amp; tidak di reabsorb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dak meracuni tubu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dah diukur kadarnya dalam urin dan plas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dak dimetabolisir tubu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dak ditimbun dalam ginj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a mengukur GF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8960" y="129492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Ux)                             (V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kadar inulin urin  X Volume urin/m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adar inulin dalam pals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Px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s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29 mg/ml  x  1,1 ml /m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g/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8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g /ml . Ml / m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8 ml / m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x . V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----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LEAR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. Px = Ux . 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kresi &amp; Reabsorbsi tub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599840"/>
            <a:ext cx="831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at apapun yang di filtrasi adalah hasil GF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la zat difiltrasi sempurna oleh glomerul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learance inu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la zat x &lt; c inul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reabsorbsi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 &gt; c inul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sekresi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mus  C in (GFR). Px = Ux . V  (Zat yang disekre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ad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FR . Px + Tx = Ux . 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x = zat yang disekresi – yang di reabsorb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inulin (sempurn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PAH (sekresi &gt; reabsorb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ne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Glukosa (sekresi &lt; reabsorb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P6010060"/>
          <p:cNvPicPr/>
          <p:nvPr/>
        </p:nvPicPr>
        <p:blipFill>
          <a:blip r:embed="rId1"/>
          <a:stretch/>
        </p:blipFill>
        <p:spPr>
          <a:xfrm>
            <a:off x="838080" y="304920"/>
            <a:ext cx="7239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007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emuan bar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ungsi Glomerulus &amp;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knik Mikropunk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kropipet pada segmen dari nefr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irannya di selidiki dgn cara mikrokem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ketahui komposisi cairan yang berasal dari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capsula bowm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tubulus proksi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Ansa henle pars ascend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Ansa henle pars descende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Tubulus dist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kroelektrod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komposisi ion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kanisme Reabsorbsi &amp; Sekresi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ubulus proksimal mereabsorbsi prote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inositosis (Fagositosis terhadap caira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36160" y="38088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 zat2 yang melalui tubulu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Transport akti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nsport maksi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Transport pa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 Akt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Reabsorbsi 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ubulus Proksim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rush border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kro vill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zona occlud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mikrovilli melekat pada membran bas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kanal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s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l epit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embran bas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asal kan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apiler tubu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uang interstisi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ack leak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zona occluden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men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Line 8"/>
          <p:cNvSpPr/>
          <p:nvPr/>
        </p:nvSpPr>
        <p:spPr>
          <a:xfrm flipV="1">
            <a:off x="3657600" y="5028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838080"/>
            <a:ext cx="8007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a 2 pompa yang mengeluarkan Na secara akti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Elektrogenic Na pum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on Na keluar bersama Cl pasif ke dalam interstiti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Na+  K+  exchange pum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on Na &amp; K dikeluarkan sama bany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ompa elektrogenic Na di inhibisi oleh Etharinic acid atau dengan menggantikan Cl dengan anion lain yang sukar memasuki tubul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ompa Na+ - K+ di inhubisi oleh quabain dan oleh konsentra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on K yang ren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at lain yang di absorbsi secara aktif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Glukos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Asam amin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ion C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- Ion K  - ion fosf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ion urat       - ion Cl   - Creatinin  - Sulfat  -Asam askorba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keton bod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36160" y="304920"/>
            <a:ext cx="8007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kresi aktif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H       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K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                     Arah berlawan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Urat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 Pasif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sorbsi pasif urea / zat2 lain yang tidak akt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ara difu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usi yang disebabkan muatan listrik berbe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usi dan osmose air melalui membran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kresi pasif dengan cara difu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●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sorbsi pasif urea &amp; zat2 l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waktu air direabsorbsi dengan peristiwa osmosis, konsentrasi urea di tubul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erbedaan konsentrasi tubulus dengan cairan peritubul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fu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3429000" y="11430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36160" y="228600"/>
            <a:ext cx="8007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cepatan reabsorbs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ergantung 2 fakto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Air yang direabsorb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Permeabilitas zat terlarut terhadap membran tubul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meabilitas urea &lt; ai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50% melalui u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reatinin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ulin      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itol    )   Nol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100% lewat uri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krosa  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usi --- perbedaan muatan listri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sorbsi N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imbul muatan negatif dal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bulus dibandingkan peritubul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on negatif Cl, fosfat, bikarbonat tertarik dari caira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bulus ke peritubul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usi C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aling besar di tubulus proksimal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36160" y="457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Difusi &amp; Osmose air melalui membran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Air bisa berdifusi di semua bagian dari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Tubulus proksim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sm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Sekresi pasif dengan cara difu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Reabsorbsi Cl, air, ion amonium dan ion 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on amonium berdifusi ke lumen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gatur keas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on K berdifusi ke tubulus distalis dan tubulu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ige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lomer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200 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yaman kapiler ---- bentuk kapsul ---- kantong buntu seperti mangkok (KAPSULA BOWMAN) ---- tubulus ren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Kapsula Bowman berdinding 2 lapis s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Pars visceralis --- dinding pembuluh dara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Pars parietalis --- sebelah lu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ubulus Ren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ubulus kontortus proksim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sa hen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ubulus kontortus dist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BSORBSI SEGMEN TUBULU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380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b.Proksim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Selny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metabolisme tingg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Mitokondria banya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kresi &amp; reabsorb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Brush bord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ransport 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gmen tipis loap of hen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Pori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ermeabilitas bes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mitokondria sedik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metabolisme ren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Transportasi 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gmen tebal loop of henle &amp; epital tubulus distal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tal tebal, sifat fisik keduanya hampir identi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ush border tidak sempur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nsport Na untuk melawan gradien listrik yang tingg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urang permeabel terhadap ai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permeabel terhadap ur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kondria di membran basal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b.kolig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kortek &amp; medull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uri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angat pekat / sangat enc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ngat asam / sangat bas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sifat ekstri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korteks --- impermeabel ur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medulla --- cukup permeabel ureum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→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mekatan u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ADH darah --- tub.koligentes menjadi sangat permeabel terhadap air ---- di reabsorbsi --- masuk darah ---- urin keluar &gt; bany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olume cairan total yang mengalir di tubulus tiap menit (istirahat normal)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l / m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ltrat glomerul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12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iran ke dalam Loof of henl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4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iran ke dalam tubulus distal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2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iran ke dalam ductus koligent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iran ke dalam ur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007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entasi air dalam tiap segmen tub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ubulus proksim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of of hen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ubulus distali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1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ktus koligen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9,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galir dlm ur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0,7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sa merubah tergantung pada pekat / cair encer ur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sorbsi Zat Besi    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ukosa                 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                     )                  di reabsorbsi hamp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am amino            )                  seluruhnya shg di loo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                    )                  of henle tdk ada zat in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aseto asetat      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 direabsorbsi melalui brush border dengan car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inosit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276720" y="41911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bsorbsi produksi akhir metabolis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Urea 50 % direabsorbs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Kreatinin tidak di reabsorbsi di dalam tubulus, disekresi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 dalam tubulus ---- meningkat 20 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on urat di reabsorbsi &gt; dari urea --- 86%, sbgn lewat ur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Sulfat, fosfat &amp; urat ---- diangkut bersama dgn ur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---- direabsorbsi &lt; dari 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 ion Na, Cl, Bikarbonat, kaliu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Positi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nsport aktif 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 tubulus distalis sebalikny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  Ion negati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nsport pasif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kalium disekresi secara aktif (Tub.distal dan koligent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Hidrogen sekresi aktif di tubulus proksimal, tubulus distalis dan tubulus koligens (diatur oleh ion H ekstras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on bikarbonat direabsorbsi dalam bentuk CO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angat larut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lam lemak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136160" y="304560"/>
            <a:ext cx="8007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bang Ginjal dan Transpor Maksimu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onsentrasi ambang glukosa 180 mg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nsport maksimum zat yang direabsorbsi (dalam mg/menit)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ukos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3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sfa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0,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am amin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1,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 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1,7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a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1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lfa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0,0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 maksimum zat yang disekresi (dalam mg/meni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reatin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1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odrast (Yodiu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enol R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5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62120" y="228240"/>
            <a:ext cx="8007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kanisme Pemekatan dan Pengenceran Ur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Kelebihan Cairan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urin enc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Kekurangan Cairan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urin pek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emampuan Ginj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gubah konsentrasi osmolal urin yang  terbentu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gubah volume maupun jumlah zat terlarut yang diekskresi tiap har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gubah kecepatan ekskresi urea, ion Na dan ion K, demikian pula ion H, Cl,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sekaligus mengatur keseimbangan asam basa cairan ekstraselul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36160" y="228600"/>
            <a:ext cx="8007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mbentukan Urin E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Terjadi karena cairan dibiarkan tidak berubah sampai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lvis ren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Konsentrasi NaCl menurun, permeabilitas terhadap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ir meningkat (pada loop of Henle bagian ascende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mbentukan Urin Ken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Kebalikan dia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AD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kskresi Ure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 Faktor utama yang menentukan ekskresi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Konsentrasi ureum dalam plas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Laju filtrasi glomerul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eum dibentuk tubuh 25-30 gr/hari, keluar di urin 26 mg/100 ml. Abnormal sampai 800 mg/100 ml, pada insufisiensi ginjal 200 mg/100 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61560" y="595440"/>
            <a:ext cx="8007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kskresi 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ldosteron meningka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emua Na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lam cairan tubulus diabsorbsi d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gian dalam tubulus distal da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ligent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Na di urin tidak 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ldosteron menuru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sebalikny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kskresi Kali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ldosteron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merangsang transport 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Nilai normal 4-5 mEq/li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8 mEq/lite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aritmia jantu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Lebih tinggi lagi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“Cardiac Standstil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BEACH_WAVE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6"/>
          <p:cNvSpPr txBox="1"/>
          <p:nvPr/>
        </p:nvSpPr>
        <p:spPr>
          <a:xfrm>
            <a:off x="380880" y="152388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lamat Belaj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ambar Anatomi Sistem Urinar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P6010055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3616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berapa nefron bermuara ke tubulus kolektivus dan bersatu dengan duktus kolektivus, bermuara ke duktus papilaris dr bellini, bermuara ke kaliks renalis pada papilla ren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16" descr="P6010057"/>
          <p:cNvPicPr/>
          <p:nvPr/>
        </p:nvPicPr>
        <p:blipFill>
          <a:blip r:embed="rId1"/>
          <a:stretch/>
        </p:blipFill>
        <p:spPr>
          <a:xfrm>
            <a:off x="1066680" y="1981080"/>
            <a:ext cx="7772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23520" y="1142640"/>
            <a:ext cx="7016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ubulus Proksimal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Epitel kubo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Pars konvula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Pars rek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Brust bord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sa Henle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Medull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rs descende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Kortek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rs ascende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sel pipi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Tubulus Distal   ● brust border (-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sel epitel renda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FUNGSI Ginj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7720" y="13712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mum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gatur volume cairan badan, tekanan osmotik dan keseimbangan elektrol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gatur keseimbangan asam b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geluaran zat-zat tidak berguna urea, asam ur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yimpanan substansi tenaga yang menguntungkan ; Glukosa &amp; asam ami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oksifik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gsi endokrin; eritropoetin &amp; ren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tama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gekskresi hasil / sisa metabolis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gatur kadar komponen cairan tubu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nin--- sel aparatus juxtaglomerular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da saat ischemia ginj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Perdarah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Vasokonstriksi renal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Transplantasi ginj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capsulated ginj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ervasi ginjal di halang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giotensinogen                        Angiotensin 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plasma protein)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prarenal                            Angiotensin  II (Vasokonstriktor 4-8 x adrenali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Glukokortik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- Menaikkan tekanan dar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Aldoste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Nama lain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Menaikkan sekresi ion 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Angioton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Menurunkan ion 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- Hipertens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4267080" y="34290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1981080" y="42670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362320" y="304812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RKULASI GINJ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4475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iran Dar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lam keadaan istirahat pada orang normal dewasa ginjal mendapat 1,2 – 1,3 liter darah/menit (25% cardiac out pu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Diukur dengan flow meter ---&gt; metode pick atau metode CLEAR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nal Blood Flow (RB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cepatan aliran darah melalui ginj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gukuran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Secara langsung : Elektromagnetik Flow me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Secara tidak langsung : Clear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nu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PAH (Para Amino Hipura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Kreatin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6:10:03Z</dcterms:created>
  <dc:creator>Axioo</dc:creator>
  <dc:description/>
  <dc:language>en-US</dc:language>
  <cp:lastModifiedBy>User</cp:lastModifiedBy>
  <dcterms:modified xsi:type="dcterms:W3CDTF">2011-05-01T11:51:02Z</dcterms:modified>
  <cp:revision>43</cp:revision>
  <dc:subject/>
  <dc:title>SISTEM URINARIA</dc:title>
</cp:coreProperties>
</file>