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Jingle_Bell_Rock_-_Gary_Hoey%5B1%5D.wav" ContentType="audio/x-wav"/>
  <Override PartName="/ppt/media/Silent_Night_-_Brady_Kids.wav" ContentType="audio/x-wav"/>
  <Override PartName="/ppt/media/image8.png" ContentType="image/png"/>
  <Override PartName="/ppt/media/image7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13.gif" ContentType="image/gif"/>
  <Override PartName="/ppt/media/image12.png" ContentType="image/png"/>
  <Override PartName="/ppt/media/image11.png" ContentType="image/png"/>
  <Override PartName="/ppt/media/image6.png" ContentType="image/png"/>
  <Override PartName="/ppt/media/evillaff.wav" ContentType="audio/x-wav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C28-A521-4D9D-B995-44203122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2C7-5E90-40ED-B20B-4C32227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BEE-5475-4B8E-AFE0-A3FCEA08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2F0-24D0-469F-829E-036061F6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2BC-9391-408E-8D4E-C7884BA5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834-22D2-4F20-94D2-6B37639E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D99-C6E8-41AA-9333-DB302DB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085-5A42-4A48-9191-F94A7FD1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223-CDCB-4A86-AFA7-40E7E38E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93E-5318-40C7-94E6-8408F1F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8B2-2DC0-487B-BCE1-37A40CA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32F-4957-487A-9BAB-9DDEE4B8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1B2-5D20-4249-827F-4261C5E6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villaff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ilent_Night_-_Brady_Kid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Jingle_Bell_Rock_-_Gary_Hoey%5B1%5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Lucida Handwriting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Lucida Handwriting"/>
              </a:rPr>
              <a:t>Nu al een leuke kerstkaa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2095560"/>
            <a:ext cx="568944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0920" y="2408400"/>
            <a:ext cx="3774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ei, het wordt toch nog leu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ar…het kan nog b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lik op de lucht…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57200" y="762120"/>
            <a:ext cx="4800600" cy="3200400"/>
          </a:xfrm>
          <a:custGeom>
            <a:avLst/>
            <a:gdLst>
              <a:gd name="textAreaLeft" fmla="*/ 207360 w 4800600"/>
              <a:gd name="textAreaRight" fmla="*/ 4593240 w 480060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2399" h="21600">
                <a:moveTo>
                  <a:pt x="0" y="0"/>
                </a:moveTo>
                <a:lnTo>
                  <a:pt x="32399" y="0"/>
                </a:lnTo>
                <a:lnTo>
                  <a:pt x="32399" y="21600"/>
                </a:lnTo>
                <a:lnTo>
                  <a:pt x="0" y="21600"/>
                </a:lnTo>
                <a:close/>
              </a:path>
              <a:path fill="lightenLess" w="32399" h="21600">
                <a:moveTo>
                  <a:pt x="0" y="0"/>
                </a:moveTo>
                <a:lnTo>
                  <a:pt x="32399" y="0"/>
                </a:lnTo>
                <a:lnTo>
                  <a:pt x="30999" y="1400"/>
                </a:lnTo>
                <a:lnTo>
                  <a:pt x="1400" y="1400"/>
                </a:lnTo>
                <a:close/>
              </a:path>
              <a:path fill="darken" w="32399" h="21600">
                <a:moveTo>
                  <a:pt x="32399" y="0"/>
                </a:moveTo>
                <a:lnTo>
                  <a:pt x="32399" y="21600"/>
                </a:lnTo>
                <a:lnTo>
                  <a:pt x="30999" y="20200"/>
                </a:lnTo>
                <a:lnTo>
                  <a:pt x="30999" y="1400"/>
                </a:lnTo>
                <a:close/>
              </a:path>
              <a:path fill="darkenLess" w="32399" h="21600">
                <a:moveTo>
                  <a:pt x="32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9" y="20200"/>
                </a:lnTo>
                <a:close/>
              </a:path>
              <a:path fill="lighten" w="32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56360" y="148428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, jaa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el beter kan het n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Hoewel…klik nog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op een lekker pilsje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n roep biert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457200" y="685800"/>
            <a:ext cx="4475160" cy="2887560"/>
          </a:xfrm>
          <a:custGeom>
            <a:avLst/>
            <a:gdLst>
              <a:gd name="textAreaLeft" fmla="*/ 186840 w 4475160"/>
              <a:gd name="textAreaRight" fmla="*/ 4288320 w 4475160"/>
              <a:gd name="textAreaTop" fmla="*/ 186840 h 2887560"/>
              <a:gd name="textAreaBottom" fmla="*/ 2700720 h 2887560"/>
            </a:gdLst>
            <a:ahLst/>
            <a:rect l="textAreaLeft" t="textAreaTop" r="textAreaRight" b="textAreaBottom"/>
            <a:pathLst>
              <a:path w="33474" h="21600">
                <a:moveTo>
                  <a:pt x="0" y="0"/>
                </a:moveTo>
                <a:lnTo>
                  <a:pt x="33474" y="0"/>
                </a:lnTo>
                <a:lnTo>
                  <a:pt x="33474" y="21600"/>
                </a:lnTo>
                <a:lnTo>
                  <a:pt x="0" y="21600"/>
                </a:lnTo>
                <a:close/>
              </a:path>
              <a:path fill="lightenLess" w="33474" h="21600">
                <a:moveTo>
                  <a:pt x="0" y="0"/>
                </a:moveTo>
                <a:lnTo>
                  <a:pt x="33474" y="0"/>
                </a:lnTo>
                <a:lnTo>
                  <a:pt x="32074" y="1400"/>
                </a:lnTo>
                <a:lnTo>
                  <a:pt x="1400" y="1400"/>
                </a:lnTo>
                <a:close/>
              </a:path>
              <a:path fill="darken" w="33474" h="21600">
                <a:moveTo>
                  <a:pt x="33474" y="0"/>
                </a:moveTo>
                <a:lnTo>
                  <a:pt x="33474" y="21600"/>
                </a:lnTo>
                <a:lnTo>
                  <a:pt x="32074" y="20200"/>
                </a:lnTo>
                <a:lnTo>
                  <a:pt x="32074" y="1400"/>
                </a:lnTo>
                <a:close/>
              </a:path>
              <a:path fill="darkenLess" w="33474" h="21600">
                <a:moveTo>
                  <a:pt x="33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74" y="20200"/>
                </a:lnTo>
                <a:close/>
              </a:path>
              <a:path fill="lighten" w="33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808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Handwriting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80000" y="4869000"/>
            <a:ext cx="1440000" cy="198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6200000">
            <a:off x="4967280" y="270036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16200000">
            <a:off x="6119640" y="308736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1" name=""/>
          <p:cNvSpPr txBox="1"/>
          <p:nvPr/>
        </p:nvSpPr>
        <p:spPr>
          <a:xfrm rot="16200000">
            <a:off x="5256360" y="2871720"/>
            <a:ext cx="5952960" cy="20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66204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86400" y="365760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eerst op de ster om de boom mooi te make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 geduld voor de muis wer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836640"/>
            <a:ext cx="3851280" cy="1618560"/>
          </a:xfrm>
          <a:prstGeom prst="rect">
            <a:avLst/>
          </a:prstGeom>
          <a:noFill/>
          <a:ln w="9360">
            <a:solidFill>
              <a:srgbClr val="d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Ja,  het is vro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maar ik w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de eerste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Hele fijne kerstd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57680" y="3200400"/>
            <a:ext cx="33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is er al een bee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roeg kerstgevoel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lik op de boom om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chtjes te laten brand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523880" y="3124080"/>
            <a:ext cx="1043280" cy="15242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524240"/>
              <a:gd name="textAreaBottom" fmla="*/ 1456920 h 1524240"/>
            </a:gdLst>
            <a:ahLst/>
            <a:rect l="textAreaLeft" t="textAreaTop" r="textAreaRight" b="textAreaBottom"/>
            <a:pathLst>
              <a:path w="21600" h="31554">
                <a:moveTo>
                  <a:pt x="0" y="0"/>
                </a:moveTo>
                <a:lnTo>
                  <a:pt x="21600" y="0"/>
                </a:lnTo>
                <a:lnTo>
                  <a:pt x="21600" y="31554"/>
                </a:lnTo>
                <a:lnTo>
                  <a:pt x="0" y="31554"/>
                </a:lnTo>
                <a:close/>
              </a:path>
              <a:path fill="lightenLess" w="21600" h="315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554">
                <a:moveTo>
                  <a:pt x="21600" y="0"/>
                </a:moveTo>
                <a:lnTo>
                  <a:pt x="21600" y="31554"/>
                </a:lnTo>
                <a:lnTo>
                  <a:pt x="20200" y="30154"/>
                </a:lnTo>
                <a:lnTo>
                  <a:pt x="20200" y="1400"/>
                </a:lnTo>
                <a:close/>
              </a:path>
              <a:path fill="darkenLess" w="21600" h="31554">
                <a:moveTo>
                  <a:pt x="21600" y="31554"/>
                </a:moveTo>
                <a:lnTo>
                  <a:pt x="0" y="31554"/>
                </a:lnTo>
                <a:lnTo>
                  <a:pt x="1400" y="30154"/>
                </a:lnTo>
                <a:lnTo>
                  <a:pt x="20200" y="30154"/>
                </a:lnTo>
                <a:close/>
              </a:path>
              <a:path fill="lighten" w="21600" h="31554">
                <a:moveTo>
                  <a:pt x="0" y="315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1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46880" y="2228760"/>
            <a:ext cx="3525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at is heel mooi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nu op de schoors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het wordt lekker war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505320" y="2286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720" y="2479680"/>
            <a:ext cx="38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Jeetje, dat koor is domin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Nou ja, laat ma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Klik op de sneeuw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en dan zet je een hoed op zijn hoof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09480" y="3657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2403360"/>
            <a:ext cx="37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u dat het enige lied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ijn dat het koortje kent?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Pfff,  oké we kunnen het wel even laten sneeuw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Klik op de lucht, laat die vlokjes maar dwarrel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4724280" cy="3581280"/>
          </a:xfrm>
          <a:custGeom>
            <a:avLst/>
            <a:gdLst>
              <a:gd name="textAreaLeft" fmla="*/ 231840 w 4724280"/>
              <a:gd name="textAreaRight" fmla="*/ 4492440 w 4724280"/>
              <a:gd name="textAreaTop" fmla="*/ 231840 h 3581280"/>
              <a:gd name="textAreaBottom" fmla="*/ 3349440 h 3581280"/>
            </a:gdLst>
            <a:ahLst/>
            <a:rect l="textAreaLeft" t="textAreaTop" r="textAreaRight" b="textAreaBottom"/>
            <a:pathLst>
              <a:path w="28493" h="21600">
                <a:moveTo>
                  <a:pt x="0" y="0"/>
                </a:moveTo>
                <a:lnTo>
                  <a:pt x="28493" y="0"/>
                </a:lnTo>
                <a:lnTo>
                  <a:pt x="28493" y="21600"/>
                </a:lnTo>
                <a:lnTo>
                  <a:pt x="0" y="21600"/>
                </a:lnTo>
                <a:close/>
              </a:path>
              <a:path fill="lightenLess" w="28493" h="21600">
                <a:moveTo>
                  <a:pt x="0" y="0"/>
                </a:moveTo>
                <a:lnTo>
                  <a:pt x="28493" y="0"/>
                </a:lnTo>
                <a:lnTo>
                  <a:pt x="27093" y="1400"/>
                </a:lnTo>
                <a:lnTo>
                  <a:pt x="1400" y="1400"/>
                </a:lnTo>
                <a:close/>
              </a:path>
              <a:path fill="darken" w="28493" h="21600">
                <a:moveTo>
                  <a:pt x="28493" y="0"/>
                </a:moveTo>
                <a:lnTo>
                  <a:pt x="28493" y="21600"/>
                </a:lnTo>
                <a:lnTo>
                  <a:pt x="27093" y="20200"/>
                </a:lnTo>
                <a:lnTo>
                  <a:pt x="27093" y="1400"/>
                </a:lnTo>
                <a:close/>
              </a:path>
              <a:path fill="darkenLess" w="28493" h="21600">
                <a:moveTo>
                  <a:pt x="2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93" y="20200"/>
                </a:lnTo>
                <a:close/>
              </a:path>
              <a:path fill="lighten" w="2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1240" y="2563920"/>
            <a:ext cx="35791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k krijg  genoeg van dat ko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 we een ander koort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 voorschijn halen, eent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 andere muzi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rstmuziek komt er n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eg. Klik op het k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1981080" y="5105520"/>
            <a:ext cx="1752840" cy="1042920"/>
          </a:xfrm>
          <a:custGeom>
            <a:avLst/>
            <a:gdLst>
              <a:gd name="textAreaLeft" fmla="*/ 67320 w 1752840"/>
              <a:gd name="textAreaRight" fmla="*/ 1685520 w 17528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6298" h="21600">
                <a:moveTo>
                  <a:pt x="0" y="0"/>
                </a:moveTo>
                <a:lnTo>
                  <a:pt x="36298" y="0"/>
                </a:lnTo>
                <a:lnTo>
                  <a:pt x="36298" y="21600"/>
                </a:lnTo>
                <a:lnTo>
                  <a:pt x="0" y="21600"/>
                </a:lnTo>
                <a:close/>
              </a:path>
              <a:path fill="lightenLess" w="36298" h="21600">
                <a:moveTo>
                  <a:pt x="0" y="0"/>
                </a:moveTo>
                <a:lnTo>
                  <a:pt x="36298" y="0"/>
                </a:lnTo>
                <a:lnTo>
                  <a:pt x="34898" y="1400"/>
                </a:lnTo>
                <a:lnTo>
                  <a:pt x="1400" y="1400"/>
                </a:lnTo>
                <a:close/>
              </a:path>
              <a:path fill="darken" w="36298" h="21600">
                <a:moveTo>
                  <a:pt x="36298" y="0"/>
                </a:moveTo>
                <a:lnTo>
                  <a:pt x="36298" y="21600"/>
                </a:lnTo>
                <a:lnTo>
                  <a:pt x="34898" y="20200"/>
                </a:lnTo>
                <a:lnTo>
                  <a:pt x="34898" y="1400"/>
                </a:lnTo>
                <a:close/>
              </a:path>
              <a:path fill="darkenLess" w="36298" h="21600">
                <a:moveTo>
                  <a:pt x="3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98" y="20200"/>
                </a:lnTo>
                <a:close/>
              </a:path>
              <a:path fill="lighten" w="3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0" y="1440"/>
            <a:ext cx="19368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67320" y="2362320"/>
            <a:ext cx="375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, dat is veel be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ar ik denk dat h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G beter k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g dan met de sneeuwm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daaro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6094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92720" y="2708280"/>
            <a:ext cx="437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, nu gaat het de goede k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ar wat voor nut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 kerstboom nu no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 wij eens wat 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eren en naar een Aj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dstrijd k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op de boom.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1523880" y="2666880"/>
            <a:ext cx="1043280" cy="188136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881360"/>
              <a:gd name="textAreaBottom" fmla="*/ 1814040 h 1881360"/>
            </a:gdLst>
            <a:ahLst/>
            <a:rect l="textAreaLeft" t="textAreaTop" r="textAreaRight" b="textAreaBottom"/>
            <a:pathLst>
              <a:path w="21600" h="38946">
                <a:moveTo>
                  <a:pt x="0" y="0"/>
                </a:moveTo>
                <a:lnTo>
                  <a:pt x="21600" y="0"/>
                </a:lnTo>
                <a:lnTo>
                  <a:pt x="21600" y="38946"/>
                </a:lnTo>
                <a:lnTo>
                  <a:pt x="0" y="38946"/>
                </a:lnTo>
                <a:close/>
              </a:path>
              <a:path fill="lightenLess" w="21600" h="389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946">
                <a:moveTo>
                  <a:pt x="21600" y="0"/>
                </a:moveTo>
                <a:lnTo>
                  <a:pt x="21600" y="38946"/>
                </a:lnTo>
                <a:lnTo>
                  <a:pt x="20200" y="37546"/>
                </a:lnTo>
                <a:lnTo>
                  <a:pt x="20200" y="1400"/>
                </a:lnTo>
                <a:close/>
              </a:path>
              <a:path fill="darkenLess" w="21600" h="38946">
                <a:moveTo>
                  <a:pt x="21600" y="38946"/>
                </a:moveTo>
                <a:lnTo>
                  <a:pt x="0" y="38946"/>
                </a:lnTo>
                <a:lnTo>
                  <a:pt x="1400" y="37546"/>
                </a:lnTo>
                <a:lnTo>
                  <a:pt x="20200" y="37546"/>
                </a:lnTo>
                <a:close/>
              </a:path>
              <a:path fill="lighten" w="21600" h="38946">
                <a:moveTo>
                  <a:pt x="0" y="389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75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5:16:32Z</dcterms:created>
  <dc:creator>Lien Gerritse</dc:creator>
  <dc:description/>
  <dc:language>en-US</dc:language>
  <cp:lastModifiedBy>Smets</cp:lastModifiedBy>
  <dcterms:modified xsi:type="dcterms:W3CDTF">2010-12-16T05:27:37Z</dcterms:modified>
  <cp:revision>10</cp:revision>
  <dc:subject/>
  <dc:title>Dia 1</dc:title>
</cp:coreProperties>
</file>