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Jingle_Bell_Rock_-_Gary_Hoey%5B1%5D.wav" ContentType="audio/x-wav"/>
  <Override PartName="/ppt/media/Silent_Night_-_Brady_Kids.wav" ContentType="audio/x-wav"/>
  <Override PartName="/ppt/media/image8.png" ContentType="image/png"/>
  <Override PartName="/ppt/media/image7.png" ContentType="image/png"/>
  <Override PartName="/ppt/media/image16.gif" ContentType="image/gif"/>
  <Override PartName="/ppt/media/image2.png" ContentType="image/png"/>
  <Override PartName="/ppt/media/image15.gif" ContentType="image/gif"/>
  <Override PartName="/ppt/media/image14.png" ContentType="image/png"/>
  <Override PartName="/ppt/media/image13.gif" ContentType="image/gif"/>
  <Override PartName="/ppt/media/image12.png" ContentType="image/png"/>
  <Override PartName="/ppt/media/image11.png" ContentType="image/png"/>
  <Override PartName="/ppt/media/image6.png" ContentType="image/png"/>
  <Override PartName="/ppt/media/evillaff.wav" ContentType="audio/x-wav"/>
  <Override PartName="/ppt/media/image5.png" ContentType="image/png"/>
  <Override PartName="/ppt/media/image10.png" ContentType="image/png"/>
  <Override PartName="/ppt/media/image4.png" ContentType="image/png"/>
  <Override PartName="/ppt/media/image1.gif" ContentType="image/gi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8E43-D279-49A3-88D3-08491F83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BC95-EBDE-4956-83B5-0D172F08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6E0-1958-44E1-99E4-1721A9E3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092-25F0-4E9F-A455-5EBC42C0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E4B-2CCC-4C61-921E-1904C64B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CDD-8EFA-426E-845D-7145BD9D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7F05-2010-43EB-BE92-5568FCC4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BC1-7FCB-40BA-BAFD-91B50229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1B8-694E-45AF-A2BE-2823CF2D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B41-B488-40DA-A09C-6EC4572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E1AD-5767-4B09-8C52-98E08EE8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B784-5C0B-4E9C-9835-5B5241FE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8341-091E-4503-904B-C02ECD9D1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evillaff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Silent_Night_-_Brady_Kid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Jingle_Bell_Rock_-_Gary_Hoey%5B1%5D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1752480" y="2666880"/>
            <a:ext cx="685800" cy="8146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14680"/>
              <a:gd name="textAreaBottom" fmla="*/ 770400 h 814680"/>
            </a:gdLst>
            <a:ahLst/>
            <a:rect l="textAreaLeft" t="textAreaTop" r="textAreaRight" b="textAreaBottom"/>
            <a:pathLst>
              <a:path w="21600" h="25657">
                <a:moveTo>
                  <a:pt x="0" y="0"/>
                </a:moveTo>
                <a:lnTo>
                  <a:pt x="21600" y="0"/>
                </a:lnTo>
                <a:lnTo>
                  <a:pt x="21600" y="25657"/>
                </a:lnTo>
                <a:lnTo>
                  <a:pt x="0" y="25657"/>
                </a:lnTo>
                <a:close/>
              </a:path>
              <a:path fill="lightenLess" w="21600" h="25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7">
                <a:moveTo>
                  <a:pt x="21600" y="0"/>
                </a:moveTo>
                <a:lnTo>
                  <a:pt x="21600" y="25657"/>
                </a:lnTo>
                <a:lnTo>
                  <a:pt x="20200" y="24257"/>
                </a:lnTo>
                <a:lnTo>
                  <a:pt x="20200" y="1400"/>
                </a:lnTo>
                <a:close/>
              </a:path>
              <a:path fill="darkenLess" w="21600" h="25657">
                <a:moveTo>
                  <a:pt x="21600" y="25657"/>
                </a:moveTo>
                <a:lnTo>
                  <a:pt x="0" y="25657"/>
                </a:lnTo>
                <a:lnTo>
                  <a:pt x="1400" y="24257"/>
                </a:lnTo>
                <a:lnTo>
                  <a:pt x="20200" y="24257"/>
                </a:lnTo>
                <a:close/>
              </a:path>
              <a:path fill="lighten" w="21600" h="25657">
                <a:moveTo>
                  <a:pt x="0" y="25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Lucida Handwriting"/>
              </a:rPr>
              <a:t> </a:t>
            </a:r>
            <a:r>
              <a:rPr b="1" i="1" lang="en-US" sz="4000" spc="-1" strike="noStrike">
                <a:solidFill>
                  <a:srgbClr val="ff3300"/>
                </a:solidFill>
                <a:latin typeface="Lucida Handwriting"/>
              </a:rPr>
              <a:t>Nu al een leuke kerstkaar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2095560"/>
            <a:ext cx="5689440" cy="42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90920" y="2408400"/>
            <a:ext cx="3774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ei, het wordt toch nog leu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ar…het kan nog b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lik op de lucht…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457200" y="762120"/>
            <a:ext cx="4800600" cy="3200400"/>
          </a:xfrm>
          <a:custGeom>
            <a:avLst/>
            <a:gdLst>
              <a:gd name="textAreaLeft" fmla="*/ 207360 w 4800600"/>
              <a:gd name="textAreaRight" fmla="*/ 4593240 w 4800600"/>
              <a:gd name="textAreaTop" fmla="*/ 207360 h 3200400"/>
              <a:gd name="textAreaBottom" fmla="*/ 2993040 h 3200400"/>
            </a:gdLst>
            <a:ahLst/>
            <a:rect l="textAreaLeft" t="textAreaTop" r="textAreaRight" b="textAreaBottom"/>
            <a:pathLst>
              <a:path w="32399" h="21600">
                <a:moveTo>
                  <a:pt x="0" y="0"/>
                </a:moveTo>
                <a:lnTo>
                  <a:pt x="32399" y="0"/>
                </a:lnTo>
                <a:lnTo>
                  <a:pt x="32399" y="21600"/>
                </a:lnTo>
                <a:lnTo>
                  <a:pt x="0" y="21600"/>
                </a:lnTo>
                <a:close/>
              </a:path>
              <a:path fill="lightenLess" w="32399" h="21600">
                <a:moveTo>
                  <a:pt x="0" y="0"/>
                </a:moveTo>
                <a:lnTo>
                  <a:pt x="32399" y="0"/>
                </a:lnTo>
                <a:lnTo>
                  <a:pt x="30999" y="1400"/>
                </a:lnTo>
                <a:lnTo>
                  <a:pt x="1400" y="1400"/>
                </a:lnTo>
                <a:close/>
              </a:path>
              <a:path fill="darken" w="32399" h="21600">
                <a:moveTo>
                  <a:pt x="32399" y="0"/>
                </a:moveTo>
                <a:lnTo>
                  <a:pt x="32399" y="21600"/>
                </a:lnTo>
                <a:lnTo>
                  <a:pt x="30999" y="20200"/>
                </a:lnTo>
                <a:lnTo>
                  <a:pt x="30999" y="1400"/>
                </a:lnTo>
                <a:close/>
              </a:path>
              <a:path fill="darkenLess" w="32399" h="21600">
                <a:moveTo>
                  <a:pt x="32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9" y="20200"/>
                </a:lnTo>
                <a:close/>
              </a:path>
              <a:path fill="lighten" w="32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156360" y="1484280"/>
            <a:ext cx="280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, jaaa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el beter kan het nie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Hoewel…klik nog e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op een lekker pilsje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En roep biert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457200" y="685800"/>
            <a:ext cx="4475160" cy="2887560"/>
          </a:xfrm>
          <a:custGeom>
            <a:avLst/>
            <a:gdLst>
              <a:gd name="textAreaLeft" fmla="*/ 186840 w 4475160"/>
              <a:gd name="textAreaRight" fmla="*/ 4288320 w 4475160"/>
              <a:gd name="textAreaTop" fmla="*/ 186840 h 2887560"/>
              <a:gd name="textAreaBottom" fmla="*/ 2700720 h 2887560"/>
            </a:gdLst>
            <a:ahLst/>
            <a:rect l="textAreaLeft" t="textAreaTop" r="textAreaRight" b="textAreaBottom"/>
            <a:pathLst>
              <a:path w="33474" h="21600">
                <a:moveTo>
                  <a:pt x="0" y="0"/>
                </a:moveTo>
                <a:lnTo>
                  <a:pt x="33474" y="0"/>
                </a:lnTo>
                <a:lnTo>
                  <a:pt x="33474" y="21600"/>
                </a:lnTo>
                <a:lnTo>
                  <a:pt x="0" y="21600"/>
                </a:lnTo>
                <a:close/>
              </a:path>
              <a:path fill="lightenLess" w="33474" h="21600">
                <a:moveTo>
                  <a:pt x="0" y="0"/>
                </a:moveTo>
                <a:lnTo>
                  <a:pt x="33474" y="0"/>
                </a:lnTo>
                <a:lnTo>
                  <a:pt x="32074" y="1400"/>
                </a:lnTo>
                <a:lnTo>
                  <a:pt x="1400" y="1400"/>
                </a:lnTo>
                <a:close/>
              </a:path>
              <a:path fill="darken" w="33474" h="21600">
                <a:moveTo>
                  <a:pt x="33474" y="0"/>
                </a:moveTo>
                <a:lnTo>
                  <a:pt x="33474" y="21600"/>
                </a:lnTo>
                <a:lnTo>
                  <a:pt x="32074" y="20200"/>
                </a:lnTo>
                <a:lnTo>
                  <a:pt x="32074" y="1400"/>
                </a:lnTo>
                <a:close/>
              </a:path>
              <a:path fill="darkenLess" w="33474" h="21600">
                <a:moveTo>
                  <a:pt x="33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074" y="20200"/>
                </a:lnTo>
                <a:close/>
              </a:path>
              <a:path fill="lighten" w="33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646"/>
            </a:gs>
            <a:gs pos="100000">
              <a:srgbClr val="00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38088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Lucida Handwriting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580000" y="4869000"/>
            <a:ext cx="1440000" cy="1989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rot="16200000">
            <a:off x="4967280" y="270036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3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 rot="16200000">
            <a:off x="6119640" y="308736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81" name=""/>
          <p:cNvSpPr txBox="1"/>
          <p:nvPr/>
        </p:nvSpPr>
        <p:spPr>
          <a:xfrm rot="16200000">
            <a:off x="5256360" y="2871720"/>
            <a:ext cx="5952960" cy="200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66204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86400" y="365760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lik eerst op de ster om de boom mooi te maken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n geduld voor de muis wer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1752480" y="2666880"/>
            <a:ext cx="685800" cy="8146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14680"/>
              <a:gd name="textAreaBottom" fmla="*/ 770400 h 814680"/>
            </a:gdLst>
            <a:ahLst/>
            <a:rect l="textAreaLeft" t="textAreaTop" r="textAreaRight" b="textAreaBottom"/>
            <a:pathLst>
              <a:path w="21600" h="25657">
                <a:moveTo>
                  <a:pt x="0" y="0"/>
                </a:moveTo>
                <a:lnTo>
                  <a:pt x="21600" y="0"/>
                </a:lnTo>
                <a:lnTo>
                  <a:pt x="21600" y="25657"/>
                </a:lnTo>
                <a:lnTo>
                  <a:pt x="0" y="25657"/>
                </a:lnTo>
                <a:close/>
              </a:path>
              <a:path fill="lightenLess" w="21600" h="2565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57">
                <a:moveTo>
                  <a:pt x="21600" y="0"/>
                </a:moveTo>
                <a:lnTo>
                  <a:pt x="21600" y="25657"/>
                </a:lnTo>
                <a:lnTo>
                  <a:pt x="20200" y="24257"/>
                </a:lnTo>
                <a:lnTo>
                  <a:pt x="20200" y="1400"/>
                </a:lnTo>
                <a:close/>
              </a:path>
              <a:path fill="darkenLess" w="21600" h="25657">
                <a:moveTo>
                  <a:pt x="21600" y="25657"/>
                </a:moveTo>
                <a:lnTo>
                  <a:pt x="0" y="25657"/>
                </a:lnTo>
                <a:lnTo>
                  <a:pt x="1400" y="24257"/>
                </a:lnTo>
                <a:lnTo>
                  <a:pt x="20200" y="24257"/>
                </a:lnTo>
                <a:close/>
              </a:path>
              <a:path fill="lighten" w="21600" h="25657">
                <a:moveTo>
                  <a:pt x="0" y="25657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5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92720" y="836640"/>
            <a:ext cx="3851280" cy="1618560"/>
          </a:xfrm>
          <a:prstGeom prst="rect">
            <a:avLst/>
          </a:prstGeom>
          <a:noFill/>
          <a:ln w="9360">
            <a:solidFill>
              <a:srgbClr val="d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Handwriting"/>
              </a:rPr>
              <a:t>Ja,  het is vro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Handwriting"/>
              </a:rPr>
              <a:t>maar ik w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Handwriting"/>
              </a:rPr>
              <a:t>de eerste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Lucida Handwriting"/>
              </a:rPr>
              <a:t>Hele fijne kerstda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57680" y="3200400"/>
            <a:ext cx="339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u is er al een bee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roeg kerstgevoel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lik op de boom om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ichtjes te laten brand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1523880" y="3124080"/>
            <a:ext cx="1043280" cy="152424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524240"/>
              <a:gd name="textAreaBottom" fmla="*/ 1456920 h 1524240"/>
            </a:gdLst>
            <a:ahLst/>
            <a:rect l="textAreaLeft" t="textAreaTop" r="textAreaRight" b="textAreaBottom"/>
            <a:pathLst>
              <a:path w="21600" h="31554">
                <a:moveTo>
                  <a:pt x="0" y="0"/>
                </a:moveTo>
                <a:lnTo>
                  <a:pt x="21600" y="0"/>
                </a:lnTo>
                <a:lnTo>
                  <a:pt x="21600" y="31554"/>
                </a:lnTo>
                <a:lnTo>
                  <a:pt x="0" y="31554"/>
                </a:lnTo>
                <a:close/>
              </a:path>
              <a:path fill="lightenLess" w="21600" h="315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554">
                <a:moveTo>
                  <a:pt x="21600" y="0"/>
                </a:moveTo>
                <a:lnTo>
                  <a:pt x="21600" y="31554"/>
                </a:lnTo>
                <a:lnTo>
                  <a:pt x="20200" y="30154"/>
                </a:lnTo>
                <a:lnTo>
                  <a:pt x="20200" y="1400"/>
                </a:lnTo>
                <a:close/>
              </a:path>
              <a:path fill="darkenLess" w="21600" h="31554">
                <a:moveTo>
                  <a:pt x="21600" y="31554"/>
                </a:moveTo>
                <a:lnTo>
                  <a:pt x="0" y="31554"/>
                </a:lnTo>
                <a:lnTo>
                  <a:pt x="1400" y="30154"/>
                </a:lnTo>
                <a:lnTo>
                  <a:pt x="20200" y="30154"/>
                </a:lnTo>
                <a:close/>
              </a:path>
              <a:path fill="lighten" w="21600" h="31554">
                <a:moveTo>
                  <a:pt x="0" y="3155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15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546880" y="2228760"/>
            <a:ext cx="3525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at is heel mooi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lik nu op de schoors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het wordt lekker warm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3505320" y="22860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720" y="2479680"/>
            <a:ext cx="38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Jeetje, dat koor is domin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Nou ja, laat ma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Klik op de sneeuw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en dan zet je een hoed op zijn hoof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609480" y="3657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800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64000" y="2403360"/>
            <a:ext cx="378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u dat het enige lied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ijn dat het koortje kent??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Pfff,  oké we kunnen het wel even laten sneeuw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Times New Roman"/>
              </a:rPr>
              <a:t>Klik op de lucht, laat die vlokjes maar dwarrel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533520" y="685800"/>
            <a:ext cx="4724280" cy="3581280"/>
          </a:xfrm>
          <a:custGeom>
            <a:avLst/>
            <a:gdLst>
              <a:gd name="textAreaLeft" fmla="*/ 231840 w 4724280"/>
              <a:gd name="textAreaRight" fmla="*/ 4492440 w 4724280"/>
              <a:gd name="textAreaTop" fmla="*/ 231840 h 3581280"/>
              <a:gd name="textAreaBottom" fmla="*/ 3349440 h 3581280"/>
            </a:gdLst>
            <a:ahLst/>
            <a:rect l="textAreaLeft" t="textAreaTop" r="textAreaRight" b="textAreaBottom"/>
            <a:pathLst>
              <a:path w="28493" h="21600">
                <a:moveTo>
                  <a:pt x="0" y="0"/>
                </a:moveTo>
                <a:lnTo>
                  <a:pt x="28493" y="0"/>
                </a:lnTo>
                <a:lnTo>
                  <a:pt x="28493" y="21600"/>
                </a:lnTo>
                <a:lnTo>
                  <a:pt x="0" y="21600"/>
                </a:lnTo>
                <a:close/>
              </a:path>
              <a:path fill="lightenLess" w="28493" h="21600">
                <a:moveTo>
                  <a:pt x="0" y="0"/>
                </a:moveTo>
                <a:lnTo>
                  <a:pt x="28493" y="0"/>
                </a:lnTo>
                <a:lnTo>
                  <a:pt x="27093" y="1400"/>
                </a:lnTo>
                <a:lnTo>
                  <a:pt x="1400" y="1400"/>
                </a:lnTo>
                <a:close/>
              </a:path>
              <a:path fill="darken" w="28493" h="21600">
                <a:moveTo>
                  <a:pt x="28493" y="0"/>
                </a:moveTo>
                <a:lnTo>
                  <a:pt x="28493" y="21600"/>
                </a:lnTo>
                <a:lnTo>
                  <a:pt x="27093" y="20200"/>
                </a:lnTo>
                <a:lnTo>
                  <a:pt x="27093" y="1400"/>
                </a:lnTo>
                <a:close/>
              </a:path>
              <a:path fill="darkenLess" w="28493" h="21600">
                <a:moveTo>
                  <a:pt x="28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093" y="20200"/>
                </a:lnTo>
                <a:close/>
              </a:path>
              <a:path fill="lighten" w="28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ffff"/>
            </a:gs>
            <a:gs pos="100000">
              <a:srgbClr val="b2b2b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1240" y="2563920"/>
            <a:ext cx="35791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k krijg  genoeg van dat ko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n we een ander koort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 voorschijn halen, eent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 andere muzi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rstmuziek komt er no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eg. Klik op het k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1981080" y="5105520"/>
            <a:ext cx="1752840" cy="1042920"/>
          </a:xfrm>
          <a:custGeom>
            <a:avLst/>
            <a:gdLst>
              <a:gd name="textAreaLeft" fmla="*/ 67320 w 1752840"/>
              <a:gd name="textAreaRight" fmla="*/ 1685520 w 17528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6298" h="21600">
                <a:moveTo>
                  <a:pt x="0" y="0"/>
                </a:moveTo>
                <a:lnTo>
                  <a:pt x="36298" y="0"/>
                </a:lnTo>
                <a:lnTo>
                  <a:pt x="36298" y="21600"/>
                </a:lnTo>
                <a:lnTo>
                  <a:pt x="0" y="21600"/>
                </a:lnTo>
                <a:close/>
              </a:path>
              <a:path fill="lightenLess" w="36298" h="21600">
                <a:moveTo>
                  <a:pt x="0" y="0"/>
                </a:moveTo>
                <a:lnTo>
                  <a:pt x="36298" y="0"/>
                </a:lnTo>
                <a:lnTo>
                  <a:pt x="34898" y="1400"/>
                </a:lnTo>
                <a:lnTo>
                  <a:pt x="1400" y="1400"/>
                </a:lnTo>
                <a:close/>
              </a:path>
              <a:path fill="darken" w="36298" h="21600">
                <a:moveTo>
                  <a:pt x="36298" y="0"/>
                </a:moveTo>
                <a:lnTo>
                  <a:pt x="36298" y="21600"/>
                </a:lnTo>
                <a:lnTo>
                  <a:pt x="34898" y="20200"/>
                </a:lnTo>
                <a:lnTo>
                  <a:pt x="34898" y="1400"/>
                </a:lnTo>
                <a:close/>
              </a:path>
              <a:path fill="darkenLess" w="36298" h="21600">
                <a:moveTo>
                  <a:pt x="362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98" y="20200"/>
                </a:lnTo>
                <a:close/>
              </a:path>
              <a:path fill="lighten" w="362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0" y="1440"/>
            <a:ext cx="193680" cy="71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467320" y="2362320"/>
            <a:ext cx="3753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Zo, dat is veel be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ar ik denk dat h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G beter k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g dan met de sneeuwma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lik daarop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nextslide"/>
          </p:cNvPr>
          <p:cNvSpPr/>
          <p:nvPr/>
        </p:nvSpPr>
        <p:spPr>
          <a:xfrm>
            <a:off x="609480" y="35812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762440" cy="5533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92720" y="2708280"/>
            <a:ext cx="437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, nu gaat het de goede k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ar wat voor nut he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 kerstboom nu no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ten wij eens wat a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eren en naar een Aja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dstrijd kij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lik op de boom.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1523880" y="2666880"/>
            <a:ext cx="1043280" cy="188136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881360"/>
              <a:gd name="textAreaBottom" fmla="*/ 1814040 h 1881360"/>
            </a:gdLst>
            <a:ahLst/>
            <a:rect l="textAreaLeft" t="textAreaTop" r="textAreaRight" b="textAreaBottom"/>
            <a:pathLst>
              <a:path w="21600" h="38946">
                <a:moveTo>
                  <a:pt x="0" y="0"/>
                </a:moveTo>
                <a:lnTo>
                  <a:pt x="21600" y="0"/>
                </a:lnTo>
                <a:lnTo>
                  <a:pt x="21600" y="38946"/>
                </a:lnTo>
                <a:lnTo>
                  <a:pt x="0" y="38946"/>
                </a:lnTo>
                <a:close/>
              </a:path>
              <a:path fill="lightenLess" w="21600" h="389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8946">
                <a:moveTo>
                  <a:pt x="21600" y="0"/>
                </a:moveTo>
                <a:lnTo>
                  <a:pt x="21600" y="38946"/>
                </a:lnTo>
                <a:lnTo>
                  <a:pt x="20200" y="37546"/>
                </a:lnTo>
                <a:lnTo>
                  <a:pt x="20200" y="1400"/>
                </a:lnTo>
                <a:close/>
              </a:path>
              <a:path fill="darkenLess" w="21600" h="38946">
                <a:moveTo>
                  <a:pt x="21600" y="38946"/>
                </a:moveTo>
                <a:lnTo>
                  <a:pt x="0" y="38946"/>
                </a:lnTo>
                <a:lnTo>
                  <a:pt x="1400" y="37546"/>
                </a:lnTo>
                <a:lnTo>
                  <a:pt x="20200" y="37546"/>
                </a:lnTo>
                <a:close/>
              </a:path>
              <a:path fill="lighten" w="21600" h="38946">
                <a:moveTo>
                  <a:pt x="0" y="38946"/>
                </a:moveTo>
                <a:lnTo>
                  <a:pt x="0" y="0"/>
                </a:lnTo>
                <a:lnTo>
                  <a:pt x="1400" y="1400"/>
                </a:lnTo>
                <a:lnTo>
                  <a:pt x="1400" y="3754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5:16:32Z</dcterms:created>
  <dc:creator>Lien Gerritse</dc:creator>
  <dc:description/>
  <dc:language>en-US</dc:language>
  <cp:lastModifiedBy>Smets</cp:lastModifiedBy>
  <dcterms:modified xsi:type="dcterms:W3CDTF">2010-12-16T05:27:37Z</dcterms:modified>
  <cp:revision>10</cp:revision>
  <dc:subject/>
  <dc:title>Dia 1</dc:title>
</cp:coreProperties>
</file>