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8AB-8BC8-44D2-8DF1-51D32F2F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2EDF-21F2-408E-B0BA-F88C74B65E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ACA7-E93E-4198-BDF0-27021B2CEC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26C7-64EA-486D-A1C2-E02E4F1EA5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D45-8F4E-4655-81C9-BABAF27AFF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9A78-B97A-4410-BD43-1AD78DB3FD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11E-6E6A-40B4-81F5-44E3494801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C80B-69C8-42CD-91B5-A47B8AD161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381-425B-4588-9ADB-ACBCE49EAD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3D1-A3E1-4CC8-A83B-452E8B8CA5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CFE-4B01-4454-A680-89A24B8EE5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1ED2-59A1-454F-823D-914833D51A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E58F-5242-4999-94B7-4F573F2F0A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38F9-60D9-4F54-AB0E-943A182E86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13D-E3A5-4C78-ADD9-1B6F16EA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4A5-8CD9-4D9F-8772-F83715F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EDC-D016-4279-8F2E-AD2B5EF2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CC4-49C2-4880-8009-C9A85F3A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2FC-AACC-48B5-8087-B057F3BC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73A-A0F4-4AC3-B1BC-F562105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ECC1-59CE-45AF-A72E-F6E5D42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7B68-4046-4D20-BFEA-45B76671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C50B-237F-4E10-9B0F-6FD00D50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61C5-3A8A-4BF0-AFFA-67CB8E6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C037-5630-48FB-B92B-7D02FB0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71F-9114-49E0-B283-8CBEE69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C2B-7336-4B40-99BF-BF64D66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66C-723C-4014-BF53-BF03F93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A02F-0D1C-411E-BEBB-2E7EE873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54E8-F95E-4B0B-9330-EEF7A75E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8DB-309C-40E4-9293-5CDF147A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2BC-F899-413C-B9BA-8F7AB36F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0AE-D7F5-4F7B-AB26-81AF593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54E-109D-4887-A3C6-2A4C17A8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214-4C70-4061-98BE-666F23AF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381-FEEF-42A3-BE9A-287CEF2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EAE-BC9F-4E96-8F17-7E4C988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9E9-9C38-4027-B3F9-6AEE13C2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TCD November 200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Carolyn Tob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836-38D9-4C80-9FD6-89F4B5E8C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" descr="C:\Users\Administrator\Pictures\TCD Crest.gif"/>
          <p:cNvPicPr/>
          <p:nvPr/>
        </p:nvPicPr>
        <p:blipFill>
          <a:blip r:embed="rId2"/>
          <a:stretch/>
        </p:blipFill>
        <p:spPr>
          <a:xfrm>
            <a:off x="0" y="0"/>
            <a:ext cx="704880" cy="95256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3" descr="C:\Users\Administrator\Pictures\hrb-logo-web4.gif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70" name="Picture 2" descr="C:\Users\Administrator\Pictures\TCD Crest.gif"/>
          <p:cNvPicPr/>
          <p:nvPr/>
        </p:nvPicPr>
        <p:blipFill>
          <a:blip r:embed="rId2"/>
          <a:stretch/>
        </p:blipFill>
        <p:spPr>
          <a:xfrm>
            <a:off x="0" y="0"/>
            <a:ext cx="70488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Administrator\Pictures\hrb-logo-web4.gif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714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TCD November 200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Carolyn Tob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357-2C02-4AFF-970B-75BB456E59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ysicsroom.org.nz/log/arcg.../refugeesubjectivity.h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mj.ie/UserControls/Issue/paper_printout.aspx?pid=1409&amp;type=Conten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43676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ootlight MT Light"/>
              </a:rPr>
              <a:t>The Impact of Language Barriers on informed consent and quality of care</a:t>
            </a:r>
            <a:endParaRPr b="1" lang="en-US" sz="40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arolyn Tobin PhD RN RM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skerville Old Face"/>
              </a:rPr>
              <a:t>Study funded by The Irish Health Research Board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Access to Interpreter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ppeared to be sporadic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ost implication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taff ‘rationed’ servic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 out of hours servic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F4E-2296-4AF4-BF6B-4B68D78154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confidentialit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Restricted access to interpreter service leads to inappropriate reliance on family members , staff members, or friends speaking on a cell phon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Exposes the woman's health issues and undermines confidentiali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616C-BEC5-453E-A90B-896E92D58C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Health Care Provider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Poor communication has been linked to more complex issues of over worked staff &amp; inadequate intercultural training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(Lyons et al 2008)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s can lead to bias and ignorance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Evident in accounts of harsh &amp; inhumane treatment of some women in this study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F97-69DC-4C5F-A5FA-75730C0A41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onclusion: Communication is central to quality of car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mpacts ability to actively participate in their care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ncreases levels of fear and anxiet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mpacts informed consent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Confidentialit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alth Care Providers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8776-E54D-4671-A63B-D4981975F6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Footlight MT Light"/>
              </a:rPr>
              <a:t>Implications for practic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Recognize the centrality of good communication to quality of care  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Need for clear standardized policy for access to properly trained interpreter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Need for support of staff in cultural awareness &amp; sensitivi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Written information  translated into relevant languag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A47C-8D4A-466C-A7F5-215DCDC2C5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17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Bruner, J. (1990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cts of Meaning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Cambridge, MA: Harvard University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Burke, K. (1969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 Grammar of Motiv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Berkeley, Los Angeles: University of California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llister, L. C. (2005). What has the literature taught us about culturally competent care of women and children?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American Journal of Maternal Child Nursing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6), 380-388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llister, L. C. (2006). Making a difference: goals for improving the health of women and children globally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m J Matern Child Nurs, 31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71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stles, S. (2000). International migration at the beginning of the twenty-first century: global trends and issue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 (2000). Global issues in midwifery: mutual accommodation or biomedical hegemony?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Midwifery Toda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, 68-69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Cheyney, M. (2009). Birth and the Big Bad Wolf: An Evolutionary Perspective. In H. Selin &amp; E. Stone (Eds.)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Childbirth Across Cultures: Ideas and Practices of Pregnancy, Childbirth and the Postpartum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pp. 1-22). Amherst, MA: Springer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Johnson, C. B. (Eds.). (2006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Mainstreaming midwives: the politics of chang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Routledge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9D5-1168-44AA-8B4E-0EAF9CEB2A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Sargent, C. F. (Eds.). (1997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Childbirth and Authoritative Knowledge: Cross Cultural Perspectiv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Berkely, CA: University of California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enzin, N. K. (2009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Qualitative Inquiry Under Fire: Towards a New Paradigm Dialagu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Walnet Creek, CA: Left Coast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Ehrenreich, B., &amp; Hochschild, A. R. (Eds.). (2002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Global Woman: Nannies, Maids, and Sex Workers in the New Econom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Owl Book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anning, B., Loyal, S., &amp; Staunton, C. (2000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sylum Seekers and the Right to Work in Irelan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ublin: Irish Refugee Council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anow, M. M., &amp; Cook, J. A. (2005). Feminist Methodology: New Applications in the Academy and Public Policy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Signs: Journal of Women in Culture and Society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211-2236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Gusfield, J. R. (1989). The Bridge over Seperated Lands: Kenneth Burk's Significance for the Study of Social Action. In H. W. Simons &amp; T. Melia (Eds.)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Legacy of Kenneth Burk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pp. 28-54). Madison, WI: The University of Wisconsin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486-5D3C-4EE7-8E9F-871AFF865C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arding, S. (Ed.). (2004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Feminist Standpoint Theory Reader: Intellectual &amp; Political Controversi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Routledge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arding, S., &amp; Norberg, K. (2005). New Feminist Approaches to Social Science Methodologies: An Introduction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Signs: Journal of Women in Culture and Society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009-2015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yland, M. (2001). 'Refugee Subjectivity: "Bare life" and the geographical division of labour'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Physics Room. The Revolution Issu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: Available from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www.physicsroom.org.nz/log/arcg.../refugeesubjectivity.ht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Jordan, B. (1993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Birth in four cultur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4th ed.). Illinois: Waveland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ennedy, P. (2010). Maternity services in Ireland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Health Polic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oi:10.1016/j.healthpol.2010.04.002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ennedy, P., &amp; Murphy-Lawless, J. (2003). The Maternity Care Needs of Refugee and Asylum Seeking Women in Ireland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Feminist Review, 73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, 39-53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PMG. (2008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Independent Review of Maternity &amp; Gynaecology Services in the Greater Dublin Area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ublin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3EE-E9B4-4664-862D-BC43E2B425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rphy-Lawless, J., &amp; Kennedy, P. (2002)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The Maternity Care Needs of Refugee and Asylum Seeking Women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Dublin: Northern Area Health Board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rphy, J. F. A. (2005). Migrants' Rights to Health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Irish Medical Journal, 98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Retrieved from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http://www.imj.ie/UserControls/Issue/paper_printout.aspx?pid=1409&amp;type=Contents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Ottani, P. (2002). When Childbirth Preparation Isn't a Cultural Norm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International Journal of Childbirth Education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Steinberg, S. (1996). Childbearing research: A transcultural review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Social Science and Medicine, 43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(12), 1765-1784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Tussing, A. D., &amp; Wren, M.-A. (2006)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How Ireland Cares: The Case for Health Care Reform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Dublin: New Irela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97D-F172-4CEF-9806-F52359DA21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Aim of Stud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To explore </a:t>
            </a: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the physical, emotional and social experiences of</a:t>
            </a: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 refugee and asylum seeking women during pregnancy and childbirth in Ireland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1DF-4821-44C0-8083-3D466905FC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Background and Significanc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mmigration and asylum in Ireland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rish maternity servic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nternational application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CC0-C692-4D0C-B026-EC48EFA1F6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A qualitative study desig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22 in-depth unstructured interviews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ape recorded and transcribed verbatim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arrative analysis of data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thical approval granted from three agencie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4BE-76C6-42DA-9917-16875C7438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ootlight MT Light"/>
              </a:rPr>
              <a:t>Brief Picture of the Women’s Background</a:t>
            </a:r>
            <a:endParaRPr b="1" lang="en-US" sz="3600" spc="-1" strike="noStrike">
              <a:solidFill>
                <a:srgbClr val="ffff00"/>
              </a:solidFill>
              <a:latin typeface="Footlight MT Ligh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523880"/>
          <a:ext cx="1886040" cy="3708360"/>
        </p:xfrm>
        <a:graphic>
          <a:graphicData uri="http://schemas.openxmlformats.org/drawingml/2006/table">
            <a:tbl>
              <a:tblPr/>
              <a:tblGrid>
                <a:gridCol w="1886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Countrie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Camero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Burun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ierra L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I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Ira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Z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657600" y="1371600"/>
          <a:ext cx="5181480" cy="100656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Age Ran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18 – 40 years.       Average age 3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57600" y="4038480"/>
          <a:ext cx="5181480" cy="1854360"/>
        </p:xfrm>
        <a:graphic>
          <a:graphicData uri="http://schemas.openxmlformats.org/drawingml/2006/table">
            <a:tbl>
              <a:tblPr/>
              <a:tblGrid>
                <a:gridCol w="1440000"/>
                <a:gridCol w="3741480"/>
              </a:tblGrid>
              <a:tr h="56700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Occupa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Housewife; Trader; Banker; Secret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ecurity manager; Clothing designer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6700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Business sales; Receptionist, Nursing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Local government &amp; NGO work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57600" y="2666880"/>
          <a:ext cx="5181480" cy="127980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Educa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Women with little ‘formal’ education to several with post-graduate deg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57600" y="6019920"/>
          <a:ext cx="5181480" cy="74124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Length of time in Irelan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Baskerville Old Face"/>
                          <a:ea typeface="Arial"/>
                        </a:rPr>
                        <a:t>Less than 9 weeks  to  3.5 year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9480" y="5715000"/>
          <a:ext cx="1895760" cy="741240"/>
        </p:xfrm>
        <a:graphic>
          <a:graphicData uri="http://schemas.openxmlformats.org/drawingml/2006/table">
            <a:tbl>
              <a:tblPr/>
              <a:tblGrid>
                <a:gridCol w="1438560"/>
                <a:gridCol w="457200"/>
              </a:tblGrid>
              <a:tr h="469800"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Multipario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2060"/>
                          </a:solidFill>
                          <a:latin typeface="Baskerville Old Face"/>
                          <a:ea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1440"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Primiparo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38" name="Slide Number Placeholder 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A7BA-8AE6-4CB9-A454-2AD61273C2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Language Barriers and Effect on Communication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Language &amp; communication barriers are described as being detrimental to the health and wellbeing of ethnic minority women in a number of British &amp; Irish studies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Raleigh et al (2010,) Briscoe &amp; Lavendar (2009), Lyons et al (2008), Jentsch et al (2007), Ukoko (2005), Murphy Law-less (2003) McLeish(2002)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648A-9BDF-4D16-AABC-F5E9B92BDC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Findings from current stud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arriers to communication were widespread in the women’s accounts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ommunication issues were apparent across all educational levels and fluency in English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most vulnerable were those who spoke no English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62E-E084-47CF-9BAA-E9C5781B5C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7720" y="16765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“ …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he understood nothing when she arrived at the hospital, The doctor he didn’t touch her. He just looked at her files. He didn’t look, she knew she was bleeding …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[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Zita crying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]. She asked was there anyone who spoke French. They just said ‘No’. If she could have talked to somebody maybe somebody would have listened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553-7E94-4C91-B1A6-FB1D9A31AE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informed consen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Poor communication impacts women's ability to participate in their car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Many women in the study expressed heightened levels of fear and anxie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ome women literally did not know what was happening to them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5215-8C23-460E-82B4-F9E7C5A00C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15:37Z</dcterms:created>
  <dc:creator>Owner</dc:creator>
  <dc:description/>
  <dc:language>en-US</dc:language>
  <cp:lastModifiedBy>User</cp:lastModifiedBy>
  <cp:lastPrinted>2010-11-04T12:44:40Z</cp:lastPrinted>
  <dcterms:modified xsi:type="dcterms:W3CDTF">2012-08-03T01:53:39Z</dcterms:modified>
  <cp:revision>160</cp:revision>
  <dc:subject/>
  <dc:title>Childbirth in Exile:  Refugee and Asylum Seeking Women’s Experience of Childbirth in Ire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