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440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D7A9-AEFB-475C-8A0C-032C9D023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E062-6BC5-41C0-B34B-4B7B55723A4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9868-B6BB-43C7-9B21-A9F8B14504A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BE74-FD07-49FD-B737-866855151CD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7373-467F-4836-ABA1-3681BFF02D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040C-A186-488E-A7D6-7E9D02115C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3734-26FE-4978-BB6F-5CCA38F32E5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4031-BEF0-4F69-B39E-B90872F8188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CB35-2E41-4F65-A4A6-F30DC2BE2A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EFC2-EF1E-40C5-9C4B-E152BE02DB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5AE9-AF07-4D2A-B30C-B6743A62F33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571E-4225-49AE-AE9C-F6633418E5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0F2A-046C-4B38-AD84-8541497F62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-93600" y="500040"/>
            <a:ext cx="2168640" cy="1627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09480" y="2169720"/>
            <a:ext cx="5486400" cy="70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630A-2B12-4C75-B324-EC0BDF9C65E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D93-5560-4C8F-9DE6-A51A73DF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07C-E4CE-4440-8CE3-333BB66F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120-727C-41A6-B3BE-06E3633E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71B-9664-453B-803B-84F1A662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BA49-FA7B-418F-A881-7571F45B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DE1D-E154-40EB-86B2-E6C03EC6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0164-8247-430F-80C1-5B6B57D5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6BC2-7F2C-461D-9B39-A03B8755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E50D-75B5-4726-B3DF-3A78E1FC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3F65-42EB-4638-8E52-D5F8BAC0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6589-C8C3-4B5D-84B2-59392BC1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87A-5D76-4E3A-A116-9A094E34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4557-0EDC-476B-8469-E4544ECA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B674-8B49-47B4-854C-4C81FFD8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70D0-B6BE-49B0-A20F-C98CD30A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38B5-AD0A-4AFD-B4BC-9C575E27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F2F7-133D-464E-A60F-347FA828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D257-4888-4932-AED4-2703B5A5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9AA-8E5C-487B-8F1F-4F7B69B9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D3C-2759-4923-A5A7-25D1E723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CF9-D7EF-48CD-86A8-E1AB29CA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E62-3B5E-4C47-965B-B7720065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10E-8234-4359-9505-034AFC9B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8CE6-83D4-4ACC-9E30-0B958033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Times New Roman"/>
              </a:rPr>
              <a:t>TCD November 2007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Times New Roman"/>
              </a:rPr>
              <a:t>Carolyn Tob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4BB0-F84A-4EBD-91B3-001131001B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" name="Picture 2" descr="C:\Users\Administrator\Pictures\TCD Crest.gif"/>
          <p:cNvPicPr/>
          <p:nvPr/>
        </p:nvPicPr>
        <p:blipFill>
          <a:blip r:embed="rId2"/>
          <a:stretch/>
        </p:blipFill>
        <p:spPr>
          <a:xfrm>
            <a:off x="0" y="0"/>
            <a:ext cx="704880" cy="952560"/>
          </a:xfrm>
          <a:prstGeom prst="rect">
            <a:avLst/>
          </a:prstGeom>
          <a:ln w="0">
            <a:noFill/>
          </a:ln>
        </p:spPr>
      </p:pic>
      <p:pic>
        <p:nvPicPr>
          <p:cNvPr id="19" name="Picture 3" descr="C:\Users\Administrator\Pictures\hrb-logo-web4.gif"/>
          <p:cNvPicPr/>
          <p:nvPr/>
        </p:nvPicPr>
        <p:blipFill>
          <a:blip r:embed="rId3"/>
          <a:stretch/>
        </p:blipFill>
        <p:spPr>
          <a:xfrm>
            <a:off x="8105760" y="0"/>
            <a:ext cx="103824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7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8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0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3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4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70" name="Picture 2" descr="C:\Users\Administrator\Pictures\TCD Crest.gif"/>
          <p:cNvPicPr/>
          <p:nvPr/>
        </p:nvPicPr>
        <p:blipFill>
          <a:blip r:embed="rId2"/>
          <a:stretch/>
        </p:blipFill>
        <p:spPr>
          <a:xfrm>
            <a:off x="0" y="0"/>
            <a:ext cx="70488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Users\Administrator\Pictures\hrb-logo-web4.gif"/>
          <p:cNvPicPr/>
          <p:nvPr/>
        </p:nvPicPr>
        <p:blipFill>
          <a:blip r:embed="rId3"/>
          <a:stretch/>
        </p:blipFill>
        <p:spPr>
          <a:xfrm>
            <a:off x="8105760" y="0"/>
            <a:ext cx="1038240" cy="714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Times New Roman"/>
              </a:rPr>
              <a:t>TCD November 2007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Times New Roman"/>
              </a:rPr>
              <a:t>Carolyn Tobi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F688-E82A-4D20-8399-81F16E59F1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hysicsroom.org.nz/log/arcg.../refugeesubjectivity.h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mj.ie/UserControls/Issue/paper_printout.aspx?pid=1409&amp;type=Content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1436760"/>
            <a:ext cx="784836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Footlight MT Light"/>
              </a:rPr>
              <a:t>The Impact of Language Barriers on informed consent and quality of care</a:t>
            </a:r>
            <a:endParaRPr b="1" lang="en-US" sz="40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Carolyn Tobin PhD RN RM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skerville Old Face"/>
              </a:rPr>
              <a:t>Study funded by The Irish Health Research Board</a:t>
            </a: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Access to Interpreters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Appeared to be sporadic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ost implications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taff ‘rationed’ services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No out of hours service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2BAC-C480-441A-BE35-1678C80F142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Impact on confidentiality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Restricted access to interpreter service leads to inappropriate reliance on family members , staff members, or friends speaking on a cell phone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Exposes the woman's health issues and undermines confidentiality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6390-F351-49EC-81C4-38297BFD04C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Impact on Health Care Providers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Poor communication has been linked to more complex issues of over worked staff &amp; inadequate intercultural training.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08520" indent="-308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(Lyons et al 2008)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This can lead to bias and ignorance.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Evident in accounts of harsh &amp; inhumane treatment of some women in this study.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EE2C-DC76-4039-B5E0-214364E17C5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Conclusion: Communication is central to quality of care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2361960"/>
            <a:ext cx="4040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mpacts ability to actively participate in their care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ncreases levels of fear and anxiety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4720" y="2361960"/>
            <a:ext cx="404172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mpacts informed consent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Confidentiality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alth Care Providers</a:t>
            </a: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777D-E659-413A-8640-ECB83326CC5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ffff00"/>
                </a:solidFill>
                <a:latin typeface="Footlight MT Light"/>
              </a:rPr>
              <a:t>Implications for practice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Baskerville Old Face"/>
              </a:rPr>
              <a:t>Recognize the centrality of good communication to quality of care  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Baskerville Old Face"/>
              </a:rPr>
              <a:t>Need for clear standardized policy for access to properly trained interpreters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Baskerville Old Face"/>
              </a:rPr>
              <a:t>Need for support of staff in cultural awareness &amp; sensitivity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Baskerville Old Face"/>
              </a:rPr>
              <a:t>Written information  translated into relevant languages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67" name="Slide Number Placeholder 6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61BD-B710-4FB2-B641-6D3912B28D7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References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61760" y="18284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Bruner, J. (1990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Acts of Meaning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Cambridge, MA: Harvard University Press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Burke, K. (1969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A Grammar of Motives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Berkeley, Los Angeles: University of California Press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Callister, L. C. (2005). What has the literature taught us about culturally competent care of women and children?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The American Journal of Maternal Child Nursing, 30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(6), 380-388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Callister, L. C. (2006). Making a difference: goals for improving the health of women and children globally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Am J Matern Child Nurs, 31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(4), 271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Castles, S. (2000). International migration at the beginning of the twenty-first century: global trends and issues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Davis-Floyd, R. (2000). Global issues in midwifery: mutual accommodation or biomedical hegemony?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Midwifery Today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, 68-69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Davis-Floyd, R., &amp; Cheyney, M. (2009). Birth and the Big Bad Wolf: An Evolutionary Perspective. In H. Selin &amp; E. Stone (Eds.),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Childbirth Across Cultures: Ideas and Practices of Pregnancy, Childbirth and the Postpartum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(pp. 1-22). Amherst, MA: Springer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Davis-Floyd, R., &amp; Johnson, C. B. (Eds.). (2006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Mainstreaming midwives: the politics of change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New York: Routledge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70" name="Slide Number Placeholder 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60D9-0EAB-4483-8E4C-E80D0E73A3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References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90720" y="19047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Davis-Floyd, R., &amp; Sargent, C. F. (Eds.). (1997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Childbirth and Authoritative Knowledge: Cross Cultural Perspectives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Berkely, CA: University of California Press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Denzin, N. K. (2009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Qualitative Inquiry Under Fire: Towards a New Paradigm Dialague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Walnet Creek, CA: Left Coast Press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Ehrenreich, B., &amp; Hochschild, A. R. (Eds.). (2002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Global Woman: Nannies, Maids, and Sex Workers in the New Economy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New York: Owl Books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Fanning, B., Loyal, S., &amp; Staunton, C. (2000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Asylum Seekers and the Right to Work in Ireland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Dublin: Irish Refugee Council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Fanow, M. M., &amp; Cook, J. A. (2005). Feminist Methodology: New Applications in the Academy and Public Policy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Signs: Journal of Women in Culture and Society, 30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(4), 2211-2236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Gusfield, J. R. (1989). The Bridge over Seperated Lands: Kenneth Burk's Significance for the Study of Social Action. In H. W. Simons &amp; T. Melia (Eds.),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The Legacy of Kenneth Burk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(pp. 28-54). Madison, WI: The University of Wisconsin Press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5E39-1A8A-438F-9A04-303AE41B930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References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3808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Harding, S. (Ed.). (2004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The Feminist Standpoint Theory Reader: Intellectual &amp; Political Controversies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New york: Routledge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Harding, S., &amp; Norberg, K. (2005). New Feminist Approaches to Social Science Methodologies: An Introduction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Signs: Journal of Women in Culture and Society, 30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(4), 2009-2015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Hyland, M. (2001). 'Refugee Subjectivity: "Bare life" and the geographical division of labour',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The Physics Room. The Revolution Issue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: Available from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Baskerville Old Face"/>
                <a:hlinkClick r:id="rId1"/>
              </a:rPr>
              <a:t>www.physicsroom.org.nz/log/arcg.../refugeesubjectivity.ht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Jordan, B. (1993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Birth in four cultures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(4th ed.). Illinois: Waveland Press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Kennedy, P. (2010). Maternity services in Ireland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Health Policy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doi:10.1016/j.healthpol.2010.04.002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Kennedy, P., &amp; Murphy-Lawless, J. (2003). The Maternity Care Needs of Refugee and Asylum Seeking Women in Ireland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Feminist Review, 73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, 39-53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KPMG. (2008). </a:t>
            </a:r>
            <a:r>
              <a:rPr b="0" i="1" lang="en-US" sz="1800" spc="-1" strike="noStrike">
                <a:solidFill>
                  <a:srgbClr val="ffffff"/>
                </a:solidFill>
                <a:latin typeface="Baskerville Old Face"/>
              </a:rPr>
              <a:t>Independent Review of Maternity &amp; Gynaecology Services in the Greater Dublin Area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. Dublin.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BD8C-1580-4AFD-81F7-1C62AABCFD0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References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Murphy-Lawless, J., &amp; Kennedy, P. (2002). </a:t>
            </a:r>
            <a:r>
              <a:rPr b="0" i="1" lang="en-US" sz="2000" spc="-1" strike="noStrike">
                <a:solidFill>
                  <a:srgbClr val="ffffff"/>
                </a:solidFill>
                <a:latin typeface="Baskerville Old Face"/>
              </a:rPr>
              <a:t>The Maternity Care Needs of Refugee and Asylum Seeking Women</a:t>
            </a: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. Dublin: Northern Area Health Board.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Murphy, J. F. A. (2005). Migrants' Rights to Health. </a:t>
            </a:r>
            <a:r>
              <a:rPr b="0" i="1" lang="en-US" sz="2000" spc="-1" strike="noStrike">
                <a:solidFill>
                  <a:srgbClr val="ffffff"/>
                </a:solidFill>
                <a:latin typeface="Baskerville Old Face"/>
              </a:rPr>
              <a:t>Irish Medical Journal, 98</a:t>
            </a: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. Retrieved from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Baskerville Old Face"/>
                <a:hlinkClick r:id="rId1"/>
              </a:rPr>
              <a:t>http://www.imj.ie/UserControls/Issue/paper_printout.aspx?pid=1409&amp;type=Contents</a:t>
            </a:r>
            <a:endParaRPr b="0" lang="en-US" sz="18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Ottani, P. (2002). When Childbirth Preparation Isn't a Cultural Norm. </a:t>
            </a:r>
            <a:r>
              <a:rPr b="0" i="1" lang="en-US" sz="2000" spc="-1" strike="noStrike">
                <a:solidFill>
                  <a:srgbClr val="ffffff"/>
                </a:solidFill>
                <a:latin typeface="Baskerville Old Face"/>
              </a:rPr>
              <a:t>International Journal of Childbirth Education</a:t>
            </a: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Steinberg, S. (1996). Childbearing research: A transcultural review. </a:t>
            </a:r>
            <a:r>
              <a:rPr b="0" i="1" lang="en-US" sz="2000" spc="-1" strike="noStrike">
                <a:solidFill>
                  <a:srgbClr val="ffffff"/>
                </a:solidFill>
                <a:latin typeface="Baskerville Old Face"/>
              </a:rPr>
              <a:t>Social Science and Medicine, 43</a:t>
            </a: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(12), 1765-1784.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Tussing, A. D., &amp; Wren, M.-A. (2006). </a:t>
            </a:r>
            <a:r>
              <a:rPr b="0" i="1" lang="en-US" sz="2000" spc="-1" strike="noStrike">
                <a:solidFill>
                  <a:srgbClr val="ffffff"/>
                </a:solidFill>
                <a:latin typeface="Baskerville Old Face"/>
              </a:rPr>
              <a:t>How Ireland Cares: The Case for Health Care Reform</a:t>
            </a: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. Dublin: New Ireland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askerville Old Fac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6890-9529-42B2-A757-4F7B5242281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Aim of Study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Baskerville Old Face"/>
              </a:rPr>
              <a:t>To explore </a:t>
            </a:r>
            <a:r>
              <a:rPr b="0" lang="en-GB" sz="3200" spc="-1" strike="noStrike">
                <a:solidFill>
                  <a:srgbClr val="ffffff"/>
                </a:solidFill>
                <a:latin typeface="Baskerville Old Face"/>
              </a:rPr>
              <a:t>the physical, emotional and social experiences of</a:t>
            </a:r>
            <a:r>
              <a:rPr b="0" lang="en-IE" sz="3200" spc="-1" strike="noStrike">
                <a:solidFill>
                  <a:srgbClr val="ffffff"/>
                </a:solidFill>
                <a:latin typeface="Baskerville Old Face"/>
              </a:rPr>
              <a:t> refugee and asylum seeking women during pregnancy and childbirth in Ireland.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BBA7-2627-4938-B4E0-73AA8A44210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Background and Significance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Immigration and asylum in Ireland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Irish maternity services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International application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7478-62D7-4036-97A1-136F0F70ACA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Study Design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askerville Old Face"/>
              </a:rPr>
              <a:t>A qualitative study design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22 in-depth unstructured interviews 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ape recorded and transcribed verbatim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Narrative analysis of data 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thical approval granted from three agencies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  <a:p>
            <a:pPr marL="301680" indent="-301680">
              <a:spcBef>
                <a:spcPts val="4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B64E-EB0B-41AD-A973-9F0655C242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ootlight MT Light"/>
              </a:rPr>
              <a:t>Brief Picture of the Women’s Background</a:t>
            </a:r>
            <a:endParaRPr b="1" lang="en-US" sz="3600" spc="-1" strike="noStrike">
              <a:solidFill>
                <a:srgbClr val="ffff00"/>
              </a:solidFill>
              <a:latin typeface="Footlight MT Light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09480" y="1523880"/>
          <a:ext cx="1886040" cy="3708360"/>
        </p:xfrm>
        <a:graphic>
          <a:graphicData uri="http://schemas.openxmlformats.org/drawingml/2006/table">
            <a:tbl>
              <a:tblPr/>
              <a:tblGrid>
                <a:gridCol w="1886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Countries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Camero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Burund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South Afr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Sierra Le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Ir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Iraq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Zai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657600" y="1371600"/>
          <a:ext cx="5181480" cy="1006560"/>
        </p:xfrm>
        <a:graphic>
          <a:graphicData uri="http://schemas.openxmlformats.org/drawingml/2006/table">
            <a:tbl>
              <a:tblPr/>
              <a:tblGrid>
                <a:gridCol w="5181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Age Rang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18 – 40 years.       Average age 30 yea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657600" y="4038480"/>
          <a:ext cx="5181480" cy="1854360"/>
        </p:xfrm>
        <a:graphic>
          <a:graphicData uri="http://schemas.openxmlformats.org/drawingml/2006/table">
            <a:tbl>
              <a:tblPr/>
              <a:tblGrid>
                <a:gridCol w="1440000"/>
                <a:gridCol w="3741480"/>
              </a:tblGrid>
              <a:tr h="567000"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Occupations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23640"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Housewife; Trader; Banker; Secreta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23640"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Security manager; Clothing designer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567000"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Business sales; Receptionist, Nursing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23640"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39960" bIns="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Local government &amp; NGO work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657600" y="2666880"/>
          <a:ext cx="5181480" cy="1279800"/>
        </p:xfrm>
        <a:graphic>
          <a:graphicData uri="http://schemas.openxmlformats.org/drawingml/2006/table">
            <a:tbl>
              <a:tblPr/>
              <a:tblGrid>
                <a:gridCol w="5181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Education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Women with little ‘formal’ education to several with post-graduate degre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657600" y="6019920"/>
          <a:ext cx="5181480" cy="741240"/>
        </p:xfrm>
        <a:graphic>
          <a:graphicData uri="http://schemas.openxmlformats.org/drawingml/2006/table">
            <a:tbl>
              <a:tblPr/>
              <a:tblGrid>
                <a:gridCol w="51814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Length of time in Ireland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Baskerville Old Face"/>
                          <a:ea typeface="Arial"/>
                        </a:rPr>
                        <a:t>Less than 9 weeks  to  3.5 year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09480" y="5715000"/>
          <a:ext cx="1895760" cy="741240"/>
        </p:xfrm>
        <a:graphic>
          <a:graphicData uri="http://schemas.openxmlformats.org/drawingml/2006/table">
            <a:tbl>
              <a:tblPr/>
              <a:tblGrid>
                <a:gridCol w="1438560"/>
                <a:gridCol w="457200"/>
              </a:tblGrid>
              <a:tr h="469800">
                <a:tc>
                  <a:txBody>
                    <a:bodyPr tIns="33480" bIns="33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Multipariou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tIns="33480" bIns="33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2060"/>
                          </a:solidFill>
                          <a:latin typeface="Baskerville Old Face"/>
                          <a:ea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271440">
                <a:tc>
                  <a:txBody>
                    <a:bodyPr tIns="33480" bIns="33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Primiparou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tIns="33480" bIns="33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99"/>
                          </a:solidFill>
                          <a:latin typeface="Baskerville Old Face"/>
                          <a:ea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  <p:sp>
        <p:nvSpPr>
          <p:cNvPr id="138" name="Slide Number Placeholder 9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2361-FF9E-4BD8-91EC-1F0273AA1FF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Language Barriers and Effect on Communication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320" y="2361960"/>
            <a:ext cx="7543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Language &amp; communication barriers are described as being detrimental to the health and wellbeing of ethnic minority women in a number of British &amp; Irish studies.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Baskerville Old Face"/>
              </a:rPr>
              <a:t>Raleigh et al (2010,) Briscoe &amp; Lavendar (2009), Lyons et al (2008), Jentsch et al (2007), Ukoko (2005), Murphy Law-less (2003) McLeish(2002)</a:t>
            </a: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9F84-55C4-445D-A172-86AF783C074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Findings from current study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Barriers to communication were widespread in the women’s accounts.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ommunication issues were apparent across all educational levels and fluency in English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The most vulnerable were those who spoke no English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32E2-14AB-45C7-9BEA-A048DBF1A0C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7720" y="16765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“ … </a:t>
            </a: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She understood nothing when she arrived at the hospital, The doctor he didn’t touch her. He just looked at her files. He didn’t look, she knew she was bleeding ….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[</a:t>
            </a:r>
            <a:r>
              <a:rPr b="0" i="1" lang="en-US" sz="2800" spc="-1" strike="noStrike">
                <a:solidFill>
                  <a:srgbClr val="ffffff"/>
                </a:solidFill>
                <a:latin typeface="Baskerville Old Face"/>
              </a:rPr>
              <a:t>Zita crying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]. She asked was there anyone who spoke French. They just said ‘No’. If she could have talked to somebody maybe somebody would have listened. </a:t>
            </a:r>
            <a:endParaRPr b="0" lang="en-US" sz="28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AAFC-E742-4AB3-BA98-61410927372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Footlight MT Light"/>
              </a:rPr>
              <a:t>Impact on informed consent</a:t>
            </a:r>
            <a:endParaRPr b="1" lang="en-US" sz="4400" spc="-1" strike="noStrike">
              <a:solidFill>
                <a:srgbClr val="ffff00"/>
              </a:solidFill>
              <a:latin typeface="Footlight MT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Poor communication impacts women's ability to participate in their care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Many women in the study expressed heightened levels of fear and anxiety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ome women literally did not know what was happening to them.</a:t>
            </a:r>
            <a:endParaRPr b="0" lang="en-US" sz="3200" spc="-1" strike="noStrike">
              <a:solidFill>
                <a:srgbClr val="ffffff"/>
              </a:solidFill>
              <a:latin typeface="Baskerville Old Face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9792-14E5-4D54-9B39-002997500C8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01:15:37Z</dcterms:created>
  <dc:creator>Owner</dc:creator>
  <dc:description/>
  <dc:language>en-US</dc:language>
  <cp:lastModifiedBy>User</cp:lastModifiedBy>
  <cp:lastPrinted>2010-11-04T12:44:40Z</cp:lastPrinted>
  <dcterms:modified xsi:type="dcterms:W3CDTF">2012-08-03T01:53:39Z</dcterms:modified>
  <cp:revision>160</cp:revision>
  <dc:subject/>
  <dc:title>Childbirth in Exile:  Refugee and Asylum Seeking Women’s Experience of Childbirth in Irela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921033</vt:lpwstr>
  </property>
</Properties>
</file>