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E58C-DF3D-400B-863D-87BF3C994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EEE5-F816-404B-8818-55E16F08E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D254-6CC6-4F09-A3D0-09C877DD6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004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572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004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3B25-7374-471B-A497-0AEED094A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C10D-EA9F-406E-B095-BAED6DB4EF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F09D-8CEC-48FC-9557-1D7ED17366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80A2-7760-40E7-83EC-E4E03E67E2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8A06-6BA7-4F3D-ABB7-F47628536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5DEF-96C1-490D-89A9-71B827CA07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2960" y="1066320"/>
            <a:ext cx="9699480" cy="204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19DE-CAE0-4161-954F-ABE29648D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74CC-C5AB-4C17-8DF3-B6C3B024B9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DA58-5477-4FF8-B5C1-E405BBB4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68DE-A9B5-4BF2-8714-831975C5F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2406-83C0-4A83-B7AC-5F6F91C3D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5E41-B325-48AB-9E98-4243E593AC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A6DF-F047-44D8-B787-C1E5EC26F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3004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4360" y="563868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8572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3004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4360" y="5957640"/>
            <a:ext cx="22323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A5A0-D615-46BD-B8C9-E6FF61371B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22B6-D5AC-4D14-9494-08D859934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F15B-2FB6-4928-8BB4-56A45849C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D278-3A2E-4AA6-B97E-EDB23A310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960" y="1066320"/>
            <a:ext cx="9699480" cy="204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1B9C-7E64-4609-9B4C-D238673F3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6338-E3D5-4F14-AF5E-2E74B8DF4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8920" y="595764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E3E0-1843-4AC7-9086-267A95094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57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920" y="5638680"/>
            <a:ext cx="33836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5720" y="5957640"/>
            <a:ext cx="69339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6F18-65C1-4C44-8D2D-C7EEAD87C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800280" indent="-28584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3" marL="1486080" indent="-228600">
              <a:spcBef>
                <a:spcPts val="799"/>
              </a:spcBef>
              <a:buClr>
                <a:srgbClr val="000000"/>
              </a:buClr>
              <a:buFont typeface=".Vn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4" marL="1828800" indent="-228600">
              <a:spcBef>
                <a:spcPts val="7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5" marL="1828800" indent="-228600">
              <a:spcBef>
                <a:spcPts val="7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6" marL="1828800" indent="-228600">
              <a:spcBef>
                <a:spcPts val="7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81440" y="6477120"/>
            <a:ext cx="233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BC6-6D4D-4C24-8625-53A67A0A3190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3680" y="1141560"/>
            <a:ext cx="9526680" cy="144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5400" y="138240"/>
            <a:ext cx="10540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.VnTime"/>
              </a:rPr>
              <a:t>Click to edit the title text format</a:t>
            </a: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381440" y="6477120"/>
            <a:ext cx="233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87C3-464C-4A5F-AF2E-6BD5B176F74A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5400" y="138240"/>
            <a:ext cx="1054080" cy="81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Click to edit the outline text format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2" marL="914400" algn="ctr">
              <a:spcBef>
                <a:spcPts val="700"/>
              </a:spcBef>
              <a:buClr>
                <a:srgbClr val="000099"/>
              </a:buClr>
              <a:buFont typeface=".Vn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.Vn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.VnArial"/>
            </a:endParaRPr>
          </a:p>
          <a:p>
            <a:pPr lvl="3" marL="1257480" algn="ctr">
              <a:spcBef>
                <a:spcPts val="499"/>
              </a:spcBef>
              <a:buClr>
                <a:srgbClr val="000000"/>
              </a:buClr>
              <a:buFont typeface=".Vn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  <a:p>
            <a:pPr lvl="4" marL="1600200" algn="ctr">
              <a:spcBef>
                <a:spcPts val="499"/>
              </a:spcBef>
              <a:buClr>
                <a:srgbClr val="000000"/>
              </a:buClr>
              <a:buFont typeface=".Vn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  <a:p>
            <a:pPr lvl="5" marL="1600200">
              <a:spcBef>
                <a:spcPts val="4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  <a:p>
            <a:pPr lvl="6" marL="1600200">
              <a:spcBef>
                <a:spcPts val="499"/>
              </a:spcBef>
              <a:buClr>
                <a:srgbClr val="000000"/>
              </a:buClr>
              <a:buFont typeface=".Vn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.Vn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2960" y="837720"/>
            <a:ext cx="9699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.VnTime"/>
              </a:rPr>
              <a:t>Kü n¨ng</a:t>
            </a:r>
            <a:br>
              <a:rPr sz="9600"/>
            </a:br>
            <a:r>
              <a:rPr b="1" lang="en-US" sz="96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9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560" y="4266720"/>
            <a:ext cx="69339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Ts. Phan Quèc ViÖt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NguyÔn Huy Hoµng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CLB </a:t>
            </a: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T©m ViÖt</a:t>
            </a:r>
            <a:r>
              <a:rPr b="1" i="1" lang="en-US" sz="3200" spc="-1" strike="noStrike">
                <a:solidFill>
                  <a:srgbClr val="000066"/>
                </a:solidFill>
                <a:latin typeface=".VnArial"/>
              </a:rPr>
              <a:t>, 13.04.2003</a:t>
            </a: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F3E4-BBD3-4676-8848-D6FF198FC9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13120" y="1917720"/>
            <a:ext cx="7333920" cy="44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03920" y="191772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13120" y="4121280"/>
            <a:ext cx="73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7520" y="267336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5080" y="267336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40160" y="4883040"/>
            <a:ext cx="53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7320" y="4883040"/>
            <a:ext cx="49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29160" y="1433520"/>
            <a:ext cx="1780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4560" y="1357200"/>
            <a:ext cx="300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 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502160"/>
            <a:ext cx="14605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195640"/>
            <a:ext cx="13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Møc ®é ­u tiª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22" name=""/>
          <p:cNvSpPr/>
          <p:nvPr/>
        </p:nvSpPr>
        <p:spPr>
          <a:xfrm>
            <a:off x="2934000" y="301608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Lµm ngay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3120" y="5143680"/>
            <a:ext cx="17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Giao cho 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ng­êi kh¸c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5143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ChØ lµm nÕu 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cã thêi gi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16120" y="2933640"/>
            <a:ext cx="289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Lµm sau, 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Arial"/>
              </a:rPr>
              <a:t>nh­ng kiªn quyÕt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5B6D-6610-4529-A92F-7ADD46F7C9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Sö dông thêi gian hiÖu qu¶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ung thêi gian 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vµ kh«ng gian lµ t­¬ng ®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Phót tr«i qua lµ mÊt ®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37952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®iÒu kh«ng ai lµm thay ta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A204-09B9-43DB-B01E-333094DFEF33}" type="slidenum">
              <a:t>11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Kinh doanh thµnh c«ng lµ biÕt dïng tiÒn cña ng­êi kh¸c.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Ng­êi thµnh ®¹t lµ ng­êi biÕt giao quyÒn cho ng­êi kh¸c.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41E3-25FD-4BEB-8B30-B25918D3AF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Sö dông thêi gian hiÖu qu¶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22600" indent="-400320">
              <a:lnSpc>
                <a:spcPct val="2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Æt chuÈn cho mçi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2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huÈn bÞ cho c¸c cuéc häp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2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¶o vÖ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E837-7E63-4DD9-B565-CF59AECC091C}" type="slidenum">
              <a:t>13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BÊt kú mét ng­êi giµu nµo còng cói xuèng nhÆt ®ång tiÒn r¬i.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T¹i sao ta ®Ó thêi gian dÔ dµng tr«i qua?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B741-855E-4269-9E0C-58276064547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80BA-7ACD-4A6F-BA82-26F3F895B5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.VnTime"/>
              </a:rPr>
              <a:t>Ta cã ®ång t×nh víi nh÷ng ng­êi mãc vÝ cña ta kh«ng?</a:t>
            </a:r>
            <a:endParaRPr b="1" lang="en-US" sz="8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CA2F-0388-48A1-BD03-F07168D3BD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kÎ ®¸nh c¾p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Ën b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lêi nãi d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c¸i bÉy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h ®èi ph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5AB8-B1A1-4E68-AD53-75F54287A1BD}" type="slidenum">
              <a:t>17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Ën biÕt kÎ ®¸nh c¾p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2080" indent="-40032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h nhËn b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432080" indent="-40032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ã thÓ lµ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§ång nghiÖp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¸ch hµng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µnh viªn gia ®×nh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63844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B¹n bÌ...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1F3F-03EE-475A-8312-1884651A2370}" type="slidenum">
              <a:t>18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Kh«ng ai muèn chÞu mÊt m¸t mét m×nh, hä lu«n kÐo ng­êi kh¸c cïng l·ng phÝ thêi gian.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BB35-E951-4077-AB74-40867C39788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Thêi gian lµ Vµng.</a:t>
            </a:r>
            <a:br>
              <a:rPr sz="7200"/>
            </a:b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Thêi gian lµ cuéc sèng.</a:t>
            </a:r>
            <a:endParaRPr b="1" lang="en-US" sz="72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9CD6-09CD-4BB3-9C19-CB324C7DFE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lêi nãi dèi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Xin lçi, t«i ®Õn muén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kh«ng bao giê ®Õn muén, h«m nay..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®ang ®Þnh ®Õn chç anh..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sÏ gäi l¹i cho b¹n ngay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18920" indent="-37620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hy väng kh«ng ®Õn muén.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0A98-6024-45E1-9BBD-1B36F5FE67CC}" type="slidenum">
              <a:t>20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lêi nãi dèi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cã thÓ ®Õn muén mét phó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®· nghÜ nhiÒu vÒ ®iÒu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bËn kinh khñ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ø tin ë t«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72260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«i sÏ kh«ng kÐo dµi ®©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0F30-3140-4ABA-92C1-32B3B419F1EA}" type="slidenum">
              <a:t>21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h÷ng c¸i bÉy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bao giê hoµn thµnh c«ng viÖc ®óng ló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Ó ng­êi kh¸c ®î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dµnh ®ñ thêi gian cho c«ng viÖc trong lÞ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uyªn nhñ kh«ng cã t¸c dô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67920" indent="-36792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Yªu cÇu gi¶i thÝ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FA51-835B-4B3B-94F8-98F529241ADA}" type="slidenum">
              <a:t>22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Tin, nh­ng kiÓm tra ®Ó tin h¬n.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.VnTime"/>
              </a:rPr>
              <a:t>T«i ch­a bao giê tin t«i c¶.</a:t>
            </a:r>
            <a:endParaRPr b="1" lang="en-US" sz="54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5660-9F21-4436-B71E-0990B8444ED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®èi phã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iÓu biÕt ®éng c¬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õng bao giê chÞu thua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õng kú väng nh÷ng ®iÒu v« lý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57440" indent="-399960">
              <a:lnSpc>
                <a:spcPct val="21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·y ®ãng cöa l¹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4F23-9EA4-4834-88C4-86914B5D9F76}" type="slidenum">
              <a:t>24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B¹n ®Õn hay kh«ng th× m¸y bay vÉn cÊt c¸nh</a:t>
            </a:r>
            <a:endParaRPr b="1" lang="en-US" sz="72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C844-5ED9-4484-82F2-35EABE3480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60B7-3200-4C02-86DD-D88C25B4340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.VnTime"/>
              </a:rPr>
              <a:t>Kh«n ngoan ch¼ng lä thËt thµ.</a:t>
            </a:r>
            <a:br>
              <a:rPr sz="4800"/>
            </a:br>
            <a:endParaRPr b="1" lang="en-US" sz="72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3415-C6BA-4349-AEF4-B907310193F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NghÖ thuËt tõ chèi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¹i sao ph¶i nã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 lo¹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i nµo nã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92480" indent="-40032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¸c c¸ch nãi “kh«ng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B669-A6CC-43D7-8E00-549EA1537F3E}" type="slidenum">
              <a:t>28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T¹i sao ph¶i nã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584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thÓ nãi “cã” mäi ló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91584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ay v× “®Ó lóc kh¸c”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91584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nãi “kh«ng” v×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16160" indent="-285840">
              <a:lnSpc>
                <a:spcPct val="19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suy nghÜ kü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1316160" indent="-285840">
              <a:lnSpc>
                <a:spcPct val="19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muèn lµm phËt lßng ng­êi kh¸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FAC-6D2D-4453-8708-574395C07707}" type="slidenum">
              <a:t>29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89FC-4FB7-450F-9065-9F971F3F6D5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66"/>
                </a:solidFill>
                <a:latin typeface=".VnTime"/>
              </a:rPr>
              <a:t>BÖnh sÜ!</a:t>
            </a:r>
            <a:endParaRPr b="1" lang="en-US" sz="129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9C30-0AE6-45A0-834A-5B72058B80D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 lo¹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cho nh÷ng c©u hái thùc tÕ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khi ng­êi hái ®· nghÜ ®Õn c©u tr¶ lêi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theo ph¶n øng cña ng­êi tr¶ lê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429120" indent="-36792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” ®Ó tõ chèi mét yªu cÇ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294D-DACC-4F7A-A4FE-867786EB1F68}" type="slidenum">
              <a:t>3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.VnTime"/>
              </a:rPr>
              <a:t>Kh«ng lµm còng ®­îc kh«ng lµm.</a:t>
            </a: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6A65-4F8E-44AC-B494-B670E1500B2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hi nµo nã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cã kh¶ n¨ng vµ t­ c¸ch ®Ó lµm viÖc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cã thêi gian cho viÖc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muèn lµm viÖc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690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«ng ®Ó l¹i hËu qu¶ xÊu?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1847-2372-4EB1-8DB9-46F2C00D1EB8}" type="slidenum">
              <a:t>33</a:t>
            </a:fld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960" y="0"/>
            <a:ext cx="969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.VnTime"/>
              </a:rPr>
              <a:t>ThËt thµ lµ cha xá l¸.</a:t>
            </a:r>
            <a:endParaRPr b="1" lang="en-US" sz="8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A4E1-0AD7-41FA-9CF4-8AD29D35F9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nãi “kh«ng”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Xin lçi, t«i kh«ng thÓ lµm thÕ ngay b©y giê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hÞu thua vÊn ®Ò ®ã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¶m ¬n ®· tin t«i, nh­ng t«i kh«ng thÓ gióp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­êi kh¸c cã thÓ gióp b¹n nhiÒu h¬n t«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519120" indent="-399960">
              <a:lnSpc>
                <a:spcPct val="1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ã thÓ sau nµy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1A64-7931-4C2A-91CE-B2D8D7A46E0B}" type="slidenum">
              <a:t>35</a:t>
            </a:fld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.VnTime"/>
              </a:rPr>
              <a:t>Nãi gÇn, nãi xa,</a:t>
            </a:r>
            <a:br>
              <a:rPr sz="8800"/>
            </a:br>
            <a:r>
              <a:rPr b="1" lang="en-US" sz="8800" spc="-1" strike="noStrike">
                <a:solidFill>
                  <a:srgbClr val="000066"/>
                </a:solidFill>
                <a:latin typeface=".VnTime"/>
              </a:rPr>
              <a:t>ch¼ng qua nãi thËt</a:t>
            </a: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.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7FFC-93F3-4326-901B-F40F8C58A0D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3C5C-A392-4B35-AEEB-9F8627A1BB0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Kh«ng lËp kÕ ho¹ch lµ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lËp kÕ ho¹ch cho thÊt b¹i.</a:t>
            </a:r>
            <a:endParaRPr b="1" lang="en-US" sz="6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F3E2-1390-430E-BEBB-08FF8453374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LËp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ùc tr¹ng 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biÓu hay b¶ng kª ®Çu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a lo¹i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60344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ü n¨ng 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DAC9-F87F-4C8E-9CA7-EA03271FAC96}" type="slidenum">
              <a:t>39</a:t>
            </a:fld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80D0-98F6-4C0B-BC97-3D1B57C180A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B¶ng kª ®Çu viÖc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73320" indent="-399960">
              <a:lnSpc>
                <a:spcPct val="2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¶ng kª ®Çu viÖc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cÊu tró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giíi h¹n thêi gia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cã thø tù ­u tiª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57328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chi tiÕt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33A9-572B-4488-96BF-4E0A886B317F}" type="slidenum">
              <a:t>40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47960" indent="-400320">
              <a:lnSpc>
                <a:spcPct val="2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biÓu: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Êu tróc theo thêi gia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êi gian hoµn thµnh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ø tù ­u tiª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347920" indent="-285840">
              <a:lnSpc>
                <a:spcPct val="2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hi tiÕt, cô thÓ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DDFB-9E49-44E5-A169-3C0F5B7DA4AF}" type="slidenum">
              <a:t>41</a:t>
            </a:fld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Ba lo¹i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¹c quan tÕ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683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Qu¸ Ýt thêi gian ®Ó thùc hiÖn c«ng viÖ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marL="96840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i qu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683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Qu¸ nhiÒu thêi gian dµnh cho mét viÖ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marL="96840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ùc tÕ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13683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Dµnh võa ®ñ thêi gian cho viÖc cô thÓ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F5DA-CC3D-4FBB-94DE-04B99E60B486}" type="slidenum">
              <a:t>42</a:t>
            </a:fld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Thêi gian biÓu thùc tÕ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H"/>
              </a:rPr>
              <a:t>Ê</a:t>
            </a: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 ®Þnh thêi gian cho c¸c ho¹t ®éng th«ng th­ê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×nh dung ra c¸c chi t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Õt hîp c¸c ho¹t ®é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§Æt h¹n chÕ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lÞch mäi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lÞch cho viÖc ®ét xuÊ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63BB-7FC3-4E69-8F36-C8068C3CAFD9}" type="slidenum">
              <a:t>43</a:t>
            </a:fld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ü n¨ng lËp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6240" indent="-399960">
              <a:lnSpc>
                <a:spcPct val="16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ê quan träng nhÊ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¾t bít ®i mét viÖc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Thªm mét giê buæi s¸ng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§õng vËt lén víi chã co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ChØ chÊp nhËn nh÷ng tin ng¾n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  <a:p>
            <a:pPr lvl="1" marL="2176560" indent="-285840">
              <a:lnSpc>
                <a:spcPct val="16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.VnArial"/>
              </a:rPr>
              <a:t>Kh«ng kiÓm tra kÐp</a:t>
            </a:r>
            <a:endParaRPr b="0" lang="en-US" sz="3000" spc="-1" strike="noStrike">
              <a:solidFill>
                <a:srgbClr val="000099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66C8-EA66-49E7-BE9E-20A318A4AE0F}" type="slidenum">
              <a:t>44</a:t>
            </a:fld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Lóc thiÕu tiÒn ta tiªu pha rÊt chi ly. NÕu ta sö dông thêi gian nh­ tiªu tiÒn ch¾c kh«ng bao giê ta nghÌo</a:t>
            </a: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.</a:t>
            </a:r>
            <a:endParaRPr b="1" lang="en-US" sz="6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954F-84A0-47A7-B5C9-C0F28641F2F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ü n¨ng lËp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¾p xÕp th­ tù ­u tiª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µm cho quyÓn lÞch quan träng nh­ ®ång hå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o¹ch ®Þnh ngµy thø t­ tr­íc ngµy thø ba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744480" indent="-399960">
              <a:lnSpc>
                <a:spcPct val="23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u©n thñ lÞ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552C-9F3E-4572-939E-B646F0A9805C}" type="slidenum">
              <a:t>46</a:t>
            </a:fld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Thµnh c«ng lín víi b­íc nhá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h¬n lµ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thµnh c«ng nhá víi b­íc lín</a:t>
            </a:r>
            <a:r>
              <a:rPr b="1" lang="en-US" sz="6600" spc="-1" strike="noStrike">
                <a:solidFill>
                  <a:srgbClr val="000066"/>
                </a:solidFill>
                <a:latin typeface=".VnTime"/>
              </a:rPr>
              <a:t>.</a:t>
            </a:r>
            <a:endParaRPr b="1" lang="en-US" sz="66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2941-0890-46C5-B75D-9768F341620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81C7-6DB9-46CC-8C22-E8AF78B55B4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.VnTime"/>
              </a:rPr>
              <a:t>ViÖc g× còng gÊp th× hiÖu qu¶ thÊp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.VnTime"/>
              </a:rPr>
              <a:t>ViÖc g× còng véi th× mÊt hÕt c¬ héi</a:t>
            </a:r>
            <a:endParaRPr b="1" lang="en-US" sz="5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85720" y="56386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8136-5524-493E-A09F-0C2AFB3A8E5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HiÖn tr¹ng 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-399960">
              <a:lnSpc>
                <a:spcPct val="2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lµm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570040" indent="-399960">
              <a:lnSpc>
                <a:spcPct val="2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cho gia ®×n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570040" indent="-399960">
              <a:lnSpc>
                <a:spcPct val="2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AB3A-70A3-4DA0-89FA-F6F37F9C7E2F}" type="slidenum">
              <a:t>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Õ ho¹ch dµi h¹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kÕt qu¶ mµ ta muè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hung thêi gian cho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h÷ng nhiÖm vô cô thÓ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035000" indent="-399960">
              <a:lnSpc>
                <a:spcPct val="22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H×nh dung ta ®· ®¹t ®­îc kÕ ho¹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9188-B20A-480D-8FF8-EDB1B326035A}" type="slidenum">
              <a:t>50</a:t>
            </a:fld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KÕ ho¹ch dµi h¹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ChØ ra môc tiªu vµ chiÕn l­îc thùc hiÖ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99960" indent="-399960"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Ph©n lo¹i môc tiªu theo thê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76520" y="2487600"/>
          <a:ext cx="6521400" cy="3989520"/>
        </p:xfrm>
        <a:graphic>
          <a:graphicData uri="http://schemas.openxmlformats.org/drawingml/2006/table">
            <a:tbl>
              <a:tblPr/>
              <a:tblGrid>
                <a:gridCol w="3797280"/>
                <a:gridCol w="272412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Lo¹i môc tiª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Thêi h¹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TÇm nh×n (Vi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V« h¹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Sø mÖnh (Mis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10 n¨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Môc ®Ých (Go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Vµi n¨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Môc tiªu (Objecti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N¨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ChØ tiªu (Targ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Th¸ng/ Qu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C«ng t¸c (Tas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.VnArial"/>
                        </a:rPr>
                        <a:t>Ngµy/ TuÇ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.Vn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B6C7-BB97-4015-847B-33431B161B5A}" type="slidenum">
              <a:t>51</a:t>
            </a:fld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LËp kÕ ho¹ch vµ thêi gian biÓu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ViÕt c¸c môc tiªu dµi h¹n lªn lÞch bµn tr­íc mÆ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ViÕt môc tiªu dµi h¹n lªn sæ tay hµng ngµy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Bæ sung danh s¸ch nhiÖm vô ®Ó ®¹t môc tiª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Thªm vµo c¸c nhiÖm vô cô thÓ, chi tiÕt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giíi h¹n thêi gian cho tõng nhiÖm vô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379800" indent="-379800">
              <a:lnSpc>
                <a:spcPct val="15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S½n sµng thÝch øng víi thay ®æi trong qu¸ tr×n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BECB-CA00-4DA4-A6AA-5CD122BDA8DA}" type="slidenum">
              <a:t>52</a:t>
            </a:fld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Gi¸ trÞ cña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KÎ ®¸nh c¾p thêi gia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NghÖ thuËt tõ chè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thêi gian biÓ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97240" indent="-400320">
              <a:lnSpc>
                <a:spcPct val="18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LËp kÕ ho¹ch dµi h¹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C439-89B5-48B6-B731-A24A0A90B36E}" type="slidenum">
              <a:t>53</a:t>
            </a:fld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960" y="1066320"/>
            <a:ext cx="9699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.VnTime"/>
              </a:rPr>
              <a:t>Ai còng cã cïng mét tµi s¶n:</a:t>
            </a:r>
            <a:endParaRPr b="1" lang="en-US" sz="60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2590920"/>
            <a:ext cx="969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.VnTime"/>
              </a:rPr>
              <a:t>1440 phót/ngµy</a:t>
            </a:r>
            <a:endParaRPr b="0" lang="en-US" sz="72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3809880"/>
            <a:ext cx="9699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.VnTime"/>
              </a:rPr>
              <a:t>C¸ch sö dông tµi s¶n ®ã lµm nªn sù kh¸c biÖt gi÷a ng­êi giµu vµ kÎ nghÌo, ng­êi thµnh c«ng vµ kÎ thÊt b¹i.</a:t>
            </a:r>
            <a:endParaRPr b="0" lang="en-US" sz="4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C7B5-7668-4C4C-8049-612A989445EA}" type="slidenum">
              <a:t>54</a:t>
            </a:fld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l·ng ph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. Lµm viÖc kh«ng cã kÕ ho¹ch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2. C¸c môc ®Ých kh«ng râ rµng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3. §Æt qu¸ nhiÒu môc tiªu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4. Gi¸m s¸t qu¸ chÆt chÏ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182880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5. Lo l¾ng th¸i qu¸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2BE4-0E25-43A0-AB5C-3538D45C36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l·ng ph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6. Cã qu¸ nhiÒu giao tiÕp x· hé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7. Theo chñ nghÜa hoµn h¶o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8. Tr× ho·n c«ng viÖc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9. Vßng vo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2287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0. Söa sa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7A24-2340-4405-9F0B-55E5D92E1B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C¸ch l·ng ph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3320" y="1282320"/>
            <a:ext cx="95266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1. Cã qu¸ nhiÒu c«ng viÖc giÊy tê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2. MÊt thêi gian chê ®îi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3. Dù c¸c cuéc häp v« bæ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4. NghØ sím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  <a:p>
            <a:pPr marL="23432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.VnArial"/>
              </a:rPr>
              <a:t>15. Tøc giËn</a:t>
            </a:r>
            <a:endParaRPr b="0" lang="en-US" sz="3200" spc="-1" strike="noStrike">
              <a:solidFill>
                <a:srgbClr val="000066"/>
              </a:solidFill>
              <a:latin typeface=".Vn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6660-D204-4AA0-9284-47F70F80F8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13120" y="1917720"/>
            <a:ext cx="7333920" cy="44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03920" y="191772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4121280"/>
            <a:ext cx="73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57520" y="267336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55080" y="267336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40160" y="4883040"/>
            <a:ext cx="53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7320" y="4883040"/>
            <a:ext cx="49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Time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9160" y="1433520"/>
            <a:ext cx="1780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4560" y="1357200"/>
            <a:ext cx="300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 khÈn cÊp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502160"/>
            <a:ext cx="14605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Kh«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195640"/>
            <a:ext cx="13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Quan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Arial"/>
              </a:rPr>
              <a:t>träng</a:t>
            </a:r>
            <a:endParaRPr b="0" lang="en-US" sz="2800" spc="-1" strike="noStrike">
              <a:solidFill>
                <a:srgbClr val="000000"/>
              </a:solidFill>
              <a:latin typeface=".Vn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33200"/>
            <a:ext cx="8958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.VnTime"/>
              </a:rPr>
              <a:t>Ma trËn qu¶n lý thêi gian</a:t>
            </a:r>
            <a:endParaRPr b="1" lang="en-US" sz="4800" spc="-1" strike="noStrike">
              <a:solidFill>
                <a:srgbClr val="000066"/>
              </a:solidFill>
              <a:latin typeface=".VnTi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97E2-5306-4B78-BA29-415BEA478D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1:38:42Z</dcterms:created>
  <dc:creator>Nguyen Huy Hoang</dc:creator>
  <dc:description/>
  <dc:language>en-US</dc:language>
  <cp:lastModifiedBy>Ulysses R. Gotera</cp:lastModifiedBy>
  <cp:lastPrinted>2002-10-02T00:44:12Z</cp:lastPrinted>
  <dcterms:modified xsi:type="dcterms:W3CDTF">2003-04-18T09:35:10Z</dcterms:modified>
  <cp:revision>18</cp:revision>
  <dc:subject>Presentation</dc:subject>
  <dc:title>Kü n¨ng Qu¶n lý Thêi gian</dc:title>
</cp:coreProperties>
</file>