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907588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4C36C-1B10-4373-B47B-056E01957A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85720" y="5638680"/>
            <a:ext cx="69339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85720" y="5957640"/>
            <a:ext cx="69339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6D909-953F-470B-B614-95A33A533D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85720" y="5638680"/>
            <a:ext cx="33836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8920" y="5638680"/>
            <a:ext cx="33836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85720" y="5957640"/>
            <a:ext cx="33836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8920" y="5957640"/>
            <a:ext cx="33836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2E4AD-FEE0-4F8F-92CF-35B59BBD33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85720" y="5638680"/>
            <a:ext cx="22323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30040" y="5638680"/>
            <a:ext cx="22323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5638680"/>
            <a:ext cx="22323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85720" y="5957640"/>
            <a:ext cx="22323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30040" y="5957640"/>
            <a:ext cx="22323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5957640"/>
            <a:ext cx="22323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188D8-6926-4E62-B7AF-4E0E9E386D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603F3-D505-46A5-A673-8A346F90B8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85720" y="5638680"/>
            <a:ext cx="6933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B8C5C-4D60-42A4-90D1-D23245C148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85720" y="5638680"/>
            <a:ext cx="6933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7F5AA-0A26-4BF6-86E0-FF273989DD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85720" y="5638680"/>
            <a:ext cx="33836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38920" y="5638680"/>
            <a:ext cx="33836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88CA0-DCAD-41EB-9016-F04DF2A151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E3E87-7243-41FB-911E-C69F6300AB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02960" y="1066320"/>
            <a:ext cx="9699480" cy="204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6FB31-F1E8-445B-9956-E4AB4F5979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85720" y="5638680"/>
            <a:ext cx="33836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38920" y="5638680"/>
            <a:ext cx="33836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85720" y="5957640"/>
            <a:ext cx="33836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45982-C6C4-48AB-8150-24AECEB56F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85720" y="5638680"/>
            <a:ext cx="6933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0129C-9827-43B4-9D11-603F6E2DCC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85720" y="5638680"/>
            <a:ext cx="33836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8920" y="5638680"/>
            <a:ext cx="33836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38920" y="5957640"/>
            <a:ext cx="33836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C58D4-310E-4DAD-8490-5D63BEB589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85720" y="5638680"/>
            <a:ext cx="33836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8920" y="5638680"/>
            <a:ext cx="33836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85720" y="5957640"/>
            <a:ext cx="69339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F19C2-ED0B-4BA3-B538-4CAFFFD5B5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85720" y="5638680"/>
            <a:ext cx="69339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85720" y="5957640"/>
            <a:ext cx="69339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71CC8-1EAA-42BA-9C6D-1FF78D053E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85720" y="5638680"/>
            <a:ext cx="33836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38920" y="5638680"/>
            <a:ext cx="33836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85720" y="5957640"/>
            <a:ext cx="33836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38920" y="5957640"/>
            <a:ext cx="33836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F945B-1AEC-47C6-B1ED-EB0F5267F2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85720" y="5638680"/>
            <a:ext cx="22323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30040" y="5638680"/>
            <a:ext cx="22323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4360" y="5638680"/>
            <a:ext cx="22323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85720" y="5957640"/>
            <a:ext cx="22323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30040" y="5957640"/>
            <a:ext cx="22323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4360" y="5957640"/>
            <a:ext cx="22323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2D27E-0D7D-4B92-8808-BF0270FD85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85720" y="5638680"/>
            <a:ext cx="6933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BF429-309B-4D33-934B-31BC855570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5638680"/>
            <a:ext cx="33836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8920" y="5638680"/>
            <a:ext cx="33836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38E6E-69CC-46E2-ACE4-A1B9BB445E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B4826-21FA-44CA-9E10-B90C65AE6D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2960" y="1066320"/>
            <a:ext cx="9699480" cy="204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57EDF-A224-42E7-81EC-40A7C4A4B9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85720" y="5638680"/>
            <a:ext cx="33836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8920" y="5638680"/>
            <a:ext cx="33836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85720" y="5957640"/>
            <a:ext cx="33836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14FF0-219E-4248-A2EB-43723D9DF0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85720" y="5638680"/>
            <a:ext cx="33836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8920" y="5638680"/>
            <a:ext cx="33836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8920" y="5957640"/>
            <a:ext cx="33836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65413-9646-4FCA-81FF-3C35AB4D53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85720" y="5638680"/>
            <a:ext cx="33836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8920" y="5638680"/>
            <a:ext cx="33836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85720" y="5957640"/>
            <a:ext cx="69339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614DB-BB57-4143-A9F0-ED8E590BE4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lvl="1" marL="800280" indent="-28584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.Vn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lvl="3" marL="1486080" indent="-228600">
              <a:spcBef>
                <a:spcPts val="799"/>
              </a:spcBef>
              <a:buClr>
                <a:srgbClr val="000000"/>
              </a:buClr>
              <a:buFont typeface=".Vn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lvl="4" marL="1828800" indent="-228600">
              <a:spcBef>
                <a:spcPts val="799"/>
              </a:spcBef>
              <a:buClr>
                <a:srgbClr val="000000"/>
              </a:buClr>
              <a:buFont typeface=".Vn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lvl="5" marL="1828800" indent="-228600">
              <a:spcBef>
                <a:spcPts val="799"/>
              </a:spcBef>
              <a:buClr>
                <a:srgbClr val="000000"/>
              </a:buClr>
              <a:buFont typeface=".Vn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lvl="6" marL="1828800" indent="-228600">
              <a:spcBef>
                <a:spcPts val="799"/>
              </a:spcBef>
              <a:buClr>
                <a:srgbClr val="000000"/>
              </a:buClr>
              <a:buFont typeface=".Vn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81440" y="6477120"/>
            <a:ext cx="23353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AABB-5880-4619-9637-7FA22BBC1725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93680" y="1141560"/>
            <a:ext cx="9526680" cy="144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.Vn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95400" y="138240"/>
            <a:ext cx="1054080" cy="8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66"/>
                </a:solidFill>
                <a:latin typeface=".VnTime"/>
              </a:rPr>
              <a:t>Click to edit the title text format</a:t>
            </a:r>
            <a:endParaRPr b="1" lang="en-US" sz="80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381440" y="6477120"/>
            <a:ext cx="23353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E2A7-AE84-4B84-9166-38A59DD25D8E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5400" y="138240"/>
            <a:ext cx="1054080" cy="814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.VnArial"/>
              </a:rPr>
              <a:t>Click to edit the outline text format</a:t>
            </a: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.VnArial"/>
              </a:rPr>
              <a:t>Second Outline Level</a:t>
            </a:r>
            <a:endParaRPr b="0" lang="en-US" sz="3000" spc="-1" strike="noStrike">
              <a:solidFill>
                <a:srgbClr val="000099"/>
              </a:solidFill>
              <a:latin typeface=".VnArial"/>
            </a:endParaRPr>
          </a:p>
          <a:p>
            <a:pPr lvl="2" marL="914400" algn="ctr">
              <a:spcBef>
                <a:spcPts val="700"/>
              </a:spcBef>
              <a:buClr>
                <a:srgbClr val="000099"/>
              </a:buClr>
              <a:buFont typeface=".Vn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.Vn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.VnArial"/>
            </a:endParaRPr>
          </a:p>
          <a:p>
            <a:pPr lvl="3" marL="1257480" algn="ctr">
              <a:spcBef>
                <a:spcPts val="499"/>
              </a:spcBef>
              <a:buClr>
                <a:srgbClr val="000000"/>
              </a:buClr>
              <a:buFont typeface=".Vn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.Vn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.VnArial"/>
            </a:endParaRPr>
          </a:p>
          <a:p>
            <a:pPr lvl="4" marL="1600200" algn="ctr">
              <a:spcBef>
                <a:spcPts val="499"/>
              </a:spcBef>
              <a:buClr>
                <a:srgbClr val="000000"/>
              </a:buClr>
              <a:buFont typeface=".Vn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.Vn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.VnArial"/>
            </a:endParaRPr>
          </a:p>
          <a:p>
            <a:pPr lvl="5" marL="1600200">
              <a:spcBef>
                <a:spcPts val="499"/>
              </a:spcBef>
              <a:buClr>
                <a:srgbClr val="000000"/>
              </a:buClr>
              <a:buFont typeface=".Vn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.Vn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.VnArial"/>
            </a:endParaRPr>
          </a:p>
          <a:p>
            <a:pPr lvl="6" marL="1600200">
              <a:spcBef>
                <a:spcPts val="499"/>
              </a:spcBef>
              <a:buClr>
                <a:srgbClr val="000000"/>
              </a:buClr>
              <a:buFont typeface=".Vn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.Vn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.Vn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2960" y="837720"/>
            <a:ext cx="96994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66"/>
                </a:solidFill>
                <a:latin typeface=".VnTime"/>
              </a:rPr>
              <a:t>Kü n¨ng</a:t>
            </a:r>
            <a:br>
              <a:rPr sz="9600"/>
            </a:br>
            <a:r>
              <a:rPr b="1" lang="en-US" sz="9600" spc="-1" strike="noStrike">
                <a:solidFill>
                  <a:srgbClr val="000066"/>
                </a:solidFill>
                <a:latin typeface=".VnTime"/>
              </a:rPr>
              <a:t>Qu¶n lý Thêi gian</a:t>
            </a:r>
            <a:endParaRPr b="1" lang="en-US" sz="96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47560" y="4266720"/>
            <a:ext cx="693396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.VnArial"/>
              </a:rPr>
              <a:t>Ts. Phan Quèc ViÖt</a:t>
            </a: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.VnArial"/>
              </a:rPr>
              <a:t>NguyÔn Huy Hoµng</a:t>
            </a: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.VnArial"/>
              </a:rPr>
              <a:t>CLB </a:t>
            </a:r>
            <a:r>
              <a:rPr b="1" lang="en-US" sz="3200" spc="-1" strike="noStrike">
                <a:solidFill>
                  <a:srgbClr val="ff0000"/>
                </a:solidFill>
                <a:latin typeface=".VnArial"/>
              </a:rPr>
              <a:t>T©m ViÖt</a:t>
            </a:r>
            <a:r>
              <a:rPr b="1" i="1" lang="en-US" sz="3200" spc="-1" strike="noStrike">
                <a:solidFill>
                  <a:srgbClr val="000066"/>
                </a:solidFill>
                <a:latin typeface=".VnArial"/>
              </a:rPr>
              <a:t>, 13.04.2003</a:t>
            </a: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063C6-641D-4BEC-A3A2-FC16B22D74F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013120" y="1917720"/>
            <a:ext cx="7333920" cy="4406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03920" y="1917720"/>
            <a:ext cx="0" cy="440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13120" y="4121280"/>
            <a:ext cx="733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57520" y="2673360"/>
            <a:ext cx="30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Time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55080" y="2673360"/>
            <a:ext cx="41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Time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40160" y="4883040"/>
            <a:ext cx="538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Time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57320" y="4883040"/>
            <a:ext cx="49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Time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29160" y="1433520"/>
            <a:ext cx="1780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Arial"/>
              </a:rPr>
              <a:t>KhÈn cÊp</a:t>
            </a:r>
            <a:endParaRPr b="0" lang="en-US" sz="28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34560" y="1357200"/>
            <a:ext cx="30009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Arial"/>
              </a:rPr>
              <a:t>Kh«ng khÈn cÊp</a:t>
            </a:r>
            <a:endParaRPr b="0" lang="en-US" sz="28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4502160"/>
            <a:ext cx="146052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Arial"/>
              </a:rPr>
              <a:t>Kh«ng</a:t>
            </a:r>
            <a:endParaRPr b="0" lang="en-US" sz="2800" spc="-1" strike="noStrike">
              <a:solidFill>
                <a:srgbClr val="000000"/>
              </a:solidFill>
              <a:latin typeface=".Vn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Arial"/>
              </a:rPr>
              <a:t>quan</a:t>
            </a:r>
            <a:endParaRPr b="0" lang="en-US" sz="2800" spc="-1" strike="noStrike">
              <a:solidFill>
                <a:srgbClr val="000000"/>
              </a:solidFill>
              <a:latin typeface=".Vn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Arial"/>
              </a:rPr>
              <a:t>träng</a:t>
            </a:r>
            <a:endParaRPr b="0" lang="en-US" sz="28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195640"/>
            <a:ext cx="13856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Arial"/>
              </a:rPr>
              <a:t>Quan</a:t>
            </a:r>
            <a:endParaRPr b="0" lang="en-US" sz="2800" spc="-1" strike="noStrike">
              <a:solidFill>
                <a:srgbClr val="000000"/>
              </a:solidFill>
              <a:latin typeface=".Vn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Arial"/>
              </a:rPr>
              <a:t>träng</a:t>
            </a:r>
            <a:endParaRPr b="0" lang="en-US" sz="28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Møc ®é ­u tiªn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22" name=""/>
          <p:cNvSpPr/>
          <p:nvPr/>
        </p:nvSpPr>
        <p:spPr>
          <a:xfrm>
            <a:off x="2934000" y="301608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Arial"/>
              </a:rPr>
              <a:t>Lµm ngay</a:t>
            </a:r>
            <a:endParaRPr b="0" lang="en-US" sz="28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13120" y="5143680"/>
            <a:ext cx="173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Arial"/>
              </a:rPr>
              <a:t>Giao cho </a:t>
            </a:r>
            <a:endParaRPr b="0" lang="en-US" sz="2800" spc="-1" strike="noStrike">
              <a:solidFill>
                <a:srgbClr val="000000"/>
              </a:solidFill>
              <a:latin typeface=".Vn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Arial"/>
              </a:rPr>
              <a:t>ng­êi kh¸c</a:t>
            </a:r>
            <a:endParaRPr b="0" lang="en-US" sz="28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400800" y="514368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Arial"/>
              </a:rPr>
              <a:t>ChØ lµm nÕu </a:t>
            </a:r>
            <a:endParaRPr b="0" lang="en-US" sz="2800" spc="-1" strike="noStrike">
              <a:solidFill>
                <a:srgbClr val="000000"/>
              </a:solidFill>
              <a:latin typeface=".Vn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Arial"/>
              </a:rPr>
              <a:t>cã thêi gian</a:t>
            </a:r>
            <a:endParaRPr b="0" lang="en-US" sz="28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16120" y="2933640"/>
            <a:ext cx="289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Arial"/>
              </a:rPr>
              <a:t>Lµm sau, </a:t>
            </a:r>
            <a:endParaRPr b="0" lang="en-US" sz="2800" spc="-1" strike="noStrike">
              <a:solidFill>
                <a:srgbClr val="000000"/>
              </a:solidFill>
              <a:latin typeface=".Vn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Arial"/>
              </a:rPr>
              <a:t>nh­ng kiªn quyÕt</a:t>
            </a:r>
            <a:endParaRPr b="0" lang="en-US" sz="28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F3973-6B11-465F-BDA2-00B3C59C407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Sö dông thêi gian hiÖu qu¶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79520" indent="-399960">
              <a:lnSpc>
                <a:spcPct val="23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Khung thêi gian 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379520" indent="-399960">
              <a:lnSpc>
                <a:spcPct val="23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Thêi gian vµ kh«ng gian lµ t­¬ng ®èi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379520" indent="-399960">
              <a:lnSpc>
                <a:spcPct val="23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Phót tr«i qua lµ mÊt ®i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379520" indent="-399960">
              <a:lnSpc>
                <a:spcPct val="23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Nh÷ng ®iÒu kh«ng ai lµm thay ta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2BB00-D87B-4437-A5D7-B03910D08901}" type="slidenum">
              <a:t>11</a:t>
            </a:fld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.VnTime"/>
              </a:rPr>
              <a:t>Kinh doanh thµnh c«ng lµ biÕt dïng tiÒn cña ng­êi kh¸c. </a:t>
            </a:r>
            <a:br>
              <a:rPr sz="5400"/>
            </a:br>
            <a:r>
              <a:rPr b="1" lang="en-US" sz="5400" spc="-1" strike="noStrike">
                <a:solidFill>
                  <a:srgbClr val="000066"/>
                </a:solidFill>
                <a:latin typeface=".VnTime"/>
              </a:rPr>
              <a:t>Ng­êi thµnh ®¹t lµ ng­êi biÕt giao quyÒn cho ng­êi kh¸c.</a:t>
            </a:r>
            <a:endParaRPr b="1" lang="en-US" sz="54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037D7-FFB2-40D2-A016-E4F571CFDB9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Sö dông thêi gian hiÖu qu¶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22600" indent="-400320">
              <a:lnSpc>
                <a:spcPct val="2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§Æt chuÈn cho mçi viÖc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722600" indent="-400320">
              <a:lnSpc>
                <a:spcPct val="2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ChuÈn bÞ cho c¸c cuéc häp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722600" indent="-400320">
              <a:lnSpc>
                <a:spcPct val="2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B¶o vÖ thêi gia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ED083-9B5B-4B43-B020-4D832C0E7343}" type="slidenum">
              <a:t>13</a:t>
            </a:fld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.VnTime"/>
              </a:rPr>
              <a:t>BÊt kú mét ng­êi giµu nµo còng cói xuèng nhÆt ®ång tiÒn r¬i. </a:t>
            </a:r>
            <a:br>
              <a:rPr sz="5400"/>
            </a:br>
            <a:r>
              <a:rPr b="1" lang="en-US" sz="5400" spc="-1" strike="noStrike">
                <a:solidFill>
                  <a:srgbClr val="000066"/>
                </a:solidFill>
                <a:latin typeface=".VnTime"/>
              </a:rPr>
              <a:t>T¹i sao ta ®Ó thêi gian dÔ dµng tr«i qua?</a:t>
            </a:r>
            <a:endParaRPr b="1" lang="en-US" sz="54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13099-0DDA-4EC8-BA53-853D5523C23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Qu¶n lý thêi gian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Gi¸ trÞ cña thêi gia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.VnArial"/>
              </a:rPr>
              <a:t>KÎ ®¸nh c¾p thêi gia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NghÖ thuËt tõ chèi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LËp thêi gian biÓu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LËp kÕ ho¹ch dµi h¹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0A6EB-D769-454E-A6D8-AC536AB7435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66"/>
                </a:solidFill>
                <a:latin typeface=".VnTime"/>
              </a:rPr>
              <a:t>Ta cã ®ång t×nh víi nh÷ng ng­êi mãc vÝ cña ta kh«ng?</a:t>
            </a:r>
            <a:endParaRPr b="1" lang="en-US" sz="8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6B945-10C8-4C3F-96DB-5F1A1C27A35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Nh÷ng kÎ ®¸nh c¾p thêi gian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240" indent="-400320">
              <a:lnSpc>
                <a:spcPct val="23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NhËn biÕt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23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Nh÷ng lêi nãi dèi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23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Nh÷ng c¸i bÉy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23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C¸ch ®èi phã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2BC7F-06B1-4F6A-A965-74DAD8657A30}" type="slidenum">
              <a:t>17</a:t>
            </a:fld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NhËn biÕt kÎ ®¸nh c¾p thêi gian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32080" indent="-400320">
              <a:lnSpc>
                <a:spcPct val="16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C¸ch nhËn biÕt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432080" indent="-400320">
              <a:lnSpc>
                <a:spcPct val="16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Cã thÓ lµ: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lvl="1" marL="2638440" indent="-285840">
              <a:lnSpc>
                <a:spcPct val="16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.VnArial"/>
              </a:rPr>
              <a:t>§ång nghiÖp</a:t>
            </a:r>
            <a:endParaRPr b="0" lang="en-US" sz="3000" spc="-1" strike="noStrike">
              <a:solidFill>
                <a:srgbClr val="000099"/>
              </a:solidFill>
              <a:latin typeface=".VnArial"/>
            </a:endParaRPr>
          </a:p>
          <a:p>
            <a:pPr lvl="1" marL="2638440" indent="-285840">
              <a:lnSpc>
                <a:spcPct val="16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.VnArial"/>
              </a:rPr>
              <a:t>Kh¸ch hµng</a:t>
            </a:r>
            <a:endParaRPr b="0" lang="en-US" sz="3000" spc="-1" strike="noStrike">
              <a:solidFill>
                <a:srgbClr val="000099"/>
              </a:solidFill>
              <a:latin typeface=".VnArial"/>
            </a:endParaRPr>
          </a:p>
          <a:p>
            <a:pPr lvl="1" marL="2638440" indent="-285840">
              <a:lnSpc>
                <a:spcPct val="16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.VnArial"/>
              </a:rPr>
              <a:t>Thµnh viªn gia ®×nh</a:t>
            </a:r>
            <a:endParaRPr b="0" lang="en-US" sz="3000" spc="-1" strike="noStrike">
              <a:solidFill>
                <a:srgbClr val="000099"/>
              </a:solidFill>
              <a:latin typeface=".VnArial"/>
            </a:endParaRPr>
          </a:p>
          <a:p>
            <a:pPr lvl="1" marL="2638440" indent="-285840">
              <a:lnSpc>
                <a:spcPct val="16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.VnArial"/>
              </a:rPr>
              <a:t>B¹n bÌ...</a:t>
            </a:r>
            <a:endParaRPr b="0" lang="en-US" sz="3000" spc="-1" strike="noStrike">
              <a:solidFill>
                <a:srgbClr val="000099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BE67D-EA10-4169-8DB9-25DCDF60B15D}" type="slidenum">
              <a:t>18</a:t>
            </a:fld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.VnTime"/>
              </a:rPr>
              <a:t>Kh«ng ai muèn chÞu mÊt m¸t mét m×nh, hä lu«n kÐo ng­êi kh¸c cïng l·ng phÝ thêi gian.</a:t>
            </a:r>
            <a:endParaRPr b="1" lang="en-US" sz="54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FEE44-A276-455C-BEE3-CACC3607038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66"/>
                </a:solidFill>
                <a:latin typeface=".VnTime"/>
              </a:rPr>
              <a:t>Thêi gian lµ Vµng.</a:t>
            </a:r>
            <a:br>
              <a:rPr sz="7200"/>
            </a:br>
            <a:r>
              <a:rPr b="1" lang="en-US" sz="7200" spc="-1" strike="noStrike">
                <a:solidFill>
                  <a:srgbClr val="000066"/>
                </a:solidFill>
                <a:latin typeface=".VnTime"/>
              </a:rPr>
              <a:t>Thêi gian lµ cuéc sèng.</a:t>
            </a:r>
            <a:endParaRPr b="1" lang="en-US" sz="72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70368-C604-4697-9623-32F94C6495C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Nh÷ng lêi nãi dèi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618920" indent="-37620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Xin lçi, t«i ®Õn muén.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618920" indent="-37620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T«i kh«ng bao giê ®Õn muén, h«m nay...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618920" indent="-37620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T«i ®ang ®Þnh ®Õn chç anh...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618920" indent="-37620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T«i sÏ gäi l¹i cho b¹n ngay.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618920" indent="-37620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T«i hy väng kh«ng ®Õn muén.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3031D-F388-4784-AF75-7FFF4629DD98}" type="slidenum">
              <a:t>20</a:t>
            </a:fld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Nh÷ng lêi nãi dèi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2260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T«i cã thÓ ®Õn muén mét phót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72260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T«i ®· nghÜ nhiÒu vÒ ®iÒu ®ã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72260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T«i bËn kinh khñng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72260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Cø tin ë t«i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72260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T«i sÏ kh«ng kÐo dµi ®©u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9485F-A44B-484D-BB63-A0A11B843349}" type="slidenum">
              <a:t>21</a:t>
            </a:fld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Nh÷ng c¸i bÉy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67920" indent="-367920">
              <a:lnSpc>
                <a:spcPct val="19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Kh«ng bao giê hoµn thµnh c«ng viÖc ®óng lóc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367920" indent="-367920">
              <a:lnSpc>
                <a:spcPct val="19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§Ó ng­êi kh¸c ®îi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367920" indent="-367920">
              <a:lnSpc>
                <a:spcPct val="19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Kh«ng dµnh ®ñ thêi gian cho c«ng viÖc trong lÞch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367920" indent="-367920">
              <a:lnSpc>
                <a:spcPct val="19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Khuyªn nhñ kh«ng cã t¸c dông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367920" indent="-367920">
              <a:lnSpc>
                <a:spcPct val="19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Yªu cÇu gi¶i thÝch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F2063-1DCB-4A60-A4F6-F923D6646862}" type="slidenum">
              <a:t>22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.VnTime"/>
              </a:rPr>
              <a:t>Tin, nh­ng kiÓm tra ®Ó tin h¬n.</a:t>
            </a:r>
            <a:br>
              <a:rPr sz="5400"/>
            </a:br>
            <a:r>
              <a:rPr b="1" lang="en-US" sz="5400" spc="-1" strike="noStrike">
                <a:solidFill>
                  <a:srgbClr val="000066"/>
                </a:solidFill>
                <a:latin typeface=".VnTime"/>
              </a:rPr>
              <a:t>T«i ch­a bao giê tin t«i c¶.</a:t>
            </a:r>
            <a:endParaRPr b="1" lang="en-US" sz="54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485720" y="5638680"/>
            <a:ext cx="6933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5BB6B-98BA-4C1F-9D54-BC2C78FD466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C¸ch ®èi phã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57440" indent="-399960">
              <a:lnSpc>
                <a:spcPct val="21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HiÓu biÕt ®éng c¬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657440" indent="-399960">
              <a:lnSpc>
                <a:spcPct val="21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§õng bao giê chÞu thua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657440" indent="-399960">
              <a:lnSpc>
                <a:spcPct val="21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§õng kú väng nh÷ng ®iÒu v« lý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657440" indent="-399960">
              <a:lnSpc>
                <a:spcPct val="21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H·y ®ãng cöa l¹i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4AD21-CC97-47D3-B77C-CCA17A9AB105}" type="slidenum">
              <a:t>24</a:t>
            </a:fld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66"/>
                </a:solidFill>
                <a:latin typeface=".VnTime"/>
              </a:rPr>
              <a:t>B¹n ®Õn hay kh«ng th× m¸y bay vÉn cÊt c¸nh</a:t>
            </a:r>
            <a:endParaRPr b="1" lang="en-US" sz="72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F2CC8-45C3-4B91-9F6F-1FF3DFAFA25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Qu¶n lý thêi gian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Gi¸ trÞ cña thêi gia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KÎ ®¸nh c¾p thêi gia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.VnArial"/>
              </a:rPr>
              <a:t>NghÖ thuËt tõ chèi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LËp thêi gian biÓu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LËp kÕ ho¹ch dµi h¹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A0AB1-D538-4253-9E1E-1909736D59F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66"/>
                </a:solidFill>
                <a:latin typeface=".VnTime"/>
              </a:rPr>
              <a:t>Kh«n ngoan ch¼ng lä thËt thµ.</a:t>
            </a:r>
            <a:br>
              <a:rPr sz="4800"/>
            </a:br>
            <a:endParaRPr b="1" lang="en-US" sz="72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AE708-5877-460E-AC73-9F05C2F3129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NghÖ thuËt tõ chèi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92480" indent="-400320">
              <a:lnSpc>
                <a:spcPct val="22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T¹i sao ph¶i nãi “kh«ng”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292480" indent="-400320">
              <a:lnSpc>
                <a:spcPct val="22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C¸c lo¹i “kh«ng”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292480" indent="-400320">
              <a:lnSpc>
                <a:spcPct val="22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Khi nµo nãi “kh«ng”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292480" indent="-400320">
              <a:lnSpc>
                <a:spcPct val="22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C¸c c¸ch nãi “kh«ng”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F878C-D0F8-4093-A1E6-D058873109FA}" type="slidenum">
              <a:t>28</a:t>
            </a:fld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T¹i sao ph¶i nãi “kh«ng”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5840" indent="-399960">
              <a:lnSpc>
                <a:spcPct val="19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Kh«ng thÓ nãi “cã” mäi lóc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915840" indent="-399960">
              <a:lnSpc>
                <a:spcPct val="19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Thay v× “®Ó lóc kh¸c”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915840" indent="-399960">
              <a:lnSpc>
                <a:spcPct val="19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Kh«ng nãi “kh«ng” v×: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lvl="1" marL="1316160" indent="-285840">
              <a:lnSpc>
                <a:spcPct val="19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.VnArial"/>
              </a:rPr>
              <a:t>Kh«ng suy nghÜ kü</a:t>
            </a:r>
            <a:endParaRPr b="0" lang="en-US" sz="3000" spc="-1" strike="noStrike">
              <a:solidFill>
                <a:srgbClr val="000099"/>
              </a:solidFill>
              <a:latin typeface=".VnArial"/>
            </a:endParaRPr>
          </a:p>
          <a:p>
            <a:pPr lvl="1" marL="1316160" indent="-285840">
              <a:lnSpc>
                <a:spcPct val="19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.VnArial"/>
              </a:rPr>
              <a:t>Kh«ng muèn lµm phËt lßng ng­êi kh¸c</a:t>
            </a:r>
            <a:endParaRPr b="0" lang="en-US" sz="3000" spc="-1" strike="noStrike">
              <a:solidFill>
                <a:srgbClr val="000099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794B7-8D9F-47E4-8E17-80D1988FC501}" type="slidenum">
              <a:t>29</a:t>
            </a:fld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Qu¶n lý thêi gian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Gi¸ trÞ cña thêi gia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KÎ ®¸nh c¾p thêi gia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NghÖ thuËt tõ chèi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LËp thêi gian biÓu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LËp kÕ ho¹ch dµi h¹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EF7BC-71A6-4B70-8FC9-71BCA9AF8F9E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66"/>
                </a:solidFill>
                <a:latin typeface=".VnTime"/>
              </a:rPr>
              <a:t>BÖnh sÜ!</a:t>
            </a:r>
            <a:endParaRPr b="1" lang="en-US" sz="129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283CB-B897-455D-BC2D-D741076DBB3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C¸c lo¹i “kh«ng”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9120" indent="-367920">
              <a:lnSpc>
                <a:spcPct val="23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“</a:t>
            </a: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Kh«ng” cho nh÷ng c©u hái thùc tÕ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429120" indent="-367920">
              <a:lnSpc>
                <a:spcPct val="23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“</a:t>
            </a: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Kh«ng” khi ng­êi hái ®· nghÜ ®Õn c©u tr¶ lêi ®ã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429120" indent="-367920">
              <a:lnSpc>
                <a:spcPct val="23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“</a:t>
            </a: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Kh«ng” theo ph¶n øng cña ng­êi tr¶ lêi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429120" indent="-367920">
              <a:lnSpc>
                <a:spcPct val="23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“</a:t>
            </a: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Kh«ng” ®Ó tõ chèi mét yªu cÇu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48776-F1C9-49E6-8301-A81EA2842928}" type="slidenum">
              <a:t>31</a:t>
            </a:fld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66"/>
                </a:solidFill>
                <a:latin typeface=".VnTime"/>
              </a:rPr>
              <a:t>Kh«ng lµm còng ®­îc kh«ng lµm.</a:t>
            </a:r>
            <a:endParaRPr b="1" lang="en-US" sz="80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485720" y="5638680"/>
            <a:ext cx="6933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C4E76-0DF1-47FC-8115-DCC714BFCCD2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Khi nµo nãi “kh«ng”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90480" indent="-399960">
              <a:lnSpc>
                <a:spcPct val="23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Kh«ng cã kh¶ n¨ng vµ t­ c¸ch ®Ó lµm viÖc ®ã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690480" indent="-399960">
              <a:lnSpc>
                <a:spcPct val="23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Kh«ng cã thêi gian cho viÖc ®ã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690480" indent="-399960">
              <a:lnSpc>
                <a:spcPct val="23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Kh«ng muèn lµm viÖc ®ã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690480" indent="-399960">
              <a:lnSpc>
                <a:spcPct val="23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Kh«ng ®Ó l¹i hËu qu¶ xÊu?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32DAD-CE86-4F44-B49E-60E74A72A035}" type="slidenum">
              <a:t>33</a:t>
            </a:fld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2960" y="0"/>
            <a:ext cx="9699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66"/>
                </a:solidFill>
                <a:latin typeface=".VnTime"/>
              </a:rPr>
              <a:t>ThËt thµ lµ cha xá l¸.</a:t>
            </a:r>
            <a:endParaRPr b="1" lang="en-US" sz="80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21DBF-3E84-44E4-8286-24815C5EAD2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C¸ch nãi “kh«ng”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9120" indent="-399960">
              <a:lnSpc>
                <a:spcPct val="19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Xin lçi, t«i kh«ng thÓ lµm thÕ ngay b©y giê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519120" indent="-399960">
              <a:lnSpc>
                <a:spcPct val="19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ChÞu thua vÊn ®Ò ®ã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519120" indent="-399960">
              <a:lnSpc>
                <a:spcPct val="19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C¶m ¬n ®· tin t«i, nh­ng t«i kh«ng thÓ gióp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519120" indent="-399960">
              <a:lnSpc>
                <a:spcPct val="19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Ng­êi kh¸c cã thÓ gióp b¹n nhiÒu h¬n t«i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519120" indent="-399960">
              <a:lnSpc>
                <a:spcPct val="19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Cã thÓ sau nµy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01E0A-A452-41B1-99B5-3B6CE416F0DA}" type="slidenum">
              <a:t>35</a:t>
            </a:fld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66"/>
                </a:solidFill>
                <a:latin typeface=".VnTime"/>
              </a:rPr>
              <a:t>Nãi gÇn, nãi xa,</a:t>
            </a:r>
            <a:br>
              <a:rPr sz="8800"/>
            </a:br>
            <a:r>
              <a:rPr b="1" lang="en-US" sz="8800" spc="-1" strike="noStrike">
                <a:solidFill>
                  <a:srgbClr val="000066"/>
                </a:solidFill>
                <a:latin typeface=".VnTime"/>
              </a:rPr>
              <a:t>ch¼ng qua nãi thËt</a:t>
            </a: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.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89803-8356-4101-A18F-DAB3612D68BB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Qu¶n lý thêi gian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Gi¸ trÞ cña thêi gia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KÎ ®¸nh c¾p thêi gia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NghÖ thuËt tõ chèi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.VnArial"/>
              </a:rPr>
              <a:t>LËp thêi gian biÓu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LËp kÕ ho¹ch dµi h¹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4FB3F-93EA-4B89-8C30-84F3FB397903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.VnTime"/>
              </a:rPr>
              <a:t>Kh«ng lËp kÕ ho¹ch lµ</a:t>
            </a:r>
            <a:br>
              <a:rPr sz="6600"/>
            </a:br>
            <a:r>
              <a:rPr b="1" lang="en-US" sz="6600" spc="-1" strike="noStrike">
                <a:solidFill>
                  <a:srgbClr val="000066"/>
                </a:solidFill>
                <a:latin typeface=".VnTime"/>
              </a:rPr>
              <a:t>lËp kÕ ho¹ch cho thÊt b¹i.</a:t>
            </a:r>
            <a:endParaRPr b="1" lang="en-US" sz="66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485720" y="5638680"/>
            <a:ext cx="6933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4905C-2853-47E3-882A-D6946638DE35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LËp thêi gian biÓu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03440" indent="-399960">
              <a:lnSpc>
                <a:spcPct val="23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Thùc tr¹ng lËp thêi gian biÓu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603440" indent="-399960">
              <a:lnSpc>
                <a:spcPct val="23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Thêi gian biÓu hay b¶ng kª ®Çu viÖc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603440" indent="-399960">
              <a:lnSpc>
                <a:spcPct val="23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Ba lo¹i thêi gian biÓu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603440" indent="-399960">
              <a:lnSpc>
                <a:spcPct val="23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Kü n¨ng lËp thêi gian biÓu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3411C-C574-4911-8691-81C748E0D59D}" type="slidenum">
              <a:t>39</a:t>
            </a:fld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Qu¶n lý thêi gian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.VnArial"/>
              </a:rPr>
              <a:t>Gi¸ trÞ cña thêi gia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KÎ ®¸nh c¾p thêi gia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NghÖ thuËt tõ chèi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LËp thêi gian biÓu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LËp kÕ ho¹ch dµi h¹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85BDD-23C5-45B1-BACF-BC8A0E194344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B¶ng kª ®Çu viÖc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173320" indent="-399960">
              <a:lnSpc>
                <a:spcPct val="20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B¶ng kª ®Çu viÖc: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lvl="1" marL="2573280" indent="-285840">
              <a:lnSpc>
                <a:spcPct val="2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.VnArial"/>
              </a:rPr>
              <a:t>Kh«ng cÊu tróc</a:t>
            </a:r>
            <a:endParaRPr b="0" lang="en-US" sz="3000" spc="-1" strike="noStrike">
              <a:solidFill>
                <a:srgbClr val="000099"/>
              </a:solidFill>
              <a:latin typeface=".VnArial"/>
            </a:endParaRPr>
          </a:p>
          <a:p>
            <a:pPr lvl="1" marL="2573280" indent="-285840">
              <a:lnSpc>
                <a:spcPct val="2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.VnArial"/>
              </a:rPr>
              <a:t>Kh«ng giíi h¹n thêi gian</a:t>
            </a:r>
            <a:endParaRPr b="0" lang="en-US" sz="3000" spc="-1" strike="noStrike">
              <a:solidFill>
                <a:srgbClr val="000099"/>
              </a:solidFill>
              <a:latin typeface=".VnArial"/>
            </a:endParaRPr>
          </a:p>
          <a:p>
            <a:pPr lvl="1" marL="2573280" indent="-285840">
              <a:lnSpc>
                <a:spcPct val="2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.VnArial"/>
              </a:rPr>
              <a:t>Kh«ng cã thø tù ­u tiªn</a:t>
            </a:r>
            <a:endParaRPr b="0" lang="en-US" sz="3000" spc="-1" strike="noStrike">
              <a:solidFill>
                <a:srgbClr val="000099"/>
              </a:solidFill>
              <a:latin typeface=".VnArial"/>
            </a:endParaRPr>
          </a:p>
          <a:p>
            <a:pPr lvl="1" marL="2573280" indent="-285840">
              <a:lnSpc>
                <a:spcPct val="2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.VnArial"/>
              </a:rPr>
              <a:t>Kh«ng chi tiÕt</a:t>
            </a:r>
            <a:endParaRPr b="0" lang="en-US" sz="3000" spc="-1" strike="noStrike">
              <a:solidFill>
                <a:srgbClr val="000099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DC475-C1B8-4597-BF6A-C3F71A79ACDD}" type="slidenum">
              <a:t>40</a:t>
            </a:fld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Thêi gian biÓu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47960" indent="-400320">
              <a:lnSpc>
                <a:spcPct val="20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Thêi gian biÓu: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lvl="1" marL="2347920" indent="-285840">
              <a:lnSpc>
                <a:spcPct val="2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.VnArial"/>
              </a:rPr>
              <a:t>CÊu tróc theo thêi gian</a:t>
            </a:r>
            <a:endParaRPr b="0" lang="en-US" sz="3000" spc="-1" strike="noStrike">
              <a:solidFill>
                <a:srgbClr val="000099"/>
              </a:solidFill>
              <a:latin typeface=".VnArial"/>
            </a:endParaRPr>
          </a:p>
          <a:p>
            <a:pPr lvl="1" marL="2347920" indent="-285840">
              <a:lnSpc>
                <a:spcPct val="2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.VnArial"/>
              </a:rPr>
              <a:t>Thêi gian hoµn thµnh</a:t>
            </a:r>
            <a:endParaRPr b="0" lang="en-US" sz="3000" spc="-1" strike="noStrike">
              <a:solidFill>
                <a:srgbClr val="000099"/>
              </a:solidFill>
              <a:latin typeface=".VnArial"/>
            </a:endParaRPr>
          </a:p>
          <a:p>
            <a:pPr lvl="1" marL="2347920" indent="-285840">
              <a:lnSpc>
                <a:spcPct val="2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.VnArial"/>
              </a:rPr>
              <a:t>Thø tù ­u tiªn</a:t>
            </a:r>
            <a:endParaRPr b="0" lang="en-US" sz="3000" spc="-1" strike="noStrike">
              <a:solidFill>
                <a:srgbClr val="000099"/>
              </a:solidFill>
              <a:latin typeface=".VnArial"/>
            </a:endParaRPr>
          </a:p>
          <a:p>
            <a:pPr lvl="1" marL="2347920" indent="-285840">
              <a:lnSpc>
                <a:spcPct val="2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.VnArial"/>
              </a:rPr>
              <a:t>Chi tiÕt, cô thÓ</a:t>
            </a:r>
            <a:endParaRPr b="0" lang="en-US" sz="3000" spc="-1" strike="noStrike">
              <a:solidFill>
                <a:srgbClr val="000099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CB167-82CF-4BBC-BFB0-32CA42A4F957}" type="slidenum">
              <a:t>41</a:t>
            </a:fld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Ba lo¹i thêi gian biÓu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68400" indent="-399960">
              <a:lnSpc>
                <a:spcPct val="16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L¹c quan tÕu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lvl="1" marL="1368360" indent="-285840">
              <a:lnSpc>
                <a:spcPct val="16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.VnArial"/>
              </a:rPr>
              <a:t>Qu¸ Ýt thêi gian ®Ó thùc hiÖn c«ng viÖc</a:t>
            </a:r>
            <a:endParaRPr b="0" lang="en-US" sz="3000" spc="-1" strike="noStrike">
              <a:solidFill>
                <a:srgbClr val="000099"/>
              </a:solidFill>
              <a:latin typeface=".VnArial"/>
            </a:endParaRPr>
          </a:p>
          <a:p>
            <a:pPr marL="968400" indent="-399960">
              <a:lnSpc>
                <a:spcPct val="16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Bi qua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lvl="1" marL="1368360" indent="-285840">
              <a:lnSpc>
                <a:spcPct val="16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.VnArial"/>
              </a:rPr>
              <a:t>Qu¸ nhiÒu thêi gian dµnh cho mét viÖc</a:t>
            </a:r>
            <a:endParaRPr b="0" lang="en-US" sz="3000" spc="-1" strike="noStrike">
              <a:solidFill>
                <a:srgbClr val="000099"/>
              </a:solidFill>
              <a:latin typeface=".VnArial"/>
            </a:endParaRPr>
          </a:p>
          <a:p>
            <a:pPr marL="968400" indent="-399960">
              <a:lnSpc>
                <a:spcPct val="16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Thùc tÕ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lvl="1" marL="1368360" indent="-285840">
              <a:lnSpc>
                <a:spcPct val="16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.VnArial"/>
              </a:rPr>
              <a:t>Dµnh võa ®ñ thêi gian cho viÖc cô thÓ</a:t>
            </a:r>
            <a:endParaRPr b="0" lang="en-US" sz="3000" spc="-1" strike="noStrike">
              <a:solidFill>
                <a:srgbClr val="000099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A74F6-A117-4775-B423-6B072BCA426E}" type="slidenum">
              <a:t>42</a:t>
            </a:fld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Thêi gian biÓu thùc tÕ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79800" indent="-379800">
              <a:lnSpc>
                <a:spcPct val="15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H"/>
              </a:rPr>
              <a:t>Ê</a:t>
            </a: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n ®Þnh thêi gian cho c¸c ho¹t ®éng th«ng th­êng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379800" indent="-379800">
              <a:lnSpc>
                <a:spcPct val="15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H×nh dung ra c¸c chi tiÕt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379800" indent="-379800">
              <a:lnSpc>
                <a:spcPct val="15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KÕt hîp c¸c ho¹t ®éng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379800" indent="-379800">
              <a:lnSpc>
                <a:spcPct val="15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§Æt h¹n chÕ thêi gia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379800" indent="-379800">
              <a:lnSpc>
                <a:spcPct val="15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LËp lÞch mäi viÖc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379800" indent="-379800">
              <a:lnSpc>
                <a:spcPct val="15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LËp lÞch cho viÖc ®ét xuÊt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8D84D-C0E9-4ECD-85D3-1F499096D57F}" type="slidenum">
              <a:t>43</a:t>
            </a:fld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Kü n¨ng lËp thêi gian biÓu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6240" indent="-399960">
              <a:lnSpc>
                <a:spcPct val="16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Giê quan träng nhÊt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lvl="1" marL="2176560" indent="-285840">
              <a:lnSpc>
                <a:spcPct val="16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.VnArial"/>
              </a:rPr>
              <a:t>C¾t bít ®i mét viÖc</a:t>
            </a:r>
            <a:endParaRPr b="0" lang="en-US" sz="3000" spc="-1" strike="noStrike">
              <a:solidFill>
                <a:srgbClr val="000099"/>
              </a:solidFill>
              <a:latin typeface=".VnArial"/>
            </a:endParaRPr>
          </a:p>
          <a:p>
            <a:pPr lvl="1" marL="2176560" indent="-285840">
              <a:lnSpc>
                <a:spcPct val="16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.VnArial"/>
              </a:rPr>
              <a:t>Thªm mét giê buæi s¸ng</a:t>
            </a:r>
            <a:endParaRPr b="0" lang="en-US" sz="3000" spc="-1" strike="noStrike">
              <a:solidFill>
                <a:srgbClr val="000099"/>
              </a:solidFill>
              <a:latin typeface=".VnArial"/>
            </a:endParaRPr>
          </a:p>
          <a:p>
            <a:pPr lvl="1" marL="2176560" indent="-285840">
              <a:lnSpc>
                <a:spcPct val="16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.VnArial"/>
              </a:rPr>
              <a:t>§õng vËt lén víi chã con</a:t>
            </a:r>
            <a:endParaRPr b="0" lang="en-US" sz="3000" spc="-1" strike="noStrike">
              <a:solidFill>
                <a:srgbClr val="000099"/>
              </a:solidFill>
              <a:latin typeface=".VnArial"/>
            </a:endParaRPr>
          </a:p>
          <a:p>
            <a:pPr lvl="1" marL="2176560" indent="-285840">
              <a:lnSpc>
                <a:spcPct val="16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.VnArial"/>
              </a:rPr>
              <a:t>ChØ chÊp nhËn nh÷ng tin ng¾n</a:t>
            </a:r>
            <a:endParaRPr b="0" lang="en-US" sz="3000" spc="-1" strike="noStrike">
              <a:solidFill>
                <a:srgbClr val="000099"/>
              </a:solidFill>
              <a:latin typeface=".VnArial"/>
            </a:endParaRPr>
          </a:p>
          <a:p>
            <a:pPr lvl="1" marL="2176560" indent="-285840">
              <a:lnSpc>
                <a:spcPct val="16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.VnArial"/>
              </a:rPr>
              <a:t>Kh«ng kiÓm tra kÐp</a:t>
            </a:r>
            <a:endParaRPr b="0" lang="en-US" sz="3000" spc="-1" strike="noStrike">
              <a:solidFill>
                <a:srgbClr val="000099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8F267-1182-4555-B5EE-8804456BAAEF}" type="slidenum">
              <a:t>44</a:t>
            </a:fld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.VnTime"/>
              </a:rPr>
              <a:t>Lóc thiÕu tiÒn ta tiªu pha rÊt chi ly. NÕu ta sö dông thêi gian nh­ tiªu tiÒn ch¾c kh«ng bao giê ta nghÌo</a:t>
            </a:r>
            <a:r>
              <a:rPr b="1" lang="en-US" sz="6600" spc="-1" strike="noStrike">
                <a:solidFill>
                  <a:srgbClr val="000066"/>
                </a:solidFill>
                <a:latin typeface=".VnTime"/>
              </a:rPr>
              <a:t>.</a:t>
            </a:r>
            <a:endParaRPr b="1" lang="en-US" sz="66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5476B-C199-4158-A4DA-DED2C7E46A8C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Kü n¨ng lËp thêi gian biÓu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4480" indent="-399960">
              <a:lnSpc>
                <a:spcPct val="23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S¾p xÕp th­ tù ­u tiª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744480" indent="-399960">
              <a:lnSpc>
                <a:spcPct val="23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Lµm cho quyÓn lÞch quan träng nh­ ®ång hå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744480" indent="-399960">
              <a:lnSpc>
                <a:spcPct val="23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Ho¹ch ®Þnh ngµy thø t­ tr­íc ngµy thø ba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744480" indent="-399960">
              <a:lnSpc>
                <a:spcPct val="23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Tu©n thñ lÞch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BB0C2-3004-4667-AC12-9F6EFB0ECE19}" type="slidenum">
              <a:t>46</a:t>
            </a:fld>
          </a:p>
        </p:txBody>
      </p:sp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.VnTime"/>
              </a:rPr>
              <a:t>Thµnh c«ng lín víi b­íc nhá</a:t>
            </a:r>
            <a:br>
              <a:rPr sz="6000"/>
            </a:br>
            <a:r>
              <a:rPr b="1" lang="en-US" sz="6000" spc="-1" strike="noStrike">
                <a:solidFill>
                  <a:srgbClr val="000066"/>
                </a:solidFill>
                <a:latin typeface=".VnTime"/>
              </a:rPr>
              <a:t>h¬n lµ</a:t>
            </a:r>
            <a:br>
              <a:rPr sz="6000"/>
            </a:br>
            <a:r>
              <a:rPr b="1" lang="en-US" sz="6000" spc="-1" strike="noStrike">
                <a:solidFill>
                  <a:srgbClr val="000066"/>
                </a:solidFill>
                <a:latin typeface=".VnTime"/>
              </a:rPr>
              <a:t>thµnh c«ng nhá víi b­íc lín</a:t>
            </a:r>
            <a:r>
              <a:rPr b="1" lang="en-US" sz="6600" spc="-1" strike="noStrike">
                <a:solidFill>
                  <a:srgbClr val="000066"/>
                </a:solidFill>
                <a:latin typeface=".VnTime"/>
              </a:rPr>
              <a:t>.</a:t>
            </a:r>
            <a:endParaRPr b="1" lang="en-US" sz="66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85720" y="5638680"/>
            <a:ext cx="6933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F5794-F904-49D0-AF5F-438DCA002CA2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Qu¶n lý thêi gian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Gi¸ trÞ cña thêi gia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KÎ ®¸nh c¾p thêi gia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NghÖ thuËt tõ chèi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LËp thêi gian biÓu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.VnArial"/>
              </a:rPr>
              <a:t>LËp kÕ ho¹ch dµi h¹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F2F9A-B59A-4620-980E-AD1251784EBE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66"/>
                </a:solidFill>
                <a:latin typeface=".VnTime"/>
              </a:rPr>
              <a:t>ViÖc g× còng gÊp th× hiÖu qu¶ thÊp</a:t>
            </a:r>
            <a:br>
              <a:rPr sz="5000"/>
            </a:br>
            <a:br>
              <a:rPr sz="5000"/>
            </a:br>
            <a:r>
              <a:rPr b="1" lang="en-US" sz="5000" spc="-1" strike="noStrike">
                <a:solidFill>
                  <a:srgbClr val="000066"/>
                </a:solidFill>
                <a:latin typeface=".VnTime"/>
              </a:rPr>
              <a:t>ViÖc g× còng véi th× mÊt hÕt c¬ héi</a:t>
            </a:r>
            <a:endParaRPr b="1" lang="en-US" sz="50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485720" y="5638680"/>
            <a:ext cx="6933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512DD-1E03-4BE5-A714-F332A7850905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HiÖn tr¹ng qu¶n lý thêi gian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040" indent="-399960">
              <a:lnSpc>
                <a:spcPct val="29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Thêi gian lµm viÖc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570040" indent="-399960">
              <a:lnSpc>
                <a:spcPct val="29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Thêi gian cho gia ®×nh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570040" indent="-399960">
              <a:lnSpc>
                <a:spcPct val="29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Thêi gian biÓu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DA424-2658-44D3-9DA1-78E54D7E2402}" type="slidenum">
              <a:t>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KÕ ho¹ch dµi h¹n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35000" indent="-399960">
              <a:lnSpc>
                <a:spcPct val="22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Nh÷ng kÕt qu¶ mµ ta muè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035000" indent="-399960">
              <a:lnSpc>
                <a:spcPct val="22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Khung thêi gian cho kÕ ho¹ch dµi h¹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035000" indent="-399960">
              <a:lnSpc>
                <a:spcPct val="22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Nh÷ng nhiÖm vô cô thÓ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035000" indent="-399960">
              <a:lnSpc>
                <a:spcPct val="22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H×nh dung ta ®· ®¹t ®­îc kÕ ho¹ch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33CC4-19F7-4E50-AA45-612D250C60F9}" type="slidenum">
              <a:t>50</a:t>
            </a:fld>
          </a:p>
        </p:txBody>
      </p:sp>
    </p:spTree>
  </p:cSld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KÕ ho¹ch dµi h¹n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ChØ ra môc tiªu vµ chiÕn l­îc thùc hiÖ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399960" indent="-399960"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Ph©n lo¹i môc tiªu theo thêi h¹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676520" y="2487600"/>
          <a:ext cx="6521400" cy="3989520"/>
        </p:xfrm>
        <a:graphic>
          <a:graphicData uri="http://schemas.openxmlformats.org/drawingml/2006/table">
            <a:tbl>
              <a:tblPr/>
              <a:tblGrid>
                <a:gridCol w="3797280"/>
                <a:gridCol w="2724120"/>
              </a:tblGrid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66"/>
                          </a:solidFill>
                          <a:latin typeface=".VnArial"/>
                        </a:rPr>
                        <a:t>Lo¹i môc tiª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.Vn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66"/>
                          </a:solidFill>
                          <a:latin typeface=".VnArial"/>
                        </a:rPr>
                        <a:t>Thêi h¹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.Vn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.VnArial"/>
                        </a:rPr>
                        <a:t>TÇm nh×n (Visio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.Vn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.VnArial"/>
                        </a:rPr>
                        <a:t>V« h¹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.Vn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.VnArial"/>
                        </a:rPr>
                        <a:t>Sø mÖnh (Missio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.Vn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.VnArial"/>
                        </a:rPr>
                        <a:t>10 n¨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.Vn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.VnArial"/>
                        </a:rPr>
                        <a:t>Môc ®Ých (Goa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.Vn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.VnArial"/>
                        </a:rPr>
                        <a:t>Vµi n¨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.Vn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.VnArial"/>
                        </a:rPr>
                        <a:t>Môc tiªu (Objectiv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.Vn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.VnArial"/>
                        </a:rPr>
                        <a:t>N¨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.Vn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.VnArial"/>
                        </a:rPr>
                        <a:t>ChØ tiªu (Targe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.Vn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.VnArial"/>
                        </a:rPr>
                        <a:t>Th¸ng/ Qu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.Vn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.VnArial"/>
                        </a:rPr>
                        <a:t>C«ng t¸c (Task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.Vn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.VnArial"/>
                        </a:rPr>
                        <a:t>Ngµy/ TuÇ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.Vn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C0474-D42D-47FB-BB54-49938D8B2EEE}" type="slidenum">
              <a:t>51</a:t>
            </a:fld>
          </a:p>
        </p:txBody>
      </p: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LËp kÕ ho¹ch vµ thêi gian biÓu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79800" indent="-379800">
              <a:lnSpc>
                <a:spcPct val="15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ViÕt c¸c môc tiªu dµi h¹n lªn lÞch bµn tr­íc mÆt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379800" indent="-379800">
              <a:lnSpc>
                <a:spcPct val="15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ViÕt môc tiªu dµi h¹n lªn sæ tay hµng ngµy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379800" indent="-379800">
              <a:lnSpc>
                <a:spcPct val="15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Bæ sung danh s¸ch nhiÖm vô ®Ó ®¹t môc tiªu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379800" indent="-379800">
              <a:lnSpc>
                <a:spcPct val="15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Thªm vµo c¸c nhiÖm vô cô thÓ, chi tiÕt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379800" indent="-379800">
              <a:lnSpc>
                <a:spcPct val="15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LËp giíi h¹n thêi gian cho tõng nhiÖm vô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379800" indent="-379800">
              <a:lnSpc>
                <a:spcPct val="15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S½n sµng thÝch øng víi thay ®æi trong qu¸ tr×nh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DF079-F7AB-4DE1-9D2F-BB7D7E65B618}" type="slidenum">
              <a:t>52</a:t>
            </a:fld>
          </a:p>
        </p:txBody>
      </p:sp>
    </p:spTree>
  </p:cSld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Qu¶n lý thêi gian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Gi¸ trÞ cña thêi gia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KÎ ®¸nh c¾p thêi gia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NghÖ thuËt tõ chèi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LËp thêi gian biÓu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LËp kÕ ho¹ch dµi h¹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E75CF-71ED-40A5-9BA6-EC1F3FC3D9BC}" type="slidenum">
              <a:t>53</a:t>
            </a:fld>
          </a:p>
        </p:txBody>
      </p:sp>
    </p:spTree>
  </p:cSld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.VnTime"/>
              </a:rPr>
              <a:t>Ai còng cã cïng mét tµi s¶n:</a:t>
            </a:r>
            <a:endParaRPr b="1" lang="en-US" sz="60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204" name=""/>
          <p:cNvSpPr/>
          <p:nvPr/>
        </p:nvSpPr>
        <p:spPr>
          <a:xfrm>
            <a:off x="76320" y="2590920"/>
            <a:ext cx="969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.VnTime"/>
              </a:rPr>
              <a:t>1440 phót/ngµy</a:t>
            </a:r>
            <a:endParaRPr b="0" lang="en-US" sz="72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320" y="3809880"/>
            <a:ext cx="96994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.VnTime"/>
              </a:rPr>
              <a:t>C¸ch sö dông tµi s¶n ®ã lµm nªn sù kh¸c biÖt gi÷a ng­êi giµu vµ kÎ nghÌo, ng­êi thµnh c«ng vµ kÎ thÊt b¹i.</a:t>
            </a:r>
            <a:endParaRPr b="0" lang="en-US" sz="44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7052E-F02C-40EA-B83E-9CE7ED9F225B}" type="slidenum">
              <a:t>54</a:t>
            </a:fld>
          </a:p>
        </p:txBody>
      </p:sp>
    </p:spTree>
  </p:cSld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C¸ch l·ng phÝ thêi gian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880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1. Lµm viÖc kh«ng cã kÕ ho¹ch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82880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2. C¸c môc ®Ých kh«ng râ rµng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82880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3. §Æt qu¸ nhiÒu môc tiªu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82880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4. Gi¸m s¸t qu¸ chÆt chÏ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82880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5. Lo l¾ng th¸i qu¸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30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85CCC-6768-41AF-B944-516580966E8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C¸ch l·ng phÝ thêi gian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87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6. Cã qu¸ nhiÒu giao tiÕp x· héi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2287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7. Theo chñ nghÜa hoµn h¶o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2287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8. Tr× ho·n c«ng viÖc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2287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9. Vßng vo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2287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10. Söa sai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30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D24AF-70D2-486E-89A3-C1D667BA672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C¸ch l·ng phÝ thêi gian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4324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11. Cã qu¸ nhiÒu c«ng viÖc giÊy tê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4324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12. MÊt thêi gian chê ®îi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4324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13. Dù c¸c cuéc häp v« bæ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4324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14. NghØ sím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4324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15. Tøc giË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8C709-B369-46F2-9AC1-C96CDF217F8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013120" y="1917720"/>
            <a:ext cx="7333920" cy="4406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03920" y="1917720"/>
            <a:ext cx="0" cy="440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13120" y="4121280"/>
            <a:ext cx="733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57520" y="2673360"/>
            <a:ext cx="30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Time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55080" y="2673360"/>
            <a:ext cx="41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Time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40160" y="4883040"/>
            <a:ext cx="538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Time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57320" y="4883040"/>
            <a:ext cx="49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Time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29160" y="1433520"/>
            <a:ext cx="1780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Arial"/>
              </a:rPr>
              <a:t>KhÈn cÊp</a:t>
            </a:r>
            <a:endParaRPr b="0" lang="en-US" sz="28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34560" y="1357200"/>
            <a:ext cx="30009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Arial"/>
              </a:rPr>
              <a:t>Kh«ng khÈn cÊp</a:t>
            </a:r>
            <a:endParaRPr b="0" lang="en-US" sz="28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4502160"/>
            <a:ext cx="146052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Arial"/>
              </a:rPr>
              <a:t>Kh«ng</a:t>
            </a:r>
            <a:endParaRPr b="0" lang="en-US" sz="2800" spc="-1" strike="noStrike">
              <a:solidFill>
                <a:srgbClr val="000000"/>
              </a:solidFill>
              <a:latin typeface=".Vn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Arial"/>
              </a:rPr>
              <a:t>quan</a:t>
            </a:r>
            <a:endParaRPr b="0" lang="en-US" sz="2800" spc="-1" strike="noStrike">
              <a:solidFill>
                <a:srgbClr val="000000"/>
              </a:solidFill>
              <a:latin typeface=".Vn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Arial"/>
              </a:rPr>
              <a:t>träng</a:t>
            </a:r>
            <a:endParaRPr b="0" lang="en-US" sz="28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195640"/>
            <a:ext cx="13856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Arial"/>
              </a:rPr>
              <a:t>Quan</a:t>
            </a:r>
            <a:endParaRPr b="0" lang="en-US" sz="2800" spc="-1" strike="noStrike">
              <a:solidFill>
                <a:srgbClr val="000000"/>
              </a:solidFill>
              <a:latin typeface=".Vn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Arial"/>
              </a:rPr>
              <a:t>träng</a:t>
            </a:r>
            <a:endParaRPr b="0" lang="en-US" sz="28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Ma trËn qu¶n lý thêi gian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71205-9ECC-4E46-A2FD-94BDEC52D5B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01:38:42Z</dcterms:created>
  <dc:creator>Nguyen Huy Hoang</dc:creator>
  <dc:description/>
  <dc:language>en-US</dc:language>
  <cp:lastModifiedBy>Ulysses R. Gotera</cp:lastModifiedBy>
  <cp:lastPrinted>2002-10-02T00:44:12Z</cp:lastPrinted>
  <dcterms:modified xsi:type="dcterms:W3CDTF">2003-04-18T09:35:10Z</dcterms:modified>
  <cp:revision>18</cp:revision>
  <dc:subject>Presentation</dc:subject>
  <dc:title>Kü n¨ng Qu¶n lý Thêi gian</dc:title>
</cp:coreProperties>
</file>