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BCA2-0C1A-4B43-8CCD-56C9BB999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B9F7-C3D5-41D1-9A22-D1131D2B2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AC43-6AE3-4751-AB81-AEA877662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A18E-8B68-474B-8536-047A8F93B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7A749-3083-4E9F-B8DF-ECCBD0C11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D2E93-CFD3-4E9D-A818-959781032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AC65D-73DF-4F09-944C-EA123C73F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E6F3F-F0CE-4993-A332-09F78FC24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D7F78-3714-46E5-97FC-5D3D2421E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C7139-9AE5-49E8-B5DF-C1B785F15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AAC52-B01D-4F27-B772-6B1E943E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A239-F0D4-43E9-B2B0-2A1BE5868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5C8EC-9AC0-4A0F-A798-BE606E26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78465-C1D1-4D0C-BD03-8DDB280A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18908-1492-40F7-A282-FCF9FA15E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959DD-74CB-43E7-94F2-F71227C68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D5903-C31D-4A1D-AE09-39F8613D4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31F8-B37F-4DD7-8837-2586B4637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6EE9-7892-439A-808C-DF85268FE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937E-81B1-4F60-8AED-A95961EB5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19ED-C517-4935-B686-B7BC83262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D2E5-2896-4980-9EA6-0C4049DF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13DA-4567-4AA4-872E-ECF8295A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B723-A038-4958-9D7D-0EF8F2DF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C73CB-8CA9-46B9-A937-64F9C3DAFD26}" type="datetime">
              <a:rPr b="0" lang="id-ID" sz="1000" spc="-1" strike="noStrike">
                <a:solidFill>
                  <a:srgbClr val="ffffff"/>
                </a:solidFill>
                <a:latin typeface="Tahoma"/>
              </a:rPr>
              <a:t>29/07/26</a:t>
            </a:fld>
            <a:r>
              <a:rPr b="0" lang="id-ID" sz="1000" spc="-1" strike="noStrike">
                <a:solidFill>
                  <a:srgbClr val="ffffff"/>
                </a:solidFill>
                <a:latin typeface="Tahoma"/>
              </a:rPr>
              <a:t> </a:t>
            </a:r>
            <a:fld id="{D3C9D5EA-43F2-491E-BE97-3380E72847ED}" type="datetime12">
              <a:rPr b="0" lang="id-ID" sz="1000" spc="-1" strike="noStrike">
                <a:solidFill>
                  <a:srgbClr val="ffffff"/>
                </a:solidFill>
                <a:latin typeface="Tahoma"/>
              </a:rPr>
              <a:t>02:14 AM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8E8C5-5C7C-4D39-A9E2-4ABD1464325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CB0A1-2F6E-4BC7-A9E7-B56D63842F0E}" type="datetime">
              <a:rPr b="0" lang="id-ID" sz="1000" spc="-1" strike="noStrike">
                <a:solidFill>
                  <a:srgbClr val="ffffff"/>
                </a:solidFill>
                <a:latin typeface="Tahoma"/>
              </a:rPr>
              <a:t>29/07/26</a:t>
            </a:fld>
            <a:r>
              <a:rPr b="0" lang="id-ID" sz="1000" spc="-1" strike="noStrike">
                <a:solidFill>
                  <a:srgbClr val="ffffff"/>
                </a:solidFill>
                <a:latin typeface="Tahoma"/>
              </a:rPr>
              <a:t> </a:t>
            </a:r>
            <a:fld id="{AFA55CF3-972E-46E0-8542-9C89B457ADC7}" type="datetime12">
              <a:rPr b="0" lang="id-ID" sz="1000" spc="-1" strike="noStrike">
                <a:solidFill>
                  <a:srgbClr val="ffffff"/>
                </a:solidFill>
                <a:latin typeface="Tahoma"/>
              </a:rPr>
              <a:t>02:14 AM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35923-65DD-4109-8DCF-A5B62BD5B99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437920"/>
            <a:ext cx="83818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ahoma"/>
                <a:ea typeface="Arial"/>
              </a:rPr>
              <a:t>CAMPYLOBACTER</a:t>
            </a:r>
            <a:endParaRPr b="1" lang="en-US" sz="6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CF2EA-E732-422E-9F4C-7A6D64D4F75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33396F7-3482-405A-91A4-240BD48A62D3}" type="datetime8">
              <a:rPr lang="en-US"/>
              <a:t>07/29/26 02:14 AM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5438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Serba-Serb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ifat-sifat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-bata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-bengkok/melengkung (</a:t>
            </a: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curved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-Gram negatif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-mikroaerofili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-mempunyai flagela polar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→ moti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5315-3F1F-49AE-AD09-87C1075C083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A7E268-F9BF-41D5-AE50-412001CC53D3}" type="datetime8">
              <a:rPr lang="en-US"/>
              <a:t>07/29/26 02:14 AM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5438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Serba-Serb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pesies paling penting :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. jejun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terdiri dari 2 subspesies, yakni subspesie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jejun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dan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oyle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subspesie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jejun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: katalase (+), urease(-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subspesie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jejun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: gastroenteritis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octit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meningitis, dan septikem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4C57-2001-4D35-BCF4-232DFC350DB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CDB742-47C6-4831-85C5-ED306107D858}" type="datetime8">
              <a:rPr lang="en-US"/>
              <a:t>07/29/26 02:14 AM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5438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Serba-Serb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2640" y="2057040"/>
            <a:ext cx="7543800" cy="42670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pesies paling penting :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C. jejun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pesies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oyle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:  katalase (v), urease (-)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subspesies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oyle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→ gastroenteritis, gastritis, septikem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←  air/daging terkontaminasi, unggas, dan susu yang tidak dipasteurisas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3784-150C-41BF-94F5-F1E8C6AB5DB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9072C6-8E6E-403D-8B76-ACD1BB285EA6}" type="datetime8">
              <a:rPr lang="en-US"/>
              <a:t>07/29/26 02:14 AM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685800"/>
            <a:ext cx="75438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Serba-Serb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2514600"/>
            <a:ext cx="7543800" cy="3581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ctr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pesies paling penting :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C. jejun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spesimen : feses, usapan rektal, dara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batang kecil, bengkok/melengkung, Gram negatif, seperti sayap burung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mar (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seagull w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3820-9919-4618-A0CA-7AD7A759D28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A2FF03-3096-48B3-8458-AF11C89B27B2}" type="datetime8">
              <a:rPr lang="en-US"/>
              <a:t>07/29/26 02:14 AM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ahoma"/>
              </a:rPr>
              <a:t>Campylobacter jejuni</a:t>
            </a:r>
            <a:r>
              <a:rPr b="1" i="1" lang="en-US" sz="4400" spc="-1" strike="noStrike">
                <a:solidFill>
                  <a:srgbClr val="ff0000"/>
                </a:solidFill>
                <a:latin typeface="Tahoma"/>
              </a:rPr>
              <a:t> </a:t>
            </a:r>
            <a:br>
              <a:rPr sz="4400"/>
            </a:b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dilihat dengan mikroskop elektron)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914400" y="2133720"/>
            <a:ext cx="7315200" cy="441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222B-6125-4389-9E56-8168ED18F73C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B1C74F-6F6C-43C3-A279-FE5E2E4473E5}" type="datetime8">
              <a:rPr lang="en-US"/>
              <a:t>07/29/26 02:14 AM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6T01:18:28Z</dcterms:created>
  <dc:creator>.</dc:creator>
  <dc:description/>
  <dc:language>en-US</dc:language>
  <cp:lastModifiedBy>.</cp:lastModifiedBy>
  <dcterms:modified xsi:type="dcterms:W3CDTF">2008-04-06T07:36:12Z</dcterms:modified>
  <cp:revision>393</cp:revision>
  <dc:subject/>
  <dc:title>VIRUS SARS ( SEVERE ACUTE RESPIRATORY SYNDROME)</dc:title>
</cp:coreProperties>
</file>