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435-2277-43EB-B3E6-395BEB9E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A3E-0BA9-4D3C-A199-9BDE679C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ABE-91AA-4F70-960B-A78A28F7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F54E-5549-4E86-9075-4003D82C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1ABD-453C-4E55-9528-E9118BF8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3D15-B15C-41CC-8446-E6F096B6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30D7-28C7-4A2A-AF8D-11DA4071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EC67-52FE-4F65-91F5-BB6A615C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176C-03DA-42CB-BBD5-93C5FC3E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F8BC-C74C-4731-B78D-9B2DCD55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811C-CF04-4F44-A7D3-8B5560C3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2A5-9B41-478F-94E0-C8750A37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19BB-6DA7-4BE8-A438-05541E00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F531-D17D-49A9-8735-839340EF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7EE3-1CB4-423E-BB2D-86E449B1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4CCD-0224-473C-93C4-50CA34CA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C71F-83FB-411B-A5F0-BEB93C26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D82-2402-40A8-AA4A-A59F7708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E56-3DB7-45C7-BD5D-933E63B6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752A-C838-4106-8EE2-C844447D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A97-8074-4ACF-A866-4AEF118D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526-A2C5-40A0-B0EC-07C9D570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1C0-0185-48CA-B3C6-2639A399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4D24-E005-479D-A7D2-D9DE76A0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697C-29F9-4177-9279-A39B62693553}" type="datetime">
              <a:rPr b="0" lang="id-ID" sz="1000" spc="-1" strike="noStrike">
                <a:solidFill>
                  <a:srgbClr val="ffffff"/>
                </a:solidFill>
                <a:latin typeface="Tahoma"/>
              </a:rPr>
              <a:t>28/07/26</a:t>
            </a:fld>
            <a:r>
              <a:rPr b="0" lang="id-ID" sz="1000" spc="-1" strike="noStrike">
                <a:solidFill>
                  <a:srgbClr val="ffffff"/>
                </a:solidFill>
                <a:latin typeface="Tahoma"/>
              </a:rPr>
              <a:t> </a:t>
            </a:r>
            <a:fld id="{BB43FB12-D63D-4A17-9A29-8A9C746B0F2B}" type="datetime12">
              <a:rPr b="0" lang="id-ID" sz="1000" spc="-1" strike="noStrike">
                <a:solidFill>
                  <a:srgbClr val="ffffff"/>
                </a:solidFill>
                <a:latin typeface="Tahoma"/>
              </a:rPr>
              <a:t>07:37 PM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808F-76A9-42BD-BE64-FAA611403F8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0A28-C7CD-4102-A2E0-6CAECB01A146}" type="datetime">
              <a:rPr b="0" lang="id-ID" sz="1000" spc="-1" strike="noStrike">
                <a:solidFill>
                  <a:srgbClr val="ffffff"/>
                </a:solidFill>
                <a:latin typeface="Tahoma"/>
              </a:rPr>
              <a:t>28/07/26</a:t>
            </a:fld>
            <a:r>
              <a:rPr b="0" lang="id-ID" sz="1000" spc="-1" strike="noStrike">
                <a:solidFill>
                  <a:srgbClr val="ffffff"/>
                </a:solidFill>
                <a:latin typeface="Tahoma"/>
              </a:rPr>
              <a:t> </a:t>
            </a:r>
            <a:fld id="{D7713703-A8ED-45BF-9F0B-951C25A5E85B}" type="datetime12">
              <a:rPr b="0" lang="id-ID" sz="1000" spc="-1" strike="noStrike">
                <a:solidFill>
                  <a:srgbClr val="ffffff"/>
                </a:solidFill>
                <a:latin typeface="Tahoma"/>
              </a:rPr>
              <a:t>07:37 PM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F1AD-1B91-4469-8273-74DF8197EBD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ahoma"/>
                <a:ea typeface="Arial"/>
              </a:rPr>
              <a:t>CAMPYLOBACTER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ED19-85F9-4B08-8589-ECB45DD7A4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79BB7D2-7527-43A0-8E1D-1A2CCA77F0CB}" type="datetime8">
              <a:rPr lang="en-US"/>
              <a:t>07/28/26 07:37 PM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543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erba-Serb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fat-sifa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bata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bengkok/melengkung (</a:t>
            </a: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curved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Gram negatif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mikroaerofili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mempunyai flagela pola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→ mot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BBE-7F52-4CAD-A615-3DEFDC804D9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343E1-0EBF-45DD-A0CD-2B0ADD7AEA77}" type="datetime8">
              <a:rPr lang="en-US"/>
              <a:t>07/28/26 07:37 P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543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erba-Serb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esies paling penting :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. jejun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terdiri dari 2 subspesies, yakni subspesi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eju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da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yle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subspesi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eju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: katalase (+), urease(-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subspesi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eju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: gastroenteritis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ct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meningitis, dan septike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193-7C2E-4AC4-9BEC-71B1663F913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EAEAE-F294-4944-9F3D-BC988B2A213C}" type="datetime8">
              <a:rPr lang="en-US"/>
              <a:t>07/28/26 07:37 P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543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erba-Serb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7543800" cy="426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pesies paling penting :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. jejun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pesie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oyle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  katalase (v), urease (-)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subspesie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oyle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→ gastroenteritis, gastritis, septike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←  air/daging terkontaminasi, unggas, dan susu yang tidak dipasteurisa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8FE-FE25-4697-A529-D3D4A1FB71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BBC18-6213-497D-B423-53CB9BC665E7}" type="datetime8">
              <a:rPr lang="en-US"/>
              <a:t>07/28/26 07:37 P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543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Serba-Serb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514600"/>
            <a:ext cx="7543800" cy="3581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pesies paling penting :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. jejun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spesimen : feses, usapan rektal, dar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batang kecil, bengkok/melengkung, Gram negatif, seperti sayap burung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mar (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seagull w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726-F1A3-43E8-B2A5-7161410C14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A30549-B8E0-41A4-BD27-014DF3415460}" type="datetime8">
              <a:rPr lang="en-US"/>
              <a:t>07/28/26 07:37 P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Campylobacter jejuni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dilihat dengan mikroskop elektron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31520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37CE-0FA1-40B3-8ABD-6F57ADE9827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7DCDD-5AE8-4388-B06C-B98A8CB10908}" type="datetime8">
              <a:rPr lang="en-US"/>
              <a:t>07/28/26 07:37 P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01:18:28Z</dcterms:created>
  <dc:creator>.</dc:creator>
  <dc:description/>
  <dc:language>en-US</dc:language>
  <cp:lastModifiedBy>.</cp:lastModifiedBy>
  <dcterms:modified xsi:type="dcterms:W3CDTF">2008-04-06T07:36:12Z</dcterms:modified>
  <cp:revision>393</cp:revision>
  <dc:subject/>
  <dc:title>VIRUS SARS ( SEVERE ACUTE RESPIRATORY SYNDROME)</dc:title>
</cp:coreProperties>
</file>