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E0C-9DD5-4E6B-BFEB-E818C04C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EF9-D267-4D28-BE36-7414265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DF3-2060-4060-A421-E3105603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4D2-7521-4F39-8D2D-D97CCC24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B8D-1CC1-45B2-A982-B5ECF87E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91B1-99AB-4185-91F2-43E9ECBC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923-4A98-4D6C-B7B3-03B0BB39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7C37-F2F5-44BD-8860-F7AAE5D4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2E2B-A23A-4F52-BF82-85B794D2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EA71-B42C-4B95-BF03-549AF29F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2D7-306D-4EA3-B8DC-C4B329E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C1A-BE4B-46CC-B347-C956D2C0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D798-0054-4C18-8365-3ED2F4C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3CB1-3BFA-4C36-B0C4-F8CC4F33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09FC-F4B5-4006-BA57-DCABC4E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283-8C08-47E9-9F30-1D488AA8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28A3-C122-4C53-A49F-1BDC591B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ABC1-1634-4A2C-85ED-5787281C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A98A-4C49-414D-9DE0-2DE9641B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AC9C-7473-49A8-98AC-A176C98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9D12-0425-48E6-8BCE-9408DDE6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A303-0BF2-4F90-97DB-28F1458B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532-0380-47FA-AFB3-7230D51B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BBC4-834B-4E24-A53E-C68C1DBD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0E99-FAFF-4EA8-8387-B6D8FA1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F0FD-37AD-4EF9-8B6D-65B34CA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98DB-2B11-4236-93B0-E790186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0205-7C17-46FE-B513-CFF0ED23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4480-7EDC-4AC9-9EBD-68BE6D6A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C1E7-19EB-4583-8BCB-82BE317C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4C4-CFB1-4939-91F7-F686E12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89E-659A-4E6D-96D2-40C6A0D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352-33D2-4A4D-A69E-E3DDBA0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628-98DE-4487-8825-CC22036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FC4-1B36-45E8-839B-1C5FFAD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969-B0CC-418F-BCD1-CA85050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140A-158D-4E44-9FCF-B46BADEE3144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A0F0-40EF-463D-A127-71457EC2B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32B5-35C2-45AD-ABB3-18B8F307F6A9}" type="datetime3">
              <a:rPr b="0" lang="en-US" sz="14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2A6-30AB-460C-BA3C-A975CAFF50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BDDF-4501-4756-81C1-9C32382F89D7}" type="datetime3">
              <a:rPr b="0" lang="en-US" sz="1400" spc="-1" strike="noStrike">
                <a:solidFill>
                  <a:srgbClr val="1c1c1c"/>
                </a:solidFill>
                <a:latin typeface="Tahom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6B5F-70A9-46CC-A333-BF92548EF2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MO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sentials of Veterinary Pharmacology &amp; Therapeu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pal Singh Sandhu, In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175248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1480-09BE-46AB-86AB-35E392818A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CBA6D17-49FB-422D-B316-4F83BFA06D6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Narrow Spectru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against a few or class/type of organisms e.g, G + ve or G-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ro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against a wide variety of organisms e.g.  both G + ve &amp; G-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DD60-3CC0-4F8F-9A5C-223497C8CC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30A51B-23EA-4FF2-97C5-ABDAE44F8FA3}" type="datetime3">
              <a:rPr lang="en-US"/>
              <a:t>July 30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the antimicrobial activity per miligram (microgram) of a chemotherapeutic ag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ed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, MBC, MA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re determined in vit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9D4-A98B-4118-BEB9-2A505DE20D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DB0E43-11EE-4C55-9607-19494FBBAB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inimum Inhibitory Concentration (MIC)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lowest concentration which prevents visible growth of bacteria when grown on serial dilutions in vi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inimum Bactericidal  Concentration (MB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concentration which kills the bacte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12BC-59A3-4531-8B16-B722B7A4D3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50831F-9C70-42B0-ABED-48747A085BF2}" type="datetime3">
              <a:rPr lang="en-US"/>
              <a:t>July 30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inimum Antibiotic Concentration (M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ion which reduces the growth of an organism in vitro by factor of 10 (e.g. one lo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express the activity of some drugs that exert antimicrobial action in vivo at conc. Below the M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BA1E-90F4-45CD-92E5-6A3AC026E3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71F12F-8EB0-4527-925E-820090F6C4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ost Antibiotic Effect (PAE)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 even after antibiotic is ou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Biphasic (EAGLE) Eff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 at low doses but not at high d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B920-DD1A-4505-A17F-4B89B1D183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7EACB4-931F-4AB7-80B6-63943FCBA673}" type="datetime3">
              <a:rPr lang="en-US"/>
              <a:t>July 30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 Ag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ties of an ideal Antimicrobial Agent (A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 action against micro org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toxic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metabo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l distributed in the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oral bio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elimination half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acterial resistance or cross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285920" cy="8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245-EE29-40A6-9978-BE99EB2B79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E095920-FC0F-46FA-B882-49641C9F6A04}" type="datetime3">
              <a:rPr lang="en-US"/>
              <a:t>July 30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ffect on the host immu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.   No adverse drug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. No/Short withdrawal period in food producing anim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. Economical and easily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34E-A392-407E-83A3-855BD4EFA8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9BCE363-B740-42D6-8576-14EB18A5E1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lassification    of antimicrobial agen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EA56-4C84-4A47-A5B4-ED38948E9C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D5BCFC-464C-4A3D-B93B-3A08CD1C19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.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Mechanism of Action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hibit Cell Wall Synthesi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, cephalosporin, cycloserine, bacitracin, vancomycin &amp; clotrimaz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hibit Cytoplasmic Membrane  Func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ymyxins, amphotericin B &amp; nystat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hibit protein synthesis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loramphanicol, tetracycline, macrolides and aminoglycos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932-90CC-4D25-9144-22A5AB1E21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EBB443B-DE01-4176-A5DC-4DC5525A5DA7}" type="datetime3">
              <a:rPr lang="en-US"/>
              <a:t>July 30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nterfere with Intermediary Metabolism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lphonamides, trimethoprim and sulph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Affect nucleic acid metabolism and 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inolones, rifampicin, acyclov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9C8F-A83D-4738-BC02-D18C260433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4C191A-6D03-48E3-9D5B-BC82184AD9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mo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branch of Pharmacology which deals with drugs which selectively inhibit or destroy specific pathogenic organisms like bacteria, viruses, fungi and parasi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term is extended to the use of drugs in the treatment of neoplastic diseases because of similarity between the malignant cells and the pathogenic microb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erm was first used by Paul Ehrlich in 1913 to describe drugs which attack invading organisms without harming the h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39B-A3BF-4FCD-8A7E-B651893B58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61989B8-D22F-4392-8A3D-649C5F25C442}" type="datetime3">
              <a:rPr lang="en-US"/>
              <a:t>July 30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.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emical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ulphonami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phadimadine, sulphadiazine, sulphanilamide, sulphaquinoxal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iaminopyrimidines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methoprim, ormetoprim and baquilop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Quinol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lidixic acid, enrofloxacin, difloxacin and ciproflaxoc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ta-lactam antibio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 G, ampicillin, cloxacillin, cephazolin, cephalex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646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ont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4CC2-9B67-4521-A153-BD32B16133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61D513-DB5C-4121-A7FC-1387BCDFD2CC}" type="datetime3">
              <a:rPr lang="en-US"/>
              <a:t>July 30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5. 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minoglycosi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ptomysin, gentamicin, amikacine, tobra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6.  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etracycl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ytetracycline, tetracycline, doxycyline, minocycli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E978-1550-49CD-9E53-E3A39F0F3E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BEFAF1-1D16-499B-8EB1-7C6A95760D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0102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acrolide Antibio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ythromycin and Azithro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trofuran – Deriva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trofurantoin and furazolidon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troimidazo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nidazole and Imidaz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olypeptide Antibio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ymyxin B, Colistin and bacitric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olyene Antibio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statin and amphotericin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092C-0159-4CCD-87E0-0EAFC00DBC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2F22075-716E-41A6-9930-A2D70A8ABBF5}" type="datetime3">
              <a:rPr lang="en-US"/>
              <a:t>July 30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12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midazole derivative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oconazole, fluconazole and clotrimaz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96192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E0DB-A311-44F3-8E63-F35AC00AAA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04D9BEF-B937-43FC-8BAA-997A0A1930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.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rapeutic uses (Type of Organism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bacteri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, aminoglycosides, tetracycline, &amp; chloramphenicol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fung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hotericin B, griseofuvin and ketoconaz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vir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oxuridine, vidarabine, zidovudine, and ribav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i-protozo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nidazole, quinapyramine and diminazin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0BFE-925F-4D22-AA90-47445D9990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F36A549-368D-46F4-81D9-1CC2971E5380}" type="datetime3">
              <a:rPr lang="en-US"/>
              <a:t>July 30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nthelmint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bendazole, levamisole, niclosamide and praziqunt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Ectoparasitici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permethrin, lindane, amitraz and  eth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39A2-9099-45CE-8A48-A1D7C6DA2E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60E18F-D874-44A1-BACB-21FB2A557CA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3840" y="509400"/>
            <a:ext cx="7647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.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pectrum of Activ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98240" y="201780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rrow spectrum antimicrobi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 G, streptomycin, erythromycin and vancomyc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Spectrum Antimicrobi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tracycline, chloramphenicol, cephalexin, gentamycin, ampicll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BA8F-CC65-47DC-BE75-4598BA1594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D8AD2BE-776B-4773-A028-800360DC1715}" type="datetime3">
              <a:rPr lang="en-US"/>
              <a:t>July 30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7840" y="460440"/>
            <a:ext cx="7000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E.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ype of A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2017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acteriost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8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phonamides, chloramphenicol, erythromycin, trimethoprim, clinda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actericid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8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cillin G, cephalexin, streptomycin, vancomycin, bacitracin and  potentiated  sulphonam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107640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D4B7-0D37-4662-BC66-06E21C47C9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20640B-E16F-4FF9-8B9F-325A724CEB2B}" type="datetime3">
              <a:rPr lang="en-US"/>
              <a:t>July 30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.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ural and Semi-synthe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)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ung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icillin G, griseofulvin and cephalex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) Actinomyce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ptomycin, tetracycline, erythromycin and    chloramphenic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)  Bacte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myxin B, Colistin and bacitrac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ynthet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lphonamides, trimethoprim, quinolones, nitrofurans and nitro-imidazo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990360" cy="136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180D-2798-44AF-8FA5-BDE4E588E3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0B92F1-38BC-48BC-8D15-00DC80914358}" type="datetime3">
              <a:rPr lang="en-US"/>
              <a:t>July 30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on of an Antimicrobial Ag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t depends on the peculiariti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fecting org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t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bjective is to ha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action on infecting organis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96080" y="990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4A8-E30E-427E-A1FA-BA5E1B74E9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2E9667C-9A1A-4AE9-A67B-1F219EA99EE9}" type="datetime3">
              <a:rPr lang="en-US"/>
              <a:t>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s and Conce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8600"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Chemotherapeutic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rugs used to interfere with the functioning of foreign cel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60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60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substances produced by various micro organisms that kill or suppress growth of other micro org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1905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2585-9EAB-41A4-B27C-EE7AAFD783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6DD57C-2415-493B-A598-6B3234D7F32E}" type="datetime3">
              <a:rPr lang="en-US"/>
              <a:t>July 30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)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desirable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)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least effect on the host an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2A31-E02E-4C92-A40A-1864DE1E90D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E7733C-DEC4-4917-BAA8-1B9D8E65A4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ganism Related Fa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organism ( Culture and identification, molecular biological techniques etc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itivity Pattern (Bacterial Sensitivity Test etc. like disc diffusion tes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9B1-6745-4E39-BB0B-C15DF811B7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F933C9-2EDE-4073-B42F-11BD992E25C6}" type="datetime3">
              <a:rPr lang="en-US"/>
              <a:t>July 30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rug Related Fa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trum of activity: narrow vs broad spectrum, combination of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f activity: bacteriostatic vs bactericid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rmacokinetic profil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ncentration at site of infection for adequate length of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 of admin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10520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4621-131A-4DCB-BF18-D4357A0531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31F599D-E210-4697-A858-D84A99D2BC9B}" type="datetime3">
              <a:rPr lang="en-US"/>
              <a:t>July 30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 interactions (nsaid’s enhances CNS toxicity of fluoroquinolo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 toxicity (penicillins are least toxic, chloramphenicol and clindamycin have serious toxic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microbial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ED5-B0F2-459E-9E77-C7370C8A7D2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A77599-2827-4A16-B058-11897B2C92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ost Fa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defense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ological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nal Dise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patic dys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ato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A985-4599-44AF-A6A8-6BB7DCD1CB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26966C3-70D4-4819-860E-9322D727421E}" type="datetime3">
              <a:rPr lang="en-US"/>
              <a:t>July 30, 20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gna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Fact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9F68-AC6E-4666-911D-904DD7BE61F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8F912A-0EF1-442D-BF69-550A2CA29E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cterial Sensitivity Test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 diffusion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be dilution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67480" y="5638680"/>
            <a:ext cx="1123920" cy="10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410E-E9C4-4B8C-916B-523FD881E8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C1E82B-ECCA-4782-9FB7-A98A35EE3C81}" type="datetime3">
              <a:rPr lang="en-US"/>
              <a:t>July 30, 20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Combination of Antimicrobial Dru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 of comb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broaden the spectrum of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reat mixed inf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chieve synerg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prevent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inimize tox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0" y="4495680"/>
            <a:ext cx="153360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4B7-65FD-444B-AA43-24F4DC869F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60AE34B-96E2-4A8F-A932-96B054C96D76}" type="datetime3">
              <a:rPr lang="en-US"/>
              <a:t>July 30, 20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9847"/>
                </a:solidFill>
                <a:latin typeface="Tahoma"/>
              </a:rPr>
              <a:t>Guidelines for combination of antimicrobial dru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FAE-24EA-4893-BCF2-9C1D6C3D32E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68C614D-1E16-433A-8387-D43619C3B9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cidal + bactericidal = synergistic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ostatic + bacteriostatic = additive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ericidal + bacteriostatic = antagonistic eff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C75-A0FF-4A6E-8213-FF5DE041798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C2A2F5-4527-4105-8E74-DB1575611FCA}" type="datetime3">
              <a:rPr lang="en-US"/>
              <a:t>July 30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just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emical substances whether natural, synthetic or semi-synthetic that kill or suppress the growth of micro organ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107640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A379-F6A1-489B-9091-4E0EC53A5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7658D3-2E89-4FF0-910C-34D001F2B35F}" type="datetime3">
              <a:rPr lang="en-US"/>
              <a:t>July 30, 20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cidal:Bacteriosta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icill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loramphen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phalospor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ycl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inoglyco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crol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inol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phonam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closer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methop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0168-FD5C-4CE5-94A2-8FC9A664268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62C1736-7963-456E-B800-D0BF43190E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nc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cosam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myx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itra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obio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fampi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tiated Sulp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93F3-6864-496D-8B2B-E9D46A1A071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A4CA2A-F2A7-4083-B4D6-029E896017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oad spect  :    Narrow spec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icil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icillin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benicil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ept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phalospo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loramphen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c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ycl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nc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phonam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myxi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9206-25D0-486D-B319-34EA7F514C0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D8BB01-9F96-414B-9883-A3EC945905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ssue Distribution Patter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distributed to extracellular flu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Penicillins, cephalosporins, aminoglycos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in total body 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Fluoroquinolones, chloramphenicol, doxycyline, sulphonamides, erythromycin, clinda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0010-CD25-4CA2-889F-6813D0ABEE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CDA0F7-B83C-4B4B-B922-C3C2D59E075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to CS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Sulphonamides, fluoroquinolones, doxycycline, metronidazole, rifampi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in B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Doxycycline, erythromycin, clindamycin, rifampi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49F4-EB3F-4A1D-8168-D87614F4C2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B4CCCF-6BD3-4AFA-ABB9-F427F0862E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 in Ur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1111"/>
                </a:solidFill>
                <a:latin typeface="Tahoma"/>
              </a:rPr>
              <a:t>Fluoroquinolones, sulphonamides, nalidixic acid, nitrofurantoin, cephalosporins, penicillins, vanc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8123-A97F-413E-88D5-9E0568AFBE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FD6B62-C0EA-42AB-AF9F-0B8C30B3B5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Prophylactic Use of Anti-Microbial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rty contaminated w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surgical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event post-partum infections in d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226E-1D3E-41EB-9619-44DD08E4655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03C70C-1409-4166-A5D3-72965AEE03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revent secondary bacterial infe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ease outbr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ndemic areas with high transmiss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04880" cy="12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F2B5-A034-49E7-BDA8-8D27C952FE8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BA12990-D2B3-4DE0-83BB-5E6318ED37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Bacterial Resistance To Antimicrobia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sponsiveness of micro-organisms to an antimicrobial drug even at the maximum level that is tolerated by the host.  e.g G – ve to penicillin G and Vancomyci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43800" y="5486400"/>
            <a:ext cx="96192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C9B2-A6A3-4CE4-8152-87C33FD3CB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4EA74C5-7B74-4A56-BF15-AA9D1BE5E3FB}" type="datetime3">
              <a:rPr lang="en-US"/>
              <a:t>July 30, 20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TYPES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ural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cquired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2F0-FD2A-4021-837F-A25D6700DCC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F9774C-8F8E-4CF5-B2C3-BBB6FADACC1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ve Toxi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ability of an antimicrobial agent to kill an invading microorganism without harming the cells of the h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A27F-DAA7-4279-A3EE-45E8DEE6AA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71B3FBC-AC63-4847-9E22-E6826F863355}" type="datetime3">
              <a:rPr lang="en-US"/>
              <a:t>July 30, 20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 Re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or genetically resis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lack of penetration of drug into bacterial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bsence of metabolic pathway or target site affected by dru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rapid inactivation of drug in bact.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6D84-8E17-4C09-BA1C-23DCD94A2F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A5AFC34-3BC1-41C6-AEE9-6696A9F146C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quired Re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 organism becomes resistant to an antimicrobial agent to whom it was previously sensi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despread and inappropriate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6824-489D-40AC-A0F4-2848A55E7D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C03157-AF3A-4EA0-B7D0-E604314F85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chanisms of Acquired Resistance Transmissi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pontaneously occurs in microorg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ccurs due to insertion, deletion or substitution of one or more nucleotides in the gen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Single step M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ococci to streptomyc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phylococci to Rifampic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Multi-step M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ythromyc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tracy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921320" indent="-5911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loramphenic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655-464B-4D93-9A21-128C9A0508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5F47A7D-503A-4DCE-A636-793DD09FC924}" type="datetime3">
              <a:rPr lang="en-US"/>
              <a:t>July 30, 20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Gene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velops by transfer of genetic material coding for resistance from a resistant microorganism to a susceptible organ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esistant genes can be transferred b/w bacteria throug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79560" indent="-50796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ju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E4A8-5750-472E-B327-E5510201A998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3DC4D6-59E5-4E07-B715-3E79D4F5510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Biochemical Mechanisms of Resistanc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ations in drug pene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ations in binding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ations in metabolic path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s inactivating enzy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59FD-A480-4B99-97D2-79B40896B9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76A19D-8933-4B2B-927D-EE29B5756C06}" type="datetime3">
              <a:rPr lang="en-US"/>
              <a:t>July 30, 20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s in drug penetra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reased penetrability of an antimicrobial agent into the bacterial cell may occur due to either changes in permeability of cell wall or alterations in transport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785-72D9-44E8-A857-6AA63E33C3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1FD9007-C8E3-4610-8FED-0C247AC03E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s in binding sit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microbials fail to bind to their specific sites and cannot perform their action. e.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ations in penicillin binding proteins can confer resistance against penicill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E1D8-7FE9-4EB6-8CBC-817D2259043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3EB2E82-A173-4000-9583-F1B0EA1677E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s in metabolic pathway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ulphas resistant bacteria start synthesis of their own PAB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DCDE-D1A5-4E19-B863-DE7402C3BF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A7A5E1-C17C-4AC0-B79C-D797173494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ug inactivating enzym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re either inducible or constitutive. e.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loramphenicol is inactivated by acetyltransfer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glycosides are inactivated by certain transfer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385-F4D5-481C-BECA-E44A023C0A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1C49BF-E8E2-4BE5-8B62-C564E28761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oss Resistanc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ype of acquired resistance in which bacteria resistant to one antimicrobial agent also become resistant to another antimicrobial without having exposed to the l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E19F-06DE-414C-B4F7-8F34E73F2A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28517D-58EA-4F93-AC23-568B6CE1441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s to the ability of a compound to react with the microbial cell molecules in a way that interferes with growth and multiplication of microorganism or causes killing of the microorg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96B3-1055-49D9-AA21-626888C0E5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E1333E-B22C-4C99-B37F-47C1B9A0E4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82600" y="685800"/>
            <a:ext cx="77724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Cross  Resistance (two way cross resista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. Resistant to one antimicrobial are also resistant to a second drug and vice-ver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). Neomyc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na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) Erythromyc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eand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780F-DD11-4391-8263-6B8B6B2EE9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963883-2A78-466B-8F16-467E53E4257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Cross Resistance (one way cross resista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t. Resistant to one antimicrobial are also resistant to second drug, but resistance to second antimicrobial does not lead to resistance to first antimicrobial ag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). Gentamyc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namyc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tomyc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105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AB01-7DC9-432F-8D89-2E6D966CADA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7B3CF80-4055-4A29-9854-7EFDC67387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 Cross Resistanc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Cross Resis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mycin              Kana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ythromycin         Oleand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ross Resis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tamycin     Kanamycin   Strept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895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12372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65724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D38E-9B96-405A-9BEB-3CF32CB8DC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CE06AF-A0E8-4841-8DC0-61A5045CE7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Adverse Reactions to Antimicrobial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tissue toxic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ephrotoxicity        Aminoglycoside   hepatotoxicity        Tetracyclines, neurotoxicity         Streptomycin,       bone marrow depression     Chlorampheni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ensitivity reactions (penicillins, cephalosporins, sulphonamid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67480" y="5562720"/>
            <a:ext cx="1019160" cy="1133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E49-CC1C-4670-B3F8-D230DDCE740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E1BBABF-9DA8-4FE5-8C32-B833B7FE69D2}" type="datetime3">
              <a:rPr lang="en-US"/>
              <a:t>July 30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per infection /supra inf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earance of a new infection as a result of indiscriminate use of antimicrobial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with broad spectrum antimicrobials like tetracyc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utritional deficiencies (vit. K,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4D1-2A46-4D33-92A8-35491A17EEBA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68AB65-7EF0-4680-A898-53D3F09E03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Failure of Antimicrobial 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diagnosis of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inf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etration to the site of infection (pus, exudates, tissue debr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aired host defenc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route of drug admin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34D6-399E-4CC5-9DB2-516C99C8DF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3769E26-D56C-47C8-B149-81EC5D593C5E}" type="datetime3">
              <a:rPr lang="en-US"/>
              <a:t>July 30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dequate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pse  of dormant or refractory org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per management (nursing c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ed start of trea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d or substandard dr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mpliance with therapeutic regi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C39A-D334-4A42-B852-2AEFAFFD7FE2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812AB8-7F4E-4595-8285-CD23E4A452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Guidelines for Successful Anti-Microbial 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spectrum (preferred for known organism) VS Broad spectrum (For unknown org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ericidal (Preferred) Vs Bacteriosta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toxic (Preferred) Vs Potentially tox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interval (Preferred) Vs short inter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al route (Preferred for less severe infections) Vs parenteral  for severe infectio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dose and duration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6AC3-24DA-4047-B81A-4CA7FDB890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81D675-1475-48B7-B5D5-E34C60CE145D}" type="datetime3">
              <a:rPr lang="en-US"/>
              <a:t>July 30, 20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 combination of dru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misuse (over u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ap and eas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le pharmaceutical fi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antimicrobial use for untreatable infec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085760" cy="110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E369-6360-4F36-A978-4518A30C250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EC5762-8ACD-47C1-8F3E-44035A93800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1111"/>
                </a:solidFill>
                <a:latin typeface="Tahoma"/>
              </a:rPr>
              <a:t>THANKS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3BF1-E8A8-4D9B-ADE5-CC63493FDBD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6C4CA2-D503-4CC9-B312-53D9B8BC65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Bacteriostatic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the ability of the antibacterial agent to inhibit the growth and multiplication of bact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A64F-6226-4E55-9BD5-ACBD4FA2FF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5424C0-3474-4C00-8B54-B4B18A0E3EDA}" type="datetime3">
              <a:rPr lang="en-US"/>
              <a:t>July 30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cidal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the ability of an antimicrobial agent to cause the death of the bacte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62A-D678-43BF-8723-1D5CAFE605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2A327C-D340-4315-8ADC-2C54194D3E05}" type="datetime3">
              <a:rPr lang="en-US"/>
              <a:t>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imicrobial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s to the range of pathogenic organisms against which an antimicrobial agent is ac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S.A.M. are active against a wide variety of organis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S.A.M. are active against a few or a class/type of organis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ova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6E4-8FFF-4F40-B2ED-52C8271223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DBDAE1-8FB3-4C6F-B53E-7B713DE57B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vais</cp:lastModifiedBy>
  <dcterms:modified xsi:type="dcterms:W3CDTF">2010-10-22T02:55:46Z</dcterms:modified>
  <cp:revision>3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