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8AE-6044-49DE-BCB8-38D5A955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91D-4A2C-4867-8BD7-418D0E0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C61-CEBD-4855-B7DB-8DD33DE2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BCE-3D7C-4070-86A1-4CC1A7F4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230-6B85-42B6-9195-699B5FAA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967D-A82E-468F-A60E-D6C5704F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ED7D-F641-4534-96A7-ACFAE0D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253-D5AE-499D-8177-F9AE99A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0CAA-CD6C-4BB9-AE42-F07341BB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2E95-B79D-4CA9-8D7B-4E8570ED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BA01-D724-4B0E-AB96-E4F7909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253-EEB5-4AC8-8654-1CE28E73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AAAA-57D8-4035-A7FE-B0D876D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4F1B-C589-42AB-B278-0012A67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9072-B99B-40A6-9F56-E5533E4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A1AB-3436-4D72-AEA7-FE4ADCB8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DE6-3CF1-4EDC-B1E8-22E0FCA5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4660-6849-40B9-9719-41A57D58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6EA7-3DCF-4C26-A97E-A596534B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87B0-99E0-435D-8E81-2BBEBBD7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E022-DCFC-4D46-B327-7675BDE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FF6A-40B9-4B6B-83C2-E00555E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209-82C1-456B-BCB5-BDBA447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038C-CB82-4419-96A2-E8472BC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0957-D51B-4B44-ADF3-8202362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E5E1-EA93-4959-8A65-9F76FE2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4436-38E9-473F-A52F-FF87BADD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2EB1-8B89-4262-BB47-CC585ECC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61C3-CBE9-4A77-B6A3-396FBA32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22ED-4893-4A4F-B46E-A3D0AD2C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33D-CAAD-4397-9480-E160D95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897-85B8-4C92-ADF7-0CB20811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216-5CDE-4634-8486-15F85AB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E8B-EA15-46C1-9F34-9844DE6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CFF-D2A5-41DF-9EA0-ED5F3E9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388-E01A-462E-A88E-ECCFCFF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C60-F81F-4CCE-B0AA-0BBC45644267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DA69-F2F9-457F-A6B4-E33D5F40F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0DF9-6AEA-491E-91C1-D29AF3B9F10A}" type="datetime3">
              <a:rPr b="0" lang="en-US" sz="1400" spc="-1" strike="noStrike">
                <a:solidFill>
                  <a:srgbClr val="000000"/>
                </a:solidFill>
                <a:latin typeface="Tahoma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5BF1-4DCE-4818-A9DC-8DD67A324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8359-F6A0-49E2-B7CF-357845B0EB8A}" type="datetime3">
              <a:rPr b="0" lang="en-US" sz="1400" spc="-1" strike="noStrike">
                <a:solidFill>
                  <a:srgbClr val="1c1c1c"/>
                </a:solidFill>
                <a:latin typeface="Tahoma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58B-DAF2-4E2B-9EE8-F91F96379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MO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sentials of Veterinary Pharmacology &amp; Therapeu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pal Singh Sandhu, In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175248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E89B-E3D1-4433-9670-2B05F2662C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538CFB5-F36D-4AF5-9276-942EA466D4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Narrow Spectru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against a few or class/type of organisms e.g, G + ve or G-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ro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against a wide variety of organisms e.g.  both G + ve &amp; G-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47B2-3E42-4D68-9674-9D64A2EA17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30CB839-39A1-469E-8038-22DF749C0F40}" type="datetime3">
              <a:rPr lang="en-US"/>
              <a:t>July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the antimicrobial activity per miligram (microgram) of a chemotherapeutic ag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ed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, MBC, MA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re determined in vit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8FF6-4820-4CF4-9A8A-A7057A81B4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D8125F-4DD2-479F-A3A1-36FEBF0F04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inimum Inhibitory Concentration (MIC)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lowest concentration which prevents visible growth of bacteria when grown on serial dilutions in vi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inimum Bactericidal  Concentration (M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concentration which kills the bacte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381B-0D03-466D-82D5-EFCA48618E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B59800-8AAD-49EC-9E85-846CCB66A0D0}" type="datetime3">
              <a:rPr lang="en-US"/>
              <a:t>July 31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inimum Antibiotic Concentration (M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ion which reduces the growth of an organism in vitro by factor of 10 (e.g. one lo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express the activity of some drugs that exert antimicrobial action in vivo at conc. Below the M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F248-D9D9-4DEC-AFDC-7ED44B3E48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639993-D8B2-4153-B284-FECCEBA5FA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ost Antibiotic Effect (PAE)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 even after antibiotic is 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Biphasic (EAGLE) Eff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 at low doses but not at high d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237-BA7F-4896-B917-23435FBE28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2BDEBC-F911-44DA-BAC4-B24C608D9F97}" type="datetime3">
              <a:rPr lang="en-US"/>
              <a:t>July 31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 Ag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ties of an ideal Antimicrobial Agent (A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 action against micro org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toxic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metabo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l distributed in the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oral bio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elimination half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acterial resistance or cross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285920" cy="8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DFE2-7B3A-4927-A031-2E0978F440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63BCAF-DB68-42A7-AA50-14E2F686A77E}" type="datetime3">
              <a:rPr lang="en-US"/>
              <a:t>July 31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ffect on the host immu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.   No adverse drug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. No/Short withdrawal period in food producing anim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. Economical and easily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ABAC-D9E0-49FA-9A10-12DF9DABBD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C4AF0A7-3852-4E95-B846-551EE53136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lassification    of antimicrobial agen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A185-D977-4877-A550-D4CEA34E88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774380-7488-4060-907C-2A4FBFEE88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.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Mechanism of Action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hibit Cell Wall Synthesi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, cephalosporin, cycloserine, bacitracin, vancomycin &amp; clotrimaz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hibit Cytoplasmic Membrane  Func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ymyxins, amphotericin B &amp; nystat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hibit protein synthesis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loramphanicol, tetracycline, macrolides and aminoglycos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C7BC-96B0-4FD2-86C9-EB062795F3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00AE1A2-FF3E-46B1-B240-60B32E2EA687}" type="datetime3">
              <a:rPr lang="en-US"/>
              <a:t>July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terfere with Intermediary Metabolism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lphonamides, trimethoprim and sulph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Affect nucleic acid metabolism and 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inolones, rifampicin, acyclov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C0B6-B68E-491B-B3ED-C49D3DC4CC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B4302A1-A0EC-4B68-A753-0B9580D232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mo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branch of Pharmacology which deals with drugs which selectively inhibit or destroy specific pathogenic organisms like bacteria, viruses, fungi and parasi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term is extended to the use of drugs in the treatment of neoplastic diseases because of similarity between the malignant cells and the pathogenic microb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erm was first used by Paul Ehrlich in 1913 to describe drugs which attack invading organisms without harming the h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6A5-C710-43B7-9547-A5305954F7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0C40DA9-43C5-43E4-AD34-E7CF39C5A333}" type="datetime3">
              <a:rPr lang="en-US"/>
              <a:t>July 31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.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emical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ulphonami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phadimadine, sulphadiazine, sulphanilamide, sulphaquinoxal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iaminopyrimidines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methoprim, ormetoprim and baquilop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Quinol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lidixic acid, enrofloxacin, difloxacin and ciproflaxoc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ta-lactam antibio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 G, ampicillin, cloxacillin, cephazolin, cephalex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646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ont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7FAE-4222-41EB-827C-0586A4DD08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C4D711-2D3D-4D0B-9D66-C31B4B68C313}" type="datetime3">
              <a:rPr lang="en-US"/>
              <a:t>July 31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5. 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minoglycosi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ptomysin, gentamicin, amikacine, tobra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6.  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etracycl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tetracycline, tetracycline, doxycyline, minocycli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9E5-1B37-49FA-92D0-D5D92DE8A3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9E3679-B937-4F8F-92F3-DF02CF3A46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0102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acrolide Antibio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ythromycin and Azithro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trofuran – Deriva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trofurantoin and furazolidon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troimidazo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nidazole and Imidaz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olypeptide Antibio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ymyxin B, Colistin and bacitric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olyene Antibio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statin and amphotericin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B5D7-8DF4-45DC-BD69-13478ECE4B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C45E49-FB0B-458F-B049-5DA0D0CDC823}" type="datetime3">
              <a:rPr lang="en-US"/>
              <a:t>July 31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12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midazole derivative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oconazole, fluconazole and clotrimaz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96192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D2B9-B6B0-4616-905E-4ED9AFEA277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196853-B4A1-4FAC-97B2-964FFCD66A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.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rapeutic uses (Type of Organism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bacteri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, aminoglycosides, tetracycline, &amp; chloramphenicol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fung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hotericin B, griseofuvin and ketoconaz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vir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oxuridine, vidarabine, zidovudine, and ribav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protoz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nidazole, quinapyramine and diminazin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9E9-DDD4-4841-A5AA-69672EA328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46CE87-85FC-4135-8E15-F1E971CDC95B}" type="datetime3">
              <a:rPr lang="en-US"/>
              <a:t>July 31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helmin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bendazole, levamisole, niclosamide and praziqunt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Ectoparasitici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permethrin, lindane, amitraz and  eth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93E5-6211-4813-87A0-C05331B9AA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F099D2A-F0CB-4372-AAE7-F2ECD3B796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3840" y="509400"/>
            <a:ext cx="7647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.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pectrum of Activ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98240" y="201780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rrow spectrum antimicrobi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 G, streptomycin, erythromycin and vancomyc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Spectrum Antimicrobi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tracycline, chloramphenicol, cephalexin, gentamycin, ampicll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16C6-B2EC-46A7-B49F-E45A5ACE0C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596DF1-B10D-4B04-92DB-37D0D72704C5}" type="datetime3">
              <a:rPr lang="en-US"/>
              <a:t>July 31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7840" y="460440"/>
            <a:ext cx="7000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E.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ype of A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2017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acteriost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8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phonamides, chloramphenicol, erythromycin, trimethoprim, clinda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actericid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8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 G, cephalexin, streptomycin, vancomycin, bacitracin and  potentiated  sulphonam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107640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E032-E6A0-4B31-90A3-FFC2489013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A45296-325C-4D6D-ACBD-33079BB7EB68}" type="datetime3">
              <a:rPr lang="en-US"/>
              <a:t>July 31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.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ural and Semi-synthe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)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ung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icillin G, griseofulvin and cephalex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) Actinomyce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ptomycin, tetracycline, erythromycin and    chloramphenic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)  Bacte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myxin B, Colistin and bacitrac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ynthet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lphonamides, trimethoprim, quinolones, nitrofurans and nitro-imidaz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990360" cy="136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10FB-DB06-4E28-96B9-02A052A8E2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4E02A3-F2B9-46EE-BE17-6BF93E006683}" type="datetime3">
              <a:rPr lang="en-US"/>
              <a:t>July 31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on of an Antimicrobial Ag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t depends on the peculiariti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fecting org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t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bjective is to ha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action on infecting organis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96080" y="990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FDF-68FD-4008-A1CD-A3C0E813BF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444D508-A711-4C7F-BB0B-B04FAD8F1058}" type="datetime3">
              <a:rPr lang="en-US"/>
              <a:t>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s and Conce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8600"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Chemotherapeutic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rugs used to interfere with the functioning of foreign cel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60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60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substances produced by various micro organisms that kill or suppress growth of other micro org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1905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127C-004A-452A-865E-18527878BF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D6D785-D031-406C-9D21-503F3C6ADD0C}" type="datetime3">
              <a:rPr lang="en-US"/>
              <a:t>July 31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)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desirable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)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least effect on the host an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EEC-5417-4A87-B801-18FE03A1536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4C19EC-F402-41EB-BEFF-DDBF37803A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ganism Related Fa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organism ( Culture and identification, molecular biological techniques etc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itivity Pattern (Bacterial Sensitivity Test etc. like disc diffusion tes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DE4-624E-4A60-BA0B-83B0CCE34A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6E5B59-D30E-4253-9E09-AC368A48A4EF}" type="datetime3">
              <a:rPr lang="en-US"/>
              <a:t>July 31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rug Related Fa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trum of activity: narrow vs broad spectrum, combination of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f activity: bacteriostatic vs bactericid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rmacokinetic profi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ncentration at site of infection for adequate length of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of admin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10520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DC83-BD4C-4D7D-9369-BEF4DA80CA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4D7F8A9-51E6-43CC-B3D3-5CD1AF5AB0E6}" type="datetime3">
              <a:rPr lang="en-US"/>
              <a:t>July 31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 interactions (nsaid’s enhances CNS toxicity of fluoroquinolo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 toxicity (penicillins are least toxic, chloramphenicol and clindamycin have serious toxic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microbial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791-C149-43A9-97A5-8C869B82689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91D555A-A4D0-4E80-8A6C-39C5CA6CEB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ost Fa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defens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ological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nal Dise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patic dys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ato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D90-AB1C-4902-A723-473D425151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6F1CEE-0BF1-497B-8CBF-5CEF5D855DB6}" type="datetime3">
              <a:rPr lang="en-US"/>
              <a:t>July 31, 20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gna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Fact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759A-A73E-4E56-8B7B-1EA6FAEE9F4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40AEBC-AB96-4339-BB3D-6C41F75B5B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cterial Sensitivity Test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 diffusion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be dilution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67480" y="5638680"/>
            <a:ext cx="1123920" cy="10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98CA-E078-4C30-A85D-B720FDA997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C64FFB-A2E2-4E91-BF76-E8C10D7BB386}" type="datetime3">
              <a:rPr lang="en-US"/>
              <a:t>July 31, 20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Combination of Antimicrobial Dru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 of comb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broaden the spectrum of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reat mixed inf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chieve synerg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prevent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inimize tox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0" y="4495680"/>
            <a:ext cx="153360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932-C968-4B68-A53F-38C6BC050F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A90D0A-B46A-4ED6-B310-18F9974991D4}" type="datetime3">
              <a:rPr lang="en-US"/>
              <a:t>July 31, 20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9847"/>
                </a:solidFill>
                <a:latin typeface="Tahoma"/>
              </a:rPr>
              <a:t>Guidelines for combination of antimicrobial dru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7E10-C9B7-4F30-A801-F335E0B5B9C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D45A02-150F-45AB-94EC-0D8A573841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cidal + bactericidal = synergistic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ostatic + bacteriostatic = additive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cidal + bacteriostatic = antagonistic eff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5F66-8971-493B-9467-FB5100C935A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8D65767-9488-4D9F-94B0-1AA6A13B07B0}" type="datetime3">
              <a:rPr lang="en-US"/>
              <a:t>July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just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emical substances whether natural, synthetic or semi-synthetic that kill or suppress the growth of micro org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107640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C6C5-8BA9-455D-9E91-52D2BAC35D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ED7418-F943-428D-9C35-9D2C61DC9026}" type="datetime3">
              <a:rPr lang="en-US"/>
              <a:t>July 31, 20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cidal:Bacteriosta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icill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loramphen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phalospor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ycl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inoglyco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rol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inol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phonam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closer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methop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38E5-A0DA-450B-BE52-B7319D4CC42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D5C2377-D4EB-45A1-98E3-B3D99B0F8F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nc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cosam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myx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itra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obio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fampi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tiated Sulp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61C5-1A93-450B-B6A9-500DB76DE2BA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B9CEF0-BB48-4EFB-B7AB-D3E0B6DD59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oad spect  :    Narrow spec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icil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icillin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benicil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ept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phalospo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loramphen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c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ycl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nc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phonam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myxi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5D9A-601C-4977-95A6-CD557DB06FC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635F9D-7A1F-4726-9C3E-52178DC126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ssue Distribution Patter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distributed to extracellular flu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Penicillins, cephalosporins, aminoglycos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in total body 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Fluoroquinolones, chloramphenicol, doxycyline, sulphonamides, erythromycin, clinda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73A-29B9-47C7-A440-C1F1EA0EEE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B8512E-D8DD-4FF6-987E-47C8DF5B4D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to CS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Sulphonamides, fluoroquinolones, doxycycline, metronidazole, rifampi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in B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Doxycycline, erythromycin, clindamycin, rifampi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6DA3-9EC5-494E-B551-BEA8E12566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8B2805-D5CE-4B94-8F53-67A3AF80AC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in Ur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Fluoroquinolones, sulphonamides, nalidixic acid, nitrofurantoin, cephalosporins, penicillins, vanc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9772-4539-4F2A-BE2D-B89C6B40B90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DCE53E-E0FF-47E7-8450-D08BAA81B6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Prophylactic Use of Anti-Microbial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rty contaminated w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surgical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event post-partum infections in d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5960-7207-43B8-B6E9-F9CC2A8E69C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CEB1C3-CF49-42C4-9A29-6E79CA02B5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event secondary bacterial infe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ease outbr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ndemic areas with high transmiss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04880" cy="12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81C7-0427-4A24-975A-B8CD9F05481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0EC896E-B115-4A51-BE0F-578ACDA0B9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Bacterial Resistance To Antimicrobia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sponsiveness of micro-organisms to an antimicrobial drug even at the maximum level that is tolerated by the host.  e.g G – ve to penicillin G and Vancomyci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43800" y="5486400"/>
            <a:ext cx="96192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4A33-FE7F-40C9-847B-E00A8C11C8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9B86A5-CADD-415D-B874-C5E1D67A6364}" type="datetime3">
              <a:rPr lang="en-US"/>
              <a:t>July 31, 20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TYPES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ural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cquired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E2A-9504-445E-B17B-7AE79428598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91D997-2B25-48FF-B6CE-17AEDC3A51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ve Toxi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ability of an antimicrobial agent to kill an invading microorganism without harming the cells of the h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86E1-266C-49B9-8AB2-7EAC12A9C6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87C9B08-F3D4-44C0-95FC-DAFBEA22AA7F}" type="datetime3">
              <a:rPr lang="en-US"/>
              <a:t>July 31, 20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 Re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or genetically resis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lack of penetration of drug into bacterial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bsence of metabolic pathway or target site affected by dru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rapid inactivation of drug in bact.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2F28-E5B2-4E79-8623-51F481E8BE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709845-609D-44F7-AAE7-2A801E82AF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quired Re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 organism becomes resistant to an antimicrobial agent to whom it was previously sensi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despread and inappropriate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B80-C0C1-4681-A7A1-FC44B5155C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FE3841-99FB-4719-9D79-7C78C50FCD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chanisms of Acquired Resistance Transmissi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pontaneously occurs in microorg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ccurs due to insertion, deletion or substitution of one or more nucleotides in the gen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Single step M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ococci to streptomyc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phylococci to Rifampic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Multi-step M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ythromyc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tracy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loramphenic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A1B-9DB5-459E-9B6B-DB497A4ADA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A42830-E350-4166-B780-FEBD00ADD1D1}" type="datetime3">
              <a:rPr lang="en-US"/>
              <a:t>July 31, 20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Gene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velops by transfer of genetic material coding for resistance from a resistant microorganism to a susceptible organ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esistant genes can be transferred b/w bacteria throug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ju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444-B56E-4CAE-B050-C9E238ACF15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5DF3A40-A39F-4BB2-A914-F99D48D702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Biochemical Mechanisms of Resistanc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ations in drug pene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ations in binding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ations in metabolic path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s inactivating enzy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FFCF-131F-47C8-98C1-9AC1DAB8C19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0B6B3D-DB60-4FBF-AD09-3DC0A4198D22}" type="datetime3">
              <a:rPr lang="en-US"/>
              <a:t>July 31, 20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s in drug penetra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reased penetrability of an antimicrobial agent into the bacterial cell may occur due to either changes in permeability of cell wall or alterations in transport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4CF2-52B0-449C-85A4-4E9AA514DF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76803D-5EC1-4D0B-8159-E30B1E0F61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s in binding sit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microbials fail to bind to their specific sites and cannot perform their action. e.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ations in penicillin binding proteins can confer resistance against penicill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60D-920B-4696-BACC-B4AEDA94E1EF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B98096-4D7E-493A-A736-F58C43B030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s in metabolic pathway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ulphas resistant bacteria start synthesis of their own PAB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A67F-B425-4E0C-A103-AE7AF80010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8FFA7E-6121-439F-9CF0-7F37E755CD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ug inactivating enzym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re either inducible or constitutive. e.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loramphenicol is inactivated by acetyltransfer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glycosides are inactivated by certain transfer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0E1E-8994-41E4-A1BB-1CA3408C561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2373AD-D526-489F-8455-06C2DED7FC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oss Resistanc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ype of acquired resistance in which bacteria resistant to one antimicrobial agent also become resistant to another antimicrobial without having exposed to the l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BED9-8F61-4E19-8DC9-C4926358F7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F8AE66-770F-4B45-ACDB-8984BD156E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s to the ability of a compound to react with the microbial cell molecules in a way that interferes with growth and multiplication of microorganism or causes killing of the microorg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E6D5-3A49-4B03-88EF-D75D3BDA41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3AD04FE-E193-42D7-BB0C-6DE62851C67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82600" y="685800"/>
            <a:ext cx="77724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Cross  Resistance (two way cross resista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. Resistant to one antimicrobial are also resistant to a second drug and vice-ver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). Neomyc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na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) Erythromyc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eand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0420-D236-49C8-BE08-7F31A57D2B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7CEC27-8A64-436B-9063-7DE97FCC8B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Cross Resistance (one way cross resista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. Resistant to one antimicrobial are also resistant to second drug, but resistance to second antimicrobial does not lead to resistance to first antimicrobial ag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). Gentamyc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namyc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to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105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1A69-A484-4EE4-883F-797D39B77734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75805D-8E7B-4643-ADB4-D85FCED0A6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 Cross Resistanc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Cross Resis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mycin              Kana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ythromycin         Oleand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ross Resis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tamycin     Kanamycin   Strept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12372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65724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7B2D-FEF7-480F-8241-FC64E9D6AE5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471F9D6-ADD4-4286-8F69-AA950BD160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dverse Reactions to Antimicrobial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tissue toxic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ephrotoxicity        Aminoglycoside   hepatotoxicity        Tetracyclines, neurotoxicity         Streptomycin,       bone marrow depression     Chlorampheni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ensitivity reactions (penicillins, cephalosporins, sulphonamid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67480" y="5562720"/>
            <a:ext cx="1019160" cy="1133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16BC-BD1E-4363-82C9-B3772F2FBA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68C072-D5B4-4416-BD35-6932B49B3BDB}" type="datetime3">
              <a:rPr lang="en-US"/>
              <a:t>July 31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per infection /supra inf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earance of a new infection as a result of indiscriminate use of antimicrobial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with broad spectrum antimicrobials like tetracyc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utritional deficiencies (vit. K,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F9F-9034-414C-A233-892516820E1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804986A-1565-4C80-97EE-5FD7912699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Failure of Antimicrobial 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diagnosis of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inf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etration to the site of infection (pus, exudates, tissue debr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aired host defenc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route of drug admin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0A84-508E-4719-825E-025B707595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FA7EA6-04B6-4F24-A10C-B98AF1845DC5}" type="datetime3">
              <a:rPr lang="en-US"/>
              <a:t>July 31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dequate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pse  of dormant or refractory org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management (nursing c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ed start of trea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d or substandard dr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mpliance with therapeutic regi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0839-8067-4C46-9254-17AFC9DCAEF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AB12835-A234-45D3-ADFE-4B65A6E003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Guidelines for Successful Anti-Microbial 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spectrum (preferred for known organism) VS Broad spectrum (For unknown org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ericidal (Preferred) Vs Bacteriosta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toxic (Preferred) Vs Potentially tox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interval (Preferred) Vs short inter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al route (Preferred for less severe infections) Vs parenteral  for severe infectio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dose and duration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7F77-4929-4DEB-80BF-C67D23F9A5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77218F-4EC2-42C4-80DD-D83ED5EA4848}" type="datetime3">
              <a:rPr lang="en-US"/>
              <a:t>July 31, 20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combination of dru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misuse (over u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ap and eas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le pharmaceutical fi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antimicrobial use for untreatable infec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085760" cy="110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F87-1A69-405D-9D69-1143961805A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708F2D-A523-47E9-B615-92DDD611C9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111"/>
                </a:solidFill>
                <a:latin typeface="Tahoma"/>
              </a:rPr>
              <a:t>THANKS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3D2-DAB8-4E51-B3AF-B74392DD99DE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48FFBB7-B06C-4972-81A5-815A3CE68E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acteriostatic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the ability of the antibacterial agent to inhibit the growth and multiplication of bact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9859-D519-4F48-8A79-3320A97C52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1AC3D3-7EC6-4D76-AC5D-C8437C438B77}" type="datetime3">
              <a:rPr lang="en-US"/>
              <a:t>July 31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cidal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the ability of an antimicrobial agent to cause the death of the bact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F6D5-8AB0-479F-8D0E-D4E69EDECC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9B5668-DB5B-4B2D-B6E2-CEA4817CB000}" type="datetime3">
              <a:rPr lang="en-US"/>
              <a:t>July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s to the range of pathogenic organisms against which an antimicrobial agent is ac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S.A.M. are active against a wide variety of organis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S.A.M. are active against a few or a class/type of organis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4C8A-37EE-44A9-9F06-0DAEC17DE1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0DAEEF0-CB45-458D-95FC-E593462DC9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vais</cp:lastModifiedBy>
  <dcterms:modified xsi:type="dcterms:W3CDTF">2010-10-22T02:55:46Z</dcterms:modified>
  <cp:revision>3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