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1.jpeg" ContentType="image/jpeg"/>
  <Override PartName="/ppt/media/image20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19.jpeg" ContentType="image/jpeg"/>
  <Override PartName="/ppt/media/image6.wmf" ContentType="image/x-wmf"/>
  <Override PartName="/ppt/media/image18.png" ContentType="image/png"/>
  <Override PartName="/ppt/media/image7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044-5DB5-429E-A246-1C6C003A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4EC-41CD-4D43-BA34-A5E07D38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4CE-8707-4FAF-8478-D06471BD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33B-78AC-4A85-9684-71BD480A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9876-C009-4048-A5DD-0B865AAF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6CD6-8F29-4FBD-9156-2E2B6705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B075-E244-48FA-B970-B0552F8F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0242-1511-4AB6-9D84-6B22B3F1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0F4F-2779-49F4-BEAF-0B713546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D081-620F-42B4-874B-97143EBB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3DA0-2B71-477B-8494-7662F16E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84F-A44F-48EA-8090-F6EFD9B0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36A0-DBA7-42D1-969E-CA9A9B57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D1F4-4BE7-4F07-8227-2FD115B1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ABA1-A825-44B5-9D4E-1EC1AC5C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C3D7-AADA-4922-B928-C36402D8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5BBC-009D-4B3B-BB9B-ACEF8332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9EEF-C491-4150-8BC9-B6FC2599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CDA-9AF0-4A05-9AA2-52CD6B32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AE5-FBB6-476B-99D8-99BDC786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929-4624-4777-A3FF-4EB78E42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0C1-4481-423A-90A0-C027DD09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477-965C-4C6D-A086-F8866B3A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289-440D-4DDA-8AF6-C0F077E2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5841-A990-4973-958E-E2B0D4E523CD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029D-70E0-42C8-BCA1-E15AF54D5A89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964720" cy="230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llutant Release and Transfer Register – Important Tool for NGOs Working on Chemicals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468360" y="6021360"/>
          <a:ext cx="86364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021360"/>
                    <a:ext cx="8636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IPEN General Assemb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maty, October – 22 -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RNDr. Jindřich Petrlí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rnika Asso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IPEN"/>
          <p:cNvPicPr/>
          <p:nvPr/>
        </p:nvPicPr>
        <p:blipFill>
          <a:blip r:embed="rId3"/>
          <a:stretch/>
        </p:blipFill>
        <p:spPr>
          <a:xfrm>
            <a:off x="6804000" y="5950080"/>
            <a:ext cx="1944720" cy="54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Obrázek 3" descr="továrna_300dpi.JPG"/>
          <p:cNvPicPr/>
          <p:nvPr/>
        </p:nvPicPr>
        <p:blipFill>
          <a:blip r:embed="rId1"/>
          <a:stretch/>
        </p:blipFill>
        <p:spPr>
          <a:xfrm>
            <a:off x="4356000" y="1844640"/>
            <a:ext cx="4260960" cy="4308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57200" y="1676520"/>
            <a:ext cx="57704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1978 – first PRTR i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New Jersey – 155 chemicals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7000 reporting fac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1986 – TRI and RTK i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U.S. federal law – following Bhopal accid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1991 – U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1993 – Canad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"/>
              </a:rPr>
              <a:t>2002 – Czech Republ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TR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oxic Release Inventory (TRI) –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ttp://www.epa.gov/cgi-bin/broker?view=USCH&amp;trilib=TRIQ0&amp;sort=_VIEW_&amp;sort_fmt=1&amp;state=All+states&amp;county=All+counties&amp;chemical=All+chemicals&amp;industry=ALL&amp;year=2009&amp;tab_rpt=1&amp;fld=RELLBY&amp;fld=TSFDSP&amp;_service=oiaa&amp;_program=xp_tri.sasmacr.tristart.macr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European PRT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E-PRT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ECD – PRTR Task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ttp://www.oecd.org/env_prtr_rc/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anada – Pollution Watch (NGO si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http://www.pollutionwatch.org/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RTR in pic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Zástupný symbol pro obsah 10" descr="PRTR_Toshiba.gif"/>
          <p:cNvPicPr/>
          <p:nvPr/>
        </p:nvPicPr>
        <p:blipFill>
          <a:blip r:embed="rId1"/>
          <a:stretch/>
        </p:blipFill>
        <p:spPr>
          <a:xfrm>
            <a:off x="900000" y="1484280"/>
            <a:ext cx="76374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RTR in pic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Zástupný symbol pro obsah 4" descr="Toshiba45_6.gif"/>
          <p:cNvPicPr/>
          <p:nvPr/>
        </p:nvPicPr>
        <p:blipFill>
          <a:blip r:embed="rId1"/>
          <a:stretch/>
        </p:blipFill>
        <p:spPr>
          <a:xfrm>
            <a:off x="684360" y="1197000"/>
            <a:ext cx="4835520" cy="2663640"/>
          </a:xfrm>
          <a:prstGeom prst="rect">
            <a:avLst/>
          </a:prstGeom>
          <a:ln w="0">
            <a:noFill/>
          </a:ln>
        </p:spPr>
      </p:pic>
      <p:pic>
        <p:nvPicPr>
          <p:cNvPr id="153" name="Obrázek 5" descr="Toshiba46_4.gif"/>
          <p:cNvPicPr/>
          <p:nvPr/>
        </p:nvPicPr>
        <p:blipFill>
          <a:blip r:embed="rId2"/>
          <a:stretch/>
        </p:blipFill>
        <p:spPr>
          <a:xfrm>
            <a:off x="4284720" y="3860640"/>
            <a:ext cx="4548240" cy="259272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6"/>
          <p:cNvSpPr/>
          <p:nvPr/>
        </p:nvSpPr>
        <p:spPr>
          <a:xfrm>
            <a:off x="5651640" y="1773360"/>
            <a:ext cx="3313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Amounts of top five substances targeted for usage reduction currently handled (Toshiba 200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Přímá spojovací šipka 8"/>
          <p:cNvCxnSpPr>
            <a:stCxn id="154" idx="2"/>
          </p:cNvCxnSpPr>
          <p:nvPr/>
        </p:nvCxnSpPr>
        <p:spPr>
          <a:xfrm flipH="1">
            <a:off x="7306920" y="3558960"/>
            <a:ext cx="2160" cy="446760"/>
          </a:xfrm>
          <a:prstGeom prst="straightConnector1">
            <a:avLst/>
          </a:prstGeom>
          <a:ln w="2232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56" name="TextovéPole 9"/>
          <p:cNvSpPr/>
          <p:nvPr/>
        </p:nvSpPr>
        <p:spPr>
          <a:xfrm>
            <a:off x="611280" y="4221000"/>
            <a:ext cx="33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Emmissions of top five substances targeted for reduction (Toshiba 200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Přímá spojovací šipka 12"/>
          <p:cNvCxnSpPr>
            <a:stCxn id="156" idx="0"/>
          </p:cNvCxnSpPr>
          <p:nvPr/>
        </p:nvCxnSpPr>
        <p:spPr>
          <a:xfrm flipV="1">
            <a:off x="2266920" y="3430080"/>
            <a:ext cx="2160" cy="791280"/>
          </a:xfrm>
          <a:prstGeom prst="straightConnector1">
            <a:avLst/>
          </a:prstGeom>
          <a:ln w="2232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RTR in pic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9" name="Zástupný symbol pro obsah 4" descr="Toshiba45_3.gif"/>
          <p:cNvPicPr/>
          <p:nvPr/>
        </p:nvPicPr>
        <p:blipFill>
          <a:blip r:embed="rId1"/>
          <a:stretch/>
        </p:blipFill>
        <p:spPr>
          <a:xfrm>
            <a:off x="1763640" y="2924280"/>
            <a:ext cx="5643720" cy="3168720"/>
          </a:xfrm>
          <a:prstGeom prst="rect">
            <a:avLst/>
          </a:prstGeom>
          <a:ln w="0">
            <a:noFill/>
          </a:ln>
        </p:spPr>
      </p:pic>
      <p:sp>
        <p:nvSpPr>
          <p:cNvPr id="160" name="TextovéPole 5"/>
          <p:cNvSpPr/>
          <p:nvPr/>
        </p:nvSpPr>
        <p:spPr>
          <a:xfrm>
            <a:off x="3059280" y="1268280"/>
            <a:ext cx="33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Changes in the amount released of substances subject to reduction (Toshiba 200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spalovna1"/>
          <p:cNvPicPr/>
          <p:nvPr/>
        </p:nvPicPr>
        <p:blipFill>
          <a:blip r:embed="rId1"/>
          <a:stretch/>
        </p:blipFill>
        <p:spPr>
          <a:xfrm>
            <a:off x="4788000" y="1341360"/>
            <a:ext cx="4059000" cy="46404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Waste incinerator Lib</a:t>
            </a: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erec – </a:t>
            </a: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Dioxins (PCDD/Fs) </a:t>
            </a: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3800" spc="-1" strike="noStrike">
                <a:solidFill>
                  <a:srgbClr val="ffffff"/>
                </a:solidFill>
                <a:latin typeface="Arial"/>
              </a:rPr>
              <a:t>lance 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576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Rather model of PRTR for one facil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ir emissions: 3% PCDD/F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Waste transfer – slag: 3% PCDD/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Waste transfer – fly ash: 94% PCDD/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Examples of PCDD/Fs waste transfers reported per facility: MWI – 8 g TEQ/y, HWI – 30 g TEQ/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Total air emissions: 178 g TEQ/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CDD/Fs in wastes are not measured regular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Waste residues from waste incinerators are often declared as prod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Examples of information we can obtain from PRTR 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ercury in different releases and transfers (Czech Republ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971640" y="2286000"/>
          <a:ext cx="7350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86000"/>
                    <a:ext cx="7350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Examples of information we can obtain from PRTR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rsenic in air releases, water releases and wastes transfers (Cezch Rep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2"/>
          <p:cNvGraphicFramePr/>
          <p:nvPr/>
        </p:nvGraphicFramePr>
        <p:xfrm>
          <a:off x="1042920" y="2133720"/>
          <a:ext cx="9323280" cy="59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33720"/>
                    <a:ext cx="9323280" cy="59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TR – top-ten polluters - carcinogenic compounds </a:t>
            </a:r>
            <a:br>
              <a:rPr sz="4000"/>
            </a:b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zech Rep. 2009 (Category 1 according IARC)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AutoShape 27"/>
          <p:cNvSpPr/>
          <p:nvPr/>
        </p:nvSpPr>
        <p:spPr>
          <a:xfrm>
            <a:off x="6156360" y="206064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599840"/>
            <a:ext cx="649116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Kronospan02"/>
          <p:cNvPicPr/>
          <p:nvPr/>
        </p:nvPicPr>
        <p:blipFill>
          <a:blip r:embed="rId1"/>
          <a:stretch/>
        </p:blipFill>
        <p:spPr>
          <a:xfrm>
            <a:off x="5292720" y="1628640"/>
            <a:ext cx="3591000" cy="5042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2352600" cy="2791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3"/>
          <a:stretch/>
        </p:blipFill>
        <p:spPr>
          <a:xfrm>
            <a:off x="2195640" y="1628640"/>
            <a:ext cx="3543120" cy="2800440"/>
          </a:xfrm>
          <a:prstGeom prst="rect">
            <a:avLst/>
          </a:prstGeom>
          <a:ln w="0">
            <a:noFill/>
          </a:ln>
        </p:spPr>
      </p:pic>
      <p:sp>
        <p:nvSpPr>
          <p:cNvPr id="178" name="TextovéPole 5"/>
          <p:cNvSpPr/>
          <p:nvPr/>
        </p:nvSpPr>
        <p:spPr>
          <a:xfrm>
            <a:off x="1619280" y="4941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Kronospan facility, Jihlava (Czech Rep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Decreased emissions of dichloromethane </a:t>
            </a:r>
            <a:br>
              <a:rPr sz="4000"/>
            </a:b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– PRTR Czech Rep. – former top-ten  polluters winners</a:t>
            </a:r>
            <a:endParaRPr b="0" lang="en-US" sz="2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755640" y="1916280"/>
          <a:ext cx="8885160" cy="56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88516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ollutant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lease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and Transfer Register - PRTR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ow it can be used by NGOs and other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Where does it come fr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amples of PRT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ternational context – Relations to international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NITAR projects on POPs and PRT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Example of decreased emissions of styrene in consequence of PRTR NGOs activity</a:t>
            </a:r>
            <a:br>
              <a:rPr sz="2800"/>
            </a:b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3" name="Graf 10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803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RTR Defense in pic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TextovéPole 5"/>
          <p:cNvSpPr/>
          <p:nvPr/>
        </p:nvSpPr>
        <p:spPr>
          <a:xfrm>
            <a:off x="826920" y="126828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Action to prevent PRTR water down by industry in the Czech Republic - 200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Zástupný symbol pro obsah 5" descr="jo_0057.JPG"/>
          <p:cNvPicPr/>
          <p:nvPr/>
        </p:nvPicPr>
        <p:blipFill>
          <a:blip r:embed="rId1"/>
          <a:stretch/>
        </p:blipFill>
        <p:spPr>
          <a:xfrm>
            <a:off x="468360" y="2205000"/>
            <a:ext cx="4916520" cy="3278160"/>
          </a:xfrm>
          <a:prstGeom prst="rect">
            <a:avLst/>
          </a:prstGeom>
          <a:ln w="0">
            <a:noFill/>
          </a:ln>
        </p:spPr>
      </p:pic>
      <p:pic>
        <p:nvPicPr>
          <p:cNvPr id="187" name="Obrázek 6" descr="svejk_166.JPG"/>
          <p:cNvPicPr/>
          <p:nvPr/>
        </p:nvPicPr>
        <p:blipFill>
          <a:blip r:embed="rId2"/>
          <a:stretch/>
        </p:blipFill>
        <p:spPr>
          <a:xfrm>
            <a:off x="4788000" y="3357720"/>
            <a:ext cx="4140000" cy="2759040"/>
          </a:xfrm>
          <a:prstGeom prst="rect">
            <a:avLst/>
          </a:prstGeom>
          <a:ln w="0">
            <a:noFill/>
          </a:ln>
        </p:spPr>
      </p:pic>
      <p:sp>
        <p:nvSpPr>
          <p:cNvPr id="188" name="TextovéPole 5"/>
          <p:cNvSpPr/>
          <p:nvPr/>
        </p:nvSpPr>
        <p:spPr>
          <a:xfrm>
            <a:off x="5508720" y="2205000"/>
            <a:ext cx="33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Petition to Czech Parliament – over 16 thousands signat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ational Contex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TR Protocol to the Aarhus Co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6 - OECD has developed a reco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atio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on PRT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TR Protocol was agreed at Aarhus Convention COP – May – 21 - 2003 in Ki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-PRTR is a mirror of PRTR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emically specific reporting on wastes is volun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TR and Stockholm Conven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rticle 10, para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5. Each Party shall give sympathetic consideration to developing mechanisms, such as pollutant releas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nd transfer registers, for the collection and dissemination of information on estimates of the annual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quantities of the chemicals listed in Annex A, B or C that are released or disposed o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PRTR and POPs - UNI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Ps monitoring, reporting and information dissemination using Pollutant Release and Transfer Registers (PRT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ctivity 2.3</a:t>
            </a: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Public Information dissemination to main stakeholder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2.3.1 Develop a Public Outreach Strategy and Training Materi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) hire a consultant to develop a public outreach strategy for PRTRs; (ii) implement, in conjunction with relevant stakeholders, the PRTR outreach strategy; (iii) review existing materials on PRTR development and use/ interpretation; (iv) develop and/or update training materials for national stakeholders – government officials, NGOs, industry sector and journalists- on PRTR use and understanding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PRTR and POPs - UNI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Ps monitoring, reporting and information dissemination using Pollutant Release and Transfer Registers (PRT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2.3.2  Implement a training programme for NG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i) develop a detailed programme to train NGOs to fully participate in the PRTR process; (ii) organize a workshop to assess NGOs knowledge and needs regarding PRTR administration and data processing; (iii) conduct two workshops to train NGOs regarding PRTR involvement, data interpretation and dissemination (iv) develop a training programme report and manual for NG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PRTR and POPs - UNI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Ps monitoring, reporting and information dissemination using Pollutant Release and Transfer Registers (PRT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bjective 3: Design a PRTR system for POPs monitoring and reporting in Cambodia, Ecuador, Kazakhstan, Peru, Thailand and Ukr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l activities under this Objective will be conducted in every participating country and cross-cutting activities (NGO participation, development of a legislative framework) will be performed in every country and will be included in activities 3.2 to 3.6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55280" y="2420640"/>
            <a:ext cx="7929720" cy="17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RNDr. Jindřich Petrlík, executive director Toxics and Waste Programme of Arnika Assoc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Co-chair od Dioxin, PCBs and Waste WG, and Heavy Metals WG of IP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english.arnika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www.ipen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e-mail: jinrich.petrlik@arnika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11280" y="404640"/>
            <a:ext cx="7627680" cy="203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4038480" y="5638680"/>
          <a:ext cx="12193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5638680"/>
                    <a:ext cx="12193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RTR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of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hemical releases and transfers from individual facilities across the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PRT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ly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ible to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ublic (int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ery yea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cludes accidential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overs waste stream (chemically specific reporting on was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cludes on site as well as off site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overs all industry sectors and is specific on each facility releases and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TR in pictur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Picture 3" descr="FABRIKA"/>
          <p:cNvPicPr/>
          <p:nvPr/>
        </p:nvPicPr>
        <p:blipFill>
          <a:blip r:embed="rId1"/>
          <a:stretch/>
        </p:blipFill>
        <p:spPr>
          <a:xfrm>
            <a:off x="324000" y="1628640"/>
            <a:ext cx="6759360" cy="49532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25"/>
          <p:cNvSpPr/>
          <p:nvPr/>
        </p:nvSpPr>
        <p:spPr>
          <a:xfrm>
            <a:off x="5508720" y="5445000"/>
            <a:ext cx="503280" cy="576360"/>
          </a:xfrm>
          <a:prstGeom prst="downArrowCallout">
            <a:avLst>
              <a:gd name="adj1" fmla="val 25002"/>
              <a:gd name="adj2" fmla="val 25000"/>
              <a:gd name="adj3" fmla="val 19087"/>
              <a:gd name="adj4" fmla="val 6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7"/>
          <p:cNvSpPr/>
          <p:nvPr/>
        </p:nvSpPr>
        <p:spPr>
          <a:xfrm>
            <a:off x="5219640" y="220500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2843280" y="4941720"/>
            <a:ext cx="1225440" cy="360360"/>
          </a:xfrm>
          <a:prstGeom prst="leftArrow">
            <a:avLst>
              <a:gd name="adj1" fmla="val 50000"/>
              <a:gd name="adj2" fmla="val 85015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31"/>
          <p:cNvSpPr/>
          <p:nvPr/>
        </p:nvSpPr>
        <p:spPr>
          <a:xfrm>
            <a:off x="6443640" y="5300640"/>
            <a:ext cx="504720" cy="50472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ovéPole 7"/>
          <p:cNvSpPr/>
          <p:nvPr/>
        </p:nvSpPr>
        <p:spPr>
          <a:xfrm>
            <a:off x="2268360" y="1197000"/>
            <a:ext cx="496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Flows covered by the Czech PRT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ovéPole 8"/>
          <p:cNvSpPr/>
          <p:nvPr/>
        </p:nvSpPr>
        <p:spPr>
          <a:xfrm>
            <a:off x="7164360" y="1700280"/>
            <a:ext cx="1800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Releases t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Transfers i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Waste wa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Was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Accidential relea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RTR in pictur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3" descr="FABRIKA"/>
          <p:cNvPicPr/>
          <p:nvPr/>
        </p:nvPicPr>
        <p:blipFill>
          <a:blip r:embed="rId1"/>
          <a:stretch/>
        </p:blipFill>
        <p:spPr>
          <a:xfrm>
            <a:off x="179280" y="1700280"/>
            <a:ext cx="675972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/>
          <p:cNvSpPr/>
          <p:nvPr/>
        </p:nvSpPr>
        <p:spPr>
          <a:xfrm>
            <a:off x="5651640" y="5877000"/>
            <a:ext cx="502920" cy="576360"/>
          </a:xfrm>
          <a:prstGeom prst="downArrowCallout">
            <a:avLst>
              <a:gd name="adj1" fmla="val 25002"/>
              <a:gd name="adj2" fmla="val 25000"/>
              <a:gd name="adj3" fmla="val 19100"/>
              <a:gd name="adj4" fmla="val 6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5003640" y="2276640"/>
            <a:ext cx="432000" cy="792000"/>
          </a:xfrm>
          <a:prstGeom prst="upArrow">
            <a:avLst>
              <a:gd name="adj1" fmla="val 50000"/>
              <a:gd name="adj2" fmla="val 458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2700360" y="5013360"/>
            <a:ext cx="1225440" cy="360360"/>
          </a:xfrm>
          <a:prstGeom prst="leftArrow">
            <a:avLst>
              <a:gd name="adj1" fmla="val 50000"/>
              <a:gd name="adj2" fmla="val 85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6300720" y="5229360"/>
            <a:ext cx="504720" cy="50472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195640" y="3789360"/>
            <a:ext cx="2016000" cy="647640"/>
          </a:xfrm>
          <a:prstGeom prst="rightArrow">
            <a:avLst>
              <a:gd name="adj1" fmla="val 50000"/>
              <a:gd name="adj2" fmla="val 7782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003640" y="5013360"/>
            <a:ext cx="1224000" cy="57636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195640" y="342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stupy lá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5076720" y="551664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řenosy v odpadech uvnitř provozovn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ovéPole 11"/>
          <p:cNvSpPr/>
          <p:nvPr/>
        </p:nvSpPr>
        <p:spPr>
          <a:xfrm>
            <a:off x="1476360" y="1125360"/>
            <a:ext cx="561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Flows  NOT covered by the Czech PRT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ovéPole 12"/>
          <p:cNvSpPr/>
          <p:nvPr/>
        </p:nvSpPr>
        <p:spPr>
          <a:xfrm>
            <a:off x="7093080" y="2637000"/>
            <a:ext cx="1800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Flow in; </a:t>
            </a: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Chemicals used for produ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</a:rPr>
              <a:t>On site trans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RTR in pic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Zástupný symbol pro obsah 10" descr="PRTR_Toshiba.gif"/>
          <p:cNvPicPr/>
          <p:nvPr/>
        </p:nvPicPr>
        <p:blipFill>
          <a:blip r:embed="rId1"/>
          <a:stretch/>
        </p:blipFill>
        <p:spPr>
          <a:xfrm>
            <a:off x="900000" y="1484280"/>
            <a:ext cx="76374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rcury flow model for PRTR of individual chlor-alkali plant ve Spolaně Neratovice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755640" y="1844640"/>
          <a:ext cx="7772400" cy="47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777240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ovéPole 5"/>
          <p:cNvSpPr/>
          <p:nvPr/>
        </p:nvSpPr>
        <p:spPr>
          <a:xfrm>
            <a:off x="133200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bdélník 6"/>
          <p:cNvSpPr/>
          <p:nvPr/>
        </p:nvSpPr>
        <p:spPr>
          <a:xfrm>
            <a:off x="4067280" y="2492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ir emissions from electro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bdélník 7"/>
          <p:cNvSpPr/>
          <p:nvPr/>
        </p:nvSpPr>
        <p:spPr>
          <a:xfrm>
            <a:off x="983880" y="19890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her air emi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ovéPole 8"/>
          <p:cNvSpPr/>
          <p:nvPr/>
        </p:nvSpPr>
        <p:spPr>
          <a:xfrm>
            <a:off x="6804000" y="3068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eases to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ovéPole 9"/>
          <p:cNvSpPr/>
          <p:nvPr/>
        </p:nvSpPr>
        <p:spPr>
          <a:xfrm>
            <a:off x="5364000" y="306864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ter purification 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ovéPole 10"/>
          <p:cNvSpPr/>
          <p:nvPr/>
        </p:nvSpPr>
        <p:spPr>
          <a:xfrm>
            <a:off x="6443640" y="436572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fferent waste transf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PRTR - chemic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Heavy meta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Volatile Organic Compounds (VOC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Persistent Organic Pollutants (POP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Greenhouse ga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Acid rain ga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Some specific pollutants – non chemically specific (e.g. PM</a:t>
            </a:r>
            <a:r>
              <a:rPr b="1" lang="cs-CZ" sz="27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Ozone Depleting Substances (OD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Pesticid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Chemicals with great impact on water ecosyst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Arial"/>
              </a:rPr>
              <a:t>Carcinogens, Mutagens and Reprotoxics (CMRs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TR – chemicals - threshold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0" y="993600"/>
          <a:ext cx="990108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3600"/>
                    <a:ext cx="990108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08:16:29Z</dcterms:created>
  <dc:creator>Jindřich Petrlík</dc:creator>
  <dc:description/>
  <dc:language>en-US</dc:language>
  <cp:lastModifiedBy>penchom</cp:lastModifiedBy>
  <dcterms:modified xsi:type="dcterms:W3CDTF">2016-05-31T08:34:19Z</dcterms:modified>
  <cp:revision>97</cp:revision>
  <dc:subject/>
  <dc:title>BAT</dc:title>
</cp:coreProperties>
</file>