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11.jpeg" ContentType="image/jpeg"/>
  <Override PartName="/ppt/media/image20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19.jpeg" ContentType="image/jpeg"/>
  <Override PartName="/ppt/media/image6.wmf" ContentType="image/x-wmf"/>
  <Override PartName="/ppt/media/image18.png" ContentType="image/png"/>
  <Override PartName="/ppt/media/image7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6569-5A36-41EE-BDE9-94635C0DA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449E-A048-4DD1-B772-0B43D2DD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6D03-47AF-4B9D-8C9B-A965277EA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88D8-B7DA-4DD4-AA40-C5D83DEB6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7214-ECA7-4E82-9BDF-AADD251A6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B758-4886-4C1A-8FFA-52045EB7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9DE2-36BA-4221-96E9-DE0EC838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50C0-AB74-4FAF-821D-AD6FCF75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CF5C-8F92-41B9-B989-7C5C29B3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13B0-1449-4C42-81D3-1EB2022E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E021-A3C3-4780-AB89-C63FF987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D47C-00FA-4214-A7F3-FB1D2946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FBCE-504C-4412-85C0-2F5304B3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CEA2-D991-493C-AF37-5C0B5997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446D-7A5D-457D-B828-0F48E5AB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FF34-E04C-4C50-B33D-0E1C854C8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E0A0-9FB7-405D-BEFB-CD9308E8E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AEE9-4D6D-4E34-9552-83826E00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1CC9-E206-482B-B688-C4BDAAC2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AF3F-FF95-4A99-9B8E-8AECD8EA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75E4-0443-4DA1-AD86-523A75A9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C462-4F9D-4A2E-A716-4A12833B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B0B4-5F7F-4FC2-B1E7-32D0FD99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91BB-6242-402A-A2F5-931815A4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F08D-B02E-47B7-BFDD-B3E539040FC1}" type="slidenum"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4D9C-49B4-4847-8967-9988BC448782}" type="slidenum"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907560"/>
            <a:ext cx="8964720" cy="230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ollutant Release and Transfer Register – Important Tool for NGOs Working on Chemicals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99" name="Object 3"/>
          <p:cNvGraphicFramePr/>
          <p:nvPr/>
        </p:nvGraphicFramePr>
        <p:xfrm>
          <a:off x="468360" y="6021360"/>
          <a:ext cx="863640" cy="5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021360"/>
                    <a:ext cx="86364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IPEN General Assemb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lmaty, October – 22 -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RNDr. Jindřich Petrlí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rnika Associ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8" descr="IPEN"/>
          <p:cNvPicPr/>
          <p:nvPr/>
        </p:nvPicPr>
        <p:blipFill>
          <a:blip r:embed="rId3"/>
          <a:stretch/>
        </p:blipFill>
        <p:spPr>
          <a:xfrm>
            <a:off x="6804000" y="5950080"/>
            <a:ext cx="1944720" cy="54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4" name="Obrázek 3" descr="továrna_300dpi.JPG"/>
          <p:cNvPicPr/>
          <p:nvPr/>
        </p:nvPicPr>
        <p:blipFill>
          <a:blip r:embed="rId1"/>
          <a:stretch/>
        </p:blipFill>
        <p:spPr>
          <a:xfrm>
            <a:off x="4356000" y="1844640"/>
            <a:ext cx="4260960" cy="4308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457200" y="1676520"/>
            <a:ext cx="57704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Arial"/>
              </a:rPr>
              <a:t>1978 – first PRTR i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Arial"/>
              </a:rPr>
              <a:t>New Jersey – 155 chemicals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Arial"/>
              </a:rPr>
              <a:t>7000 reporting facilit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Arial"/>
              </a:rPr>
              <a:t>1986 – TRI and RTK i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Arial"/>
              </a:rPr>
              <a:t>U.S. federal law – following Bhopal accid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Arial"/>
              </a:rPr>
              <a:t>1991 – U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Arial"/>
              </a:rPr>
              <a:t>1993 – Canada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Arial"/>
              </a:rPr>
              <a:t>2002 – Czech Republi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PRTR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Toxic Release Inventory (TRI) – U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http://www.epa.gov/cgi-bin/broker?view=USCH&amp;trilib=TRIQ0&amp;sort=_VIEW_&amp;sort_fmt=1&amp;state=All+states&amp;county=All+counties&amp;chemical=All+chemicals&amp;industry=ALL&amp;year=2009&amp;tab_rpt=1&amp;fld=RELLBY&amp;fld=TSFDSP&amp;_service=oiaa&amp;_program=xp_tri.sasmacr.tristart.macr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European PRT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E-PRT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ECD – PRTR Task 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http://www.oecd.org/env_prtr_rc/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Kanada – Pollution Watch (NGO si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http://www.pollutionwatch.org/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PRTR in pic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0" name="Zástupný symbol pro obsah 10" descr="PRTR_Toshiba.gif"/>
          <p:cNvPicPr/>
          <p:nvPr/>
        </p:nvPicPr>
        <p:blipFill>
          <a:blip r:embed="rId1"/>
          <a:stretch/>
        </p:blipFill>
        <p:spPr>
          <a:xfrm>
            <a:off x="900000" y="1484280"/>
            <a:ext cx="763740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PRTR in pic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2" name="Zástupný symbol pro obsah 4" descr="Toshiba45_6.gif"/>
          <p:cNvPicPr/>
          <p:nvPr/>
        </p:nvPicPr>
        <p:blipFill>
          <a:blip r:embed="rId1"/>
          <a:stretch/>
        </p:blipFill>
        <p:spPr>
          <a:xfrm>
            <a:off x="684360" y="1197000"/>
            <a:ext cx="4835520" cy="2663640"/>
          </a:xfrm>
          <a:prstGeom prst="rect">
            <a:avLst/>
          </a:prstGeom>
          <a:ln w="0">
            <a:noFill/>
          </a:ln>
        </p:spPr>
      </p:pic>
      <p:pic>
        <p:nvPicPr>
          <p:cNvPr id="153" name="Obrázek 5" descr="Toshiba46_4.gif"/>
          <p:cNvPicPr/>
          <p:nvPr/>
        </p:nvPicPr>
        <p:blipFill>
          <a:blip r:embed="rId2"/>
          <a:stretch/>
        </p:blipFill>
        <p:spPr>
          <a:xfrm>
            <a:off x="4284720" y="3860640"/>
            <a:ext cx="4548240" cy="2592720"/>
          </a:xfrm>
          <a:prstGeom prst="rect">
            <a:avLst/>
          </a:prstGeom>
          <a:ln w="0">
            <a:noFill/>
          </a:ln>
        </p:spPr>
      </p:pic>
      <p:sp>
        <p:nvSpPr>
          <p:cNvPr id="154" name="TextovéPole 6"/>
          <p:cNvSpPr/>
          <p:nvPr/>
        </p:nvSpPr>
        <p:spPr>
          <a:xfrm>
            <a:off x="5651640" y="1773360"/>
            <a:ext cx="3313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Arial"/>
              </a:rPr>
              <a:t>Amounts of top five substances targeted for usage reduction currently handled (Toshiba 2008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5" name="Přímá spojovací šipka 8"/>
          <p:cNvCxnSpPr>
            <a:stCxn id="154" idx="2"/>
          </p:cNvCxnSpPr>
          <p:nvPr/>
        </p:nvCxnSpPr>
        <p:spPr>
          <a:xfrm flipH="1">
            <a:off x="7306920" y="3558960"/>
            <a:ext cx="2160" cy="446760"/>
          </a:xfrm>
          <a:prstGeom prst="straightConnector1">
            <a:avLst/>
          </a:prstGeom>
          <a:ln w="2232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156" name="TextovéPole 9"/>
          <p:cNvSpPr/>
          <p:nvPr/>
        </p:nvSpPr>
        <p:spPr>
          <a:xfrm>
            <a:off x="611280" y="4221000"/>
            <a:ext cx="331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Arial"/>
              </a:rPr>
              <a:t>Emmissions of top five substances targeted for reduction (Toshiba 2008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Přímá spojovací šipka 12"/>
          <p:cNvCxnSpPr>
            <a:stCxn id="156" idx="0"/>
          </p:cNvCxnSpPr>
          <p:nvPr/>
        </p:nvCxnSpPr>
        <p:spPr>
          <a:xfrm flipV="1">
            <a:off x="2266920" y="3430080"/>
            <a:ext cx="2160" cy="791280"/>
          </a:xfrm>
          <a:prstGeom prst="straightConnector1">
            <a:avLst/>
          </a:prstGeom>
          <a:ln w="2232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PRTR in pic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9" name="Zástupný symbol pro obsah 4" descr="Toshiba45_3.gif"/>
          <p:cNvPicPr/>
          <p:nvPr/>
        </p:nvPicPr>
        <p:blipFill>
          <a:blip r:embed="rId1"/>
          <a:stretch/>
        </p:blipFill>
        <p:spPr>
          <a:xfrm>
            <a:off x="1763640" y="2924280"/>
            <a:ext cx="5643720" cy="3168720"/>
          </a:xfrm>
          <a:prstGeom prst="rect">
            <a:avLst/>
          </a:prstGeom>
          <a:ln w="0">
            <a:noFill/>
          </a:ln>
        </p:spPr>
      </p:pic>
      <p:sp>
        <p:nvSpPr>
          <p:cNvPr id="160" name="TextovéPole 5"/>
          <p:cNvSpPr/>
          <p:nvPr/>
        </p:nvSpPr>
        <p:spPr>
          <a:xfrm>
            <a:off x="3059280" y="1268280"/>
            <a:ext cx="331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Arial"/>
              </a:rPr>
              <a:t>Changes in the amount released of substances subject to reduction (Toshiba 2008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spalovna1"/>
          <p:cNvPicPr/>
          <p:nvPr/>
        </p:nvPicPr>
        <p:blipFill>
          <a:blip r:embed="rId1"/>
          <a:stretch/>
        </p:blipFill>
        <p:spPr>
          <a:xfrm>
            <a:off x="4788000" y="1341360"/>
            <a:ext cx="4059000" cy="46404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fffff"/>
                </a:solidFill>
                <a:latin typeface="Arial"/>
              </a:rPr>
              <a:t>Waste incinerator Lib</a:t>
            </a:r>
            <a:r>
              <a:rPr b="1" lang="en-GB" sz="3800" spc="-1" strike="noStrike">
                <a:solidFill>
                  <a:srgbClr val="ffffff"/>
                </a:solidFill>
                <a:latin typeface="Arial"/>
              </a:rPr>
              <a:t>erec – </a:t>
            </a:r>
            <a:r>
              <a:rPr b="1" lang="cs-CZ" sz="3800" spc="-1" strike="noStrike">
                <a:solidFill>
                  <a:srgbClr val="ffffff"/>
                </a:solidFill>
                <a:latin typeface="Arial"/>
              </a:rPr>
              <a:t>Dioxins (PCDD/Fs) </a:t>
            </a:r>
            <a:r>
              <a:rPr b="1" lang="en-GB" sz="3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cs-CZ" sz="3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GB" sz="3800" spc="-1" strike="noStrike">
                <a:solidFill>
                  <a:srgbClr val="ffffff"/>
                </a:solidFill>
                <a:latin typeface="Arial"/>
              </a:rPr>
              <a:t>lance </a:t>
            </a:r>
            <a:endParaRPr b="0" lang="en-US" sz="3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576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Rather model of PRTR for one facil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ir emissions: 3% PCDD/F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Waste transfer – slag: 3% PCDD/F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Waste transfer – fly ash: 94% PCDD/F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Examples of PCDD/Fs waste transfers reported per facility: MWI – 8 g TEQ/y, HWI – 30 g TEQ/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Total air emissions: 178 g TEQ/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CDD/Fs in wastes are not measured regular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Waste residues from waste incinerators are often declared as produ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ffff"/>
                </a:solidFill>
                <a:latin typeface="Arial"/>
              </a:rPr>
              <a:t>Examples of information we can obtain from PRTR </a:t>
            </a:r>
            <a:endParaRPr b="0" lang="en-US" sz="3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ercury in different releases and transfers (Czech Republic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Object 4"/>
          <p:cNvGraphicFramePr/>
          <p:nvPr/>
        </p:nvGraphicFramePr>
        <p:xfrm>
          <a:off x="971640" y="2286000"/>
          <a:ext cx="73501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286000"/>
                    <a:ext cx="73501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64072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ffff"/>
                </a:solidFill>
                <a:latin typeface="Arial"/>
              </a:rPr>
              <a:t>Examples of information we can obtain from PRTR</a:t>
            </a:r>
            <a:endParaRPr b="0" lang="en-US" sz="3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rsenic in air releases, water releases and wastes transfers (Cezch Rep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Object 2"/>
          <p:cNvGraphicFramePr/>
          <p:nvPr/>
        </p:nvGraphicFramePr>
        <p:xfrm>
          <a:off x="1042920" y="2133720"/>
          <a:ext cx="9323280" cy="59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133720"/>
                    <a:ext cx="9323280" cy="59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PRTR – top-ten polluters - carcinogenic compounds </a:t>
            </a:r>
            <a:br>
              <a:rPr sz="4000"/>
            </a:b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zech Rep. 2009 (Category 1 according IARC)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AutoShape 27"/>
          <p:cNvSpPr/>
          <p:nvPr/>
        </p:nvSpPr>
        <p:spPr>
          <a:xfrm>
            <a:off x="6156360" y="2060640"/>
            <a:ext cx="431640" cy="792000"/>
          </a:xfrm>
          <a:prstGeom prst="upArrow">
            <a:avLst>
              <a:gd name="adj1" fmla="val 50000"/>
              <a:gd name="adj2" fmla="val 45872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1599840"/>
            <a:ext cx="649116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5" descr="Kronospan02"/>
          <p:cNvPicPr/>
          <p:nvPr/>
        </p:nvPicPr>
        <p:blipFill>
          <a:blip r:embed="rId1"/>
          <a:stretch/>
        </p:blipFill>
        <p:spPr>
          <a:xfrm>
            <a:off x="5292720" y="1628640"/>
            <a:ext cx="3591000" cy="50421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2"/>
          <a:stretch/>
        </p:blipFill>
        <p:spPr>
          <a:xfrm>
            <a:off x="108000" y="1628640"/>
            <a:ext cx="2352600" cy="2791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"/>
          <p:cNvPicPr/>
          <p:nvPr/>
        </p:nvPicPr>
        <p:blipFill>
          <a:blip r:embed="rId3"/>
          <a:stretch/>
        </p:blipFill>
        <p:spPr>
          <a:xfrm>
            <a:off x="2195640" y="1628640"/>
            <a:ext cx="3543120" cy="2800440"/>
          </a:xfrm>
          <a:prstGeom prst="rect">
            <a:avLst/>
          </a:prstGeom>
          <a:ln w="0">
            <a:noFill/>
          </a:ln>
        </p:spPr>
      </p:pic>
      <p:sp>
        <p:nvSpPr>
          <p:cNvPr id="178" name="TextovéPole 5"/>
          <p:cNvSpPr/>
          <p:nvPr/>
        </p:nvSpPr>
        <p:spPr>
          <a:xfrm>
            <a:off x="1619280" y="49417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Kronospan facility, Jihlava (Czech Rep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fffff"/>
                </a:solidFill>
                <a:latin typeface="Arial"/>
              </a:rPr>
              <a:t>Decreased emissions of dichloromethane </a:t>
            </a:r>
            <a:br>
              <a:rPr sz="4000"/>
            </a:br>
            <a:r>
              <a:rPr b="1" lang="cs-CZ" sz="2200" spc="-1" strike="noStrike">
                <a:solidFill>
                  <a:srgbClr val="ffffff"/>
                </a:solidFill>
                <a:latin typeface="Arial"/>
              </a:rPr>
              <a:t>– PRTR Czech Rep. – former top-ten  polluters winners</a:t>
            </a:r>
            <a:endParaRPr b="0" lang="en-US" sz="22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80" name="Object 2"/>
          <p:cNvGraphicFramePr/>
          <p:nvPr/>
        </p:nvGraphicFramePr>
        <p:xfrm>
          <a:off x="755640" y="1916280"/>
          <a:ext cx="8885160" cy="56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16280"/>
                    <a:ext cx="8885160" cy="56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96472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ollutant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elease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and Transfer Register - PRTR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ow it 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ow it can be used by NGOs and other stakehol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Where does it come fro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Examples of PRT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International context – Relations to international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UNITAR projects on POPs and PRT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Example of decreased emissions of styrene in consequence of PRTR NGOs activity</a:t>
            </a:r>
            <a:br>
              <a:rPr sz="2800"/>
            </a:b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3" name="Graf 10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48036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PRTR Defense in pic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5" name="TextovéPole 5"/>
          <p:cNvSpPr/>
          <p:nvPr/>
        </p:nvSpPr>
        <p:spPr>
          <a:xfrm>
            <a:off x="826920" y="1268280"/>
            <a:ext cx="777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Arial"/>
              </a:rPr>
              <a:t>Action to prevent PRTR water down by industry in the Czech Republic - 200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Zástupný symbol pro obsah 5" descr="jo_0057.JPG"/>
          <p:cNvPicPr/>
          <p:nvPr/>
        </p:nvPicPr>
        <p:blipFill>
          <a:blip r:embed="rId1"/>
          <a:stretch/>
        </p:blipFill>
        <p:spPr>
          <a:xfrm>
            <a:off x="468360" y="2205000"/>
            <a:ext cx="4916520" cy="3278160"/>
          </a:xfrm>
          <a:prstGeom prst="rect">
            <a:avLst/>
          </a:prstGeom>
          <a:ln w="0">
            <a:noFill/>
          </a:ln>
        </p:spPr>
      </p:pic>
      <p:pic>
        <p:nvPicPr>
          <p:cNvPr id="187" name="Obrázek 6" descr="svejk_166.JPG"/>
          <p:cNvPicPr/>
          <p:nvPr/>
        </p:nvPicPr>
        <p:blipFill>
          <a:blip r:embed="rId2"/>
          <a:stretch/>
        </p:blipFill>
        <p:spPr>
          <a:xfrm>
            <a:off x="4788000" y="3357720"/>
            <a:ext cx="4140000" cy="2759040"/>
          </a:xfrm>
          <a:prstGeom prst="rect">
            <a:avLst/>
          </a:prstGeom>
          <a:ln w="0">
            <a:noFill/>
          </a:ln>
        </p:spPr>
      </p:pic>
      <p:sp>
        <p:nvSpPr>
          <p:cNvPr id="188" name="TextovéPole 5"/>
          <p:cNvSpPr/>
          <p:nvPr/>
        </p:nvSpPr>
        <p:spPr>
          <a:xfrm>
            <a:off x="5508720" y="2205000"/>
            <a:ext cx="338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Arial"/>
              </a:rPr>
              <a:t>Petition to Czech Parliament – over 16 thousands signatur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nternational Contex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TR Protocol to the Aarhus Con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96 - OECD has developed a recom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ation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on PRT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TR Protocol was agreed at Aarhus Convention COP – May – 21 - 2003 in Kie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E-PRTR is a mirror of PRTR Protoc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hemically specific reporting on wastes is volunt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RTR and Stockholm Convention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rticle 10, para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5. Each Party shall give sympathetic consideration to developing mechanisms, such as pollutant releas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nd transfer registers, for the collection and dissemination of information on estimates of the annual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quantities of the chemicals listed in Annex A, B or C that are released or disposed o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PRTR and POPs - UNITA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OPs monitoring, reporting and information dissemination using Pollutant Release and Transfer Registers (PRT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ctivity 2.3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Public Information dissemination to main stakeholders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2.3.1 Develop a Public Outreach Strategy and Training Materia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) hire a consultant to develop a public outreach strategy for PRTRs; (ii) implement, in conjunction with relevant stakeholders, the PRTR outreach strategy; (iii) review existing materials on PRTR development and use/ interpretation; (iv) develop and/or update training materials for national stakeholders – government officials, NGOs, industry sector and journalists- on PRTR use and understanding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PRTR and POPs - UNITA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OPs monitoring, reporting and information dissemination using Pollutant Release and Transfer Registers (PRT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2.3.2  Implement a training programme for NG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i) develop a detailed programme to train NGOs to fully participate in the PRTR process; (ii) organize a workshop to assess NGOs knowledge and needs regarding PRTR administration and data processing; (iii) conduct two workshops to train NGOs regarding PRTR involvement, data interpretation and dissemination (iv) develop a training programme report and manual for NGO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PRTR and POPs - UNITA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OPs monitoring, reporting and information dissemination using Pollutant Release and Transfer Registers (PRT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bjective 3: Design a PRTR system for POPs monitoring and reporting in Cambodia, Ecuador, Kazakhstan, Peru, Thailand and Ukra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ll activities under this Objective will be conducted in every participating country and cross-cutting activities (NGO participation, development of a legislative framework) will be performed in every country and will be included in activities 3.2 to 3.6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755280" y="2420640"/>
            <a:ext cx="7929720" cy="17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RNDr. Jindřich Petrlík, executive director Toxics and Waste Programme of Arnika Associ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Co-chair od Dioxin, PCBs and Waste WG, and Heavy Metals WG of IP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http://english.arnika.org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http://www.ipen.org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e-mail: jinrich.petrlik@arnika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11280" y="404640"/>
            <a:ext cx="7627680" cy="203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Thank you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01" name="Object 4"/>
          <p:cNvGraphicFramePr/>
          <p:nvPr/>
        </p:nvGraphicFramePr>
        <p:xfrm>
          <a:off x="4038480" y="5638680"/>
          <a:ext cx="12193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5638680"/>
                    <a:ext cx="12193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RTR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77724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base of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hemical releases and transfers from individual facilities across the 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PRT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cally speci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ible to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ublic (intern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Every year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Includes accidential rel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overs waste stream (chemically specific reporting on wast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Includes on site as well as off site transf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overs all industry sectors and is specific on each facility releases and transf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PRTR in pictur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8" name="Picture 3" descr="FABRIKA"/>
          <p:cNvPicPr/>
          <p:nvPr/>
        </p:nvPicPr>
        <p:blipFill>
          <a:blip r:embed="rId1"/>
          <a:stretch/>
        </p:blipFill>
        <p:spPr>
          <a:xfrm>
            <a:off x="324000" y="1628640"/>
            <a:ext cx="6759360" cy="495324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25"/>
          <p:cNvSpPr/>
          <p:nvPr/>
        </p:nvSpPr>
        <p:spPr>
          <a:xfrm>
            <a:off x="5508720" y="5445000"/>
            <a:ext cx="503280" cy="576360"/>
          </a:xfrm>
          <a:prstGeom prst="downArrowCallout">
            <a:avLst>
              <a:gd name="adj1" fmla="val 25002"/>
              <a:gd name="adj2" fmla="val 25000"/>
              <a:gd name="adj3" fmla="val 19087"/>
              <a:gd name="adj4" fmla="val 6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27"/>
          <p:cNvSpPr/>
          <p:nvPr/>
        </p:nvSpPr>
        <p:spPr>
          <a:xfrm>
            <a:off x="5219640" y="2205000"/>
            <a:ext cx="432000" cy="792360"/>
          </a:xfrm>
          <a:prstGeom prst="upArrow">
            <a:avLst>
              <a:gd name="adj1" fmla="val 50000"/>
              <a:gd name="adj2" fmla="val 45854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28"/>
          <p:cNvSpPr/>
          <p:nvPr/>
        </p:nvSpPr>
        <p:spPr>
          <a:xfrm>
            <a:off x="2843280" y="4941720"/>
            <a:ext cx="1225440" cy="360360"/>
          </a:xfrm>
          <a:prstGeom prst="leftArrow">
            <a:avLst>
              <a:gd name="adj1" fmla="val 50000"/>
              <a:gd name="adj2" fmla="val 85015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31"/>
          <p:cNvSpPr/>
          <p:nvPr/>
        </p:nvSpPr>
        <p:spPr>
          <a:xfrm>
            <a:off x="6443640" y="5300640"/>
            <a:ext cx="504720" cy="504720"/>
          </a:xfrm>
          <a:prstGeom prst="right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ovéPole 7"/>
          <p:cNvSpPr/>
          <p:nvPr/>
        </p:nvSpPr>
        <p:spPr>
          <a:xfrm>
            <a:off x="2268360" y="1197000"/>
            <a:ext cx="496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00"/>
                </a:solidFill>
                <a:latin typeface="Arial"/>
              </a:rPr>
              <a:t>Flows covered by the Czech PRT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ovéPole 8"/>
          <p:cNvSpPr/>
          <p:nvPr/>
        </p:nvSpPr>
        <p:spPr>
          <a:xfrm>
            <a:off x="7164360" y="1700280"/>
            <a:ext cx="1800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00"/>
                </a:solidFill>
                <a:latin typeface="Arial"/>
              </a:rPr>
              <a:t>Releases to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Arial"/>
              </a:rPr>
              <a:t>Soi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00"/>
                </a:solidFill>
                <a:latin typeface="Arial"/>
              </a:rPr>
              <a:t>Transfers in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Arial"/>
              </a:rPr>
              <a:t>Waste wa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Arial"/>
              </a:rPr>
              <a:t>Wast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00"/>
                </a:solidFill>
                <a:latin typeface="Arial"/>
              </a:rPr>
              <a:t>Accidential releas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PRTR in pictur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Picture 3" descr="FABRIKA"/>
          <p:cNvPicPr/>
          <p:nvPr/>
        </p:nvPicPr>
        <p:blipFill>
          <a:blip r:embed="rId1"/>
          <a:stretch/>
        </p:blipFill>
        <p:spPr>
          <a:xfrm>
            <a:off x="179280" y="1700280"/>
            <a:ext cx="6759720" cy="495288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4"/>
          <p:cNvSpPr/>
          <p:nvPr/>
        </p:nvSpPr>
        <p:spPr>
          <a:xfrm>
            <a:off x="5651640" y="5877000"/>
            <a:ext cx="502920" cy="576360"/>
          </a:xfrm>
          <a:prstGeom prst="downArrowCallout">
            <a:avLst>
              <a:gd name="adj1" fmla="val 25002"/>
              <a:gd name="adj2" fmla="val 25000"/>
              <a:gd name="adj3" fmla="val 19100"/>
              <a:gd name="adj4" fmla="val 6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5003640" y="2276640"/>
            <a:ext cx="432000" cy="792000"/>
          </a:xfrm>
          <a:prstGeom prst="upArrow">
            <a:avLst>
              <a:gd name="adj1" fmla="val 50000"/>
              <a:gd name="adj2" fmla="val 45833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2700360" y="5013360"/>
            <a:ext cx="1225440" cy="360360"/>
          </a:xfrm>
          <a:prstGeom prst="leftArrow">
            <a:avLst>
              <a:gd name="adj1" fmla="val 50000"/>
              <a:gd name="adj2" fmla="val 8501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6300720" y="5229360"/>
            <a:ext cx="504720" cy="504720"/>
          </a:xfrm>
          <a:prstGeom prst="right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2195640" y="3789360"/>
            <a:ext cx="2016000" cy="647640"/>
          </a:xfrm>
          <a:prstGeom prst="rightArrow">
            <a:avLst>
              <a:gd name="adj1" fmla="val 50000"/>
              <a:gd name="adj2" fmla="val 77821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5003640" y="5013360"/>
            <a:ext cx="1224000" cy="576360"/>
          </a:xfrm>
          <a:custGeom>
            <a:avLst/>
            <a:gdLst>
              <a:gd name="textAreaLeft" fmla="*/ 214200 w 1224000"/>
              <a:gd name="textAreaRight" fmla="*/ 887400 w 122400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2195640" y="3429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stupy lát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5076720" y="5516640"/>
            <a:ext cx="172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řenosy v odpadech uvnitř provozovn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ovéPole 11"/>
          <p:cNvSpPr/>
          <p:nvPr/>
        </p:nvSpPr>
        <p:spPr>
          <a:xfrm>
            <a:off x="1476360" y="1125360"/>
            <a:ext cx="561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00"/>
                </a:solidFill>
                <a:latin typeface="Arial"/>
              </a:rPr>
              <a:t>Flows  NOT covered by the Czech PRT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ovéPole 12"/>
          <p:cNvSpPr/>
          <p:nvPr/>
        </p:nvSpPr>
        <p:spPr>
          <a:xfrm>
            <a:off x="7093080" y="2637000"/>
            <a:ext cx="1800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00"/>
                </a:solidFill>
                <a:latin typeface="Arial"/>
              </a:rPr>
              <a:t>Flow in; </a:t>
            </a:r>
            <a:r>
              <a:rPr b="1" lang="cs-CZ" sz="2200" spc="-1" strike="noStrike">
                <a:solidFill>
                  <a:srgbClr val="ffffff"/>
                </a:solidFill>
                <a:latin typeface="Arial"/>
              </a:rPr>
              <a:t>Chemicals used for produ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00"/>
                </a:solidFill>
                <a:latin typeface="Arial"/>
              </a:rPr>
              <a:t>On site transf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PRTR in pic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8" name="Zástupný symbol pro obsah 10" descr="PRTR_Toshiba.gif"/>
          <p:cNvPicPr/>
          <p:nvPr/>
        </p:nvPicPr>
        <p:blipFill>
          <a:blip r:embed="rId1"/>
          <a:stretch/>
        </p:blipFill>
        <p:spPr>
          <a:xfrm>
            <a:off x="900000" y="1484280"/>
            <a:ext cx="763740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ercury flow model for PRTR of individual chlor-alkali plant ve Spolaně Neratovice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0" name="Object 2"/>
          <p:cNvGraphicFramePr/>
          <p:nvPr/>
        </p:nvGraphicFramePr>
        <p:xfrm>
          <a:off x="755640" y="1844640"/>
          <a:ext cx="7772400" cy="479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844640"/>
                    <a:ext cx="7772400" cy="47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ovéPole 5"/>
          <p:cNvSpPr/>
          <p:nvPr/>
        </p:nvSpPr>
        <p:spPr>
          <a:xfrm>
            <a:off x="1332000" y="4076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bdélník 6"/>
          <p:cNvSpPr/>
          <p:nvPr/>
        </p:nvSpPr>
        <p:spPr>
          <a:xfrm>
            <a:off x="4067280" y="249228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ir emissions from electroly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bdélník 7"/>
          <p:cNvSpPr/>
          <p:nvPr/>
        </p:nvSpPr>
        <p:spPr>
          <a:xfrm>
            <a:off x="983880" y="198900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ther air emi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ovéPole 8"/>
          <p:cNvSpPr/>
          <p:nvPr/>
        </p:nvSpPr>
        <p:spPr>
          <a:xfrm>
            <a:off x="6804000" y="30686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leases to w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ovéPole 9"/>
          <p:cNvSpPr/>
          <p:nvPr/>
        </p:nvSpPr>
        <p:spPr>
          <a:xfrm>
            <a:off x="5364000" y="306864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ater purification s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ovéPole 10"/>
          <p:cNvSpPr/>
          <p:nvPr/>
        </p:nvSpPr>
        <p:spPr>
          <a:xfrm>
            <a:off x="6443640" y="4365720"/>
            <a:ext cx="16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fferent waste transf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PRTR - chemic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49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Arial"/>
              </a:rPr>
              <a:t>Heavy meta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Arial"/>
              </a:rPr>
              <a:t>Volatile Organic Compounds (VOC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Arial"/>
              </a:rPr>
              <a:t>Persistent Organic Pollutants (POPs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Arial"/>
              </a:rPr>
              <a:t>Greenhouse gas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Arial"/>
              </a:rPr>
              <a:t>Acid rain gas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Arial"/>
              </a:rPr>
              <a:t>Some specific pollutants – non chemically specific (e.g. PM</a:t>
            </a:r>
            <a:r>
              <a:rPr b="1" lang="cs-CZ" sz="27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1" lang="cs-CZ" sz="2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Arial"/>
              </a:rPr>
              <a:t>Ozone Depleting Substances (ODS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Arial"/>
              </a:rPr>
              <a:t>Pesticid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Arial"/>
              </a:rPr>
              <a:t>Chemicals with great impact on water ecosyste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Arial"/>
              </a:rPr>
              <a:t>Carcinogens, Mutagens and Reprotoxics (CMRs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TR – chemicals - threshold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41" name="Object 3"/>
          <p:cNvGraphicFramePr/>
          <p:nvPr/>
        </p:nvGraphicFramePr>
        <p:xfrm>
          <a:off x="0" y="993600"/>
          <a:ext cx="990108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3600"/>
                    <a:ext cx="990108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3T08:16:29Z</dcterms:created>
  <dc:creator>Jindřich Petrlík</dc:creator>
  <dc:description/>
  <dc:language>en-US</dc:language>
  <cp:lastModifiedBy>penchom</cp:lastModifiedBy>
  <dcterms:modified xsi:type="dcterms:W3CDTF">2016-05-31T08:34:19Z</dcterms:modified>
  <cp:revision>97</cp:revision>
  <dc:subject/>
  <dc:title>BAT</dc:title>
</cp:coreProperties>
</file>