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6BC43-5528-451B-AF0C-7E75FA2D3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914A8-78E9-4679-8CE7-805F7376A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B67DB-9A0C-4CEF-9857-9056A5AF2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C10A0-F670-4111-AF42-5420F1941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1CAFE-7D01-44AA-AB6E-13EDDCDEBE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4F42A-DCE1-402D-9A18-AC0C9C486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15F47-3B58-4B67-A986-490585467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2D55A-AE22-4E23-803C-C685208D1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EB6B4-B739-4B07-B8C7-6CBE94365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F67D1-625D-41F3-9832-98B9ECE81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E5FA0-6D94-460D-9E5E-06C8342B2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74CB5-C125-4558-9A1B-9D5E9EC7F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AFEB3-7177-4C69-B728-BE21EC10F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10FD7-08E8-4111-9CAC-D52537AD2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7D4D7-5B8E-4C5A-BB41-4CBC3B54E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F733E-0065-43EA-830C-9B55897B6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4E9B1-F0C8-41BA-B7FC-F8630A323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238C-756D-492E-9CB4-B8F12865C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2013F-62CF-4B79-9C38-D95253B07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2FD56-8FFA-4EF7-B5A5-1F1A0EC77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1AB1A-6AC9-444E-9EAB-607D33694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62405-96CD-418A-AD51-C68AC1534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9F720-2EE2-47EE-91BE-B2B1D3EA7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8D44-049B-4CA3-867D-BD6E7E755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8C13-8F36-46EF-80A3-350C62DA56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24" name=""/>
          <p:cNvGrpSpPr/>
          <p:nvPr/>
        </p:nvGrpSpPr>
        <p:grpSpPr>
          <a:xfrm>
            <a:off x="7171560" y="-87480"/>
            <a:ext cx="2427480" cy="2247120"/>
            <a:chOff x="7171560" y="-87480"/>
            <a:chExt cx="2427480" cy="2247120"/>
          </a:xfrm>
        </p:grpSpPr>
        <p:grpSp>
          <p:nvGrpSpPr>
            <p:cNvPr id="25" name=""/>
            <p:cNvGrpSpPr/>
            <p:nvPr/>
          </p:nvGrpSpPr>
          <p:grpSpPr>
            <a:xfrm>
              <a:off x="7171560" y="-87480"/>
              <a:ext cx="2427480" cy="2247120"/>
              <a:chOff x="7171560" y="-87480"/>
              <a:chExt cx="2427480" cy="2247120"/>
            </a:xfrm>
          </p:grpSpPr>
          <p:sp>
            <p:nvSpPr>
              <p:cNvPr id="26"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 name=""/>
              <p:cNvGrpSpPr/>
              <p:nvPr/>
            </p:nvGrpSpPr>
            <p:grpSpPr>
              <a:xfrm>
                <a:off x="7171560" y="-87480"/>
                <a:ext cx="2427480" cy="2247120"/>
                <a:chOff x="7171560" y="-87480"/>
                <a:chExt cx="2427480" cy="2247120"/>
              </a:xfrm>
            </p:grpSpPr>
            <p:sp>
              <p:nvSpPr>
                <p:cNvPr id="28"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6" name=""/>
            <p:cNvSpPr/>
            <p:nvPr/>
          </p:nvSpPr>
          <p:spPr>
            <a:xfrm>
              <a:off x="7731000" y="133200"/>
              <a:ext cx="66960" cy="152640"/>
            </a:xfrm>
            <a:prstGeom prst="line">
              <a:avLst/>
            </a:prstGeom>
            <a:ln w="38160">
              <a:solidFill>
                <a:srgbClr val="b76a0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 name=""/>
          <p:cNvGrpSpPr/>
          <p:nvPr/>
        </p:nvGrpSpPr>
        <p:grpSpPr>
          <a:xfrm>
            <a:off x="7920" y="5943600"/>
            <a:ext cx="1135080" cy="843120"/>
            <a:chOff x="7920" y="5943600"/>
            <a:chExt cx="1135080" cy="843120"/>
          </a:xfrm>
        </p:grpSpPr>
        <p:sp>
          <p:nvSpPr>
            <p:cNvPr id="38" name=""/>
            <p:cNvSpPr/>
            <p:nvPr/>
          </p:nvSpPr>
          <p:spPr>
            <a:xfrm>
              <a:off x="27000" y="5959440"/>
              <a:ext cx="1099440" cy="69696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035000" y="6042240"/>
              <a:ext cx="71640" cy="1382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2680" y="6248520"/>
              <a:ext cx="799920" cy="4402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eec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32840" y="6284880"/>
              <a:ext cx="529920" cy="4014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bb5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492480" y="5988600"/>
              <a:ext cx="136080" cy="12996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50160" y="6666480"/>
              <a:ext cx="76680" cy="1202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511920" y="6069240"/>
              <a:ext cx="194760" cy="41112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bb5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677520" y="6050880"/>
              <a:ext cx="367560" cy="18648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bb5f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353160" y="6161400"/>
              <a:ext cx="157320" cy="72000"/>
            </a:xfrm>
            <a:custGeom>
              <a:avLst/>
              <a:gdLst/>
              <a:ahLst/>
              <a:rect l="l" t="t" r="r" b="b"/>
              <a:pathLst>
                <a:path w="312" h="135">
                  <a:moveTo>
                    <a:pt x="272" y="0"/>
                  </a:moveTo>
                  <a:lnTo>
                    <a:pt x="0" y="78"/>
                  </a:lnTo>
                  <a:lnTo>
                    <a:pt x="312" y="135"/>
                  </a:lnTo>
                  <a:lnTo>
                    <a:pt x="272" y="0"/>
                  </a:lnTo>
                  <a:lnTo>
                    <a:pt x="272" y="0"/>
                  </a:lnTo>
                  <a:close/>
                </a:path>
              </a:pathLst>
            </a:custGeom>
            <a:solidFill>
              <a:srgbClr val="ff9900"/>
            </a:solidFill>
            <a:ln w="0">
              <a:noFill/>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grpSp>
          <p:nvGrpSpPr>
            <p:cNvPr id="47" name=""/>
            <p:cNvGrpSpPr/>
            <p:nvPr/>
          </p:nvGrpSpPr>
          <p:grpSpPr>
            <a:xfrm>
              <a:off x="7920" y="5943600"/>
              <a:ext cx="1135080" cy="837360"/>
              <a:chOff x="7920" y="5943600"/>
              <a:chExt cx="1135080" cy="837360"/>
            </a:xfrm>
          </p:grpSpPr>
          <p:grpSp>
            <p:nvGrpSpPr>
              <p:cNvPr id="48" name=""/>
              <p:cNvGrpSpPr/>
              <p:nvPr/>
            </p:nvGrpSpPr>
            <p:grpSpPr>
              <a:xfrm>
                <a:off x="506520" y="6020640"/>
                <a:ext cx="552960" cy="760320"/>
                <a:chOff x="506520" y="6020640"/>
                <a:chExt cx="552960" cy="760320"/>
              </a:xfrm>
            </p:grpSpPr>
            <p:sp>
              <p:nvSpPr>
                <p:cNvPr id="49" name=""/>
                <p:cNvSpPr/>
                <p:nvPr/>
              </p:nvSpPr>
              <p:spPr>
                <a:xfrm>
                  <a:off x="506520" y="6047640"/>
                  <a:ext cx="158400" cy="93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b76a03"/>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50" name=""/>
                <p:cNvSpPr/>
                <p:nvPr/>
              </p:nvSpPr>
              <p:spPr>
                <a:xfrm>
                  <a:off x="644760" y="6638040"/>
                  <a:ext cx="115920" cy="1429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1016280" y="6020640"/>
                  <a:ext cx="43200" cy="12564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 name=""/>
              <p:cNvSpPr/>
              <p:nvPr/>
            </p:nvSpPr>
            <p:spPr>
              <a:xfrm>
                <a:off x="79560" y="6203160"/>
                <a:ext cx="600840" cy="2685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65320" y="6368760"/>
                <a:ext cx="246240" cy="1587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573120" y="6147360"/>
                <a:ext cx="108000" cy="2552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 name=""/>
              <p:cNvGrpSpPr/>
              <p:nvPr/>
            </p:nvGrpSpPr>
            <p:grpSpPr>
              <a:xfrm>
                <a:off x="7920" y="5943600"/>
                <a:ext cx="1135080" cy="727560"/>
                <a:chOff x="7920" y="5943600"/>
                <a:chExt cx="1135080" cy="727560"/>
              </a:xfrm>
            </p:grpSpPr>
            <p:sp>
              <p:nvSpPr>
                <p:cNvPr id="56" name=""/>
                <p:cNvSpPr/>
                <p:nvPr/>
              </p:nvSpPr>
              <p:spPr>
                <a:xfrm>
                  <a:off x="678240" y="6542640"/>
                  <a:ext cx="75600" cy="932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b76a03"/>
                </a:solid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57" name=""/>
                <p:cNvSpPr/>
                <p:nvPr/>
              </p:nvSpPr>
              <p:spPr>
                <a:xfrm>
                  <a:off x="7920" y="6198840"/>
                  <a:ext cx="850320" cy="4723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109800" y="6244200"/>
                  <a:ext cx="80640" cy="1789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456120" y="5943600"/>
                  <a:ext cx="325080" cy="6375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86440" y="6114960"/>
                  <a:ext cx="96840" cy="2707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333720" y="6093720"/>
                  <a:ext cx="196920" cy="14508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667440" y="5995080"/>
                  <a:ext cx="475560" cy="22716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b76a0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726840" y="6067800"/>
                  <a:ext cx="247320" cy="9252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b76a03"/>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grpSp>
        </p:grpSp>
      </p:grpSp>
      <p:grpSp>
        <p:nvGrpSpPr>
          <p:cNvPr id="64" name=""/>
          <p:cNvGrpSpPr/>
          <p:nvPr/>
        </p:nvGrpSpPr>
        <p:grpSpPr>
          <a:xfrm>
            <a:off x="3093480" y="2569680"/>
            <a:ext cx="2966400" cy="3296160"/>
            <a:chOff x="3093480" y="2569680"/>
            <a:chExt cx="2966400" cy="3296160"/>
          </a:xfrm>
        </p:grpSpPr>
        <p:grpSp>
          <p:nvGrpSpPr>
            <p:cNvPr id="65" name=""/>
            <p:cNvGrpSpPr/>
            <p:nvPr/>
          </p:nvGrpSpPr>
          <p:grpSpPr>
            <a:xfrm>
              <a:off x="4386960" y="5091120"/>
              <a:ext cx="1004760" cy="753840"/>
              <a:chOff x="4386960" y="5091120"/>
              <a:chExt cx="1004760" cy="753840"/>
            </a:xfrm>
          </p:grpSpPr>
          <p:sp>
            <p:nvSpPr>
              <p:cNvPr id="66" name=""/>
              <p:cNvSpPr/>
              <p:nvPr/>
            </p:nvSpPr>
            <p:spPr>
              <a:xfrm>
                <a:off x="4386960" y="5091120"/>
                <a:ext cx="1004760" cy="753840"/>
              </a:xfrm>
              <a:prstGeom prst="ellipse">
                <a:avLst/>
              </a:prstGeom>
              <a:gradFill rotWithShape="0">
                <a:gsLst>
                  <a:gs pos="0">
                    <a:srgbClr val="bb5f03"/>
                  </a:gs>
                  <a:gs pos="100000">
                    <a:srgbClr val="99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4747680" y="5420520"/>
                <a:ext cx="241920" cy="141480"/>
              </a:xfrm>
              <a:prstGeom prst="ellipse">
                <a:avLst/>
              </a:prstGeom>
              <a:gradFill rotWithShape="0">
                <a:gsLst>
                  <a:gs pos="0">
                    <a:srgbClr val="ff9900"/>
                  </a:gs>
                  <a:gs pos="100000">
                    <a:srgbClr val="bb5f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 name=""/>
            <p:cNvGrpSpPr/>
            <p:nvPr/>
          </p:nvGrpSpPr>
          <p:grpSpPr>
            <a:xfrm>
              <a:off x="4618440" y="4034520"/>
              <a:ext cx="1005120" cy="753840"/>
              <a:chOff x="4618440" y="4034520"/>
              <a:chExt cx="1005120" cy="753840"/>
            </a:xfrm>
          </p:grpSpPr>
          <p:sp>
            <p:nvSpPr>
              <p:cNvPr id="69" name=""/>
              <p:cNvSpPr/>
              <p:nvPr/>
            </p:nvSpPr>
            <p:spPr>
              <a:xfrm>
                <a:off x="4618440" y="4034520"/>
                <a:ext cx="1005120" cy="753840"/>
              </a:xfrm>
              <a:prstGeom prst="ellipse">
                <a:avLst/>
              </a:prstGeom>
              <a:gradFill rotWithShape="0">
                <a:gsLst>
                  <a:gs pos="0">
                    <a:srgbClr val="bb5f03"/>
                  </a:gs>
                  <a:gs pos="100000">
                    <a:srgbClr val="99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979520" y="4363920"/>
                <a:ext cx="241920" cy="141480"/>
              </a:xfrm>
              <a:prstGeom prst="ellipse">
                <a:avLst/>
              </a:prstGeom>
              <a:gradFill rotWithShape="0">
                <a:gsLst>
                  <a:gs pos="0">
                    <a:srgbClr val="ff9900"/>
                  </a:gs>
                  <a:gs pos="100000">
                    <a:srgbClr val="bb5f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 name=""/>
            <p:cNvGrpSpPr/>
            <p:nvPr/>
          </p:nvGrpSpPr>
          <p:grpSpPr>
            <a:xfrm>
              <a:off x="3148920" y="2590920"/>
              <a:ext cx="1005120" cy="753840"/>
              <a:chOff x="3148920" y="2590920"/>
              <a:chExt cx="1005120" cy="753840"/>
            </a:xfrm>
          </p:grpSpPr>
          <p:sp>
            <p:nvSpPr>
              <p:cNvPr id="72" name=""/>
              <p:cNvSpPr/>
              <p:nvPr/>
            </p:nvSpPr>
            <p:spPr>
              <a:xfrm>
                <a:off x="3148920" y="2590920"/>
                <a:ext cx="1005120" cy="753840"/>
              </a:xfrm>
              <a:prstGeom prst="ellipse">
                <a:avLst/>
              </a:prstGeom>
              <a:gradFill rotWithShape="0">
                <a:gsLst>
                  <a:gs pos="0">
                    <a:srgbClr val="bb5f03"/>
                  </a:gs>
                  <a:gs pos="100000">
                    <a:srgbClr val="99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3510000" y="2920320"/>
                <a:ext cx="241920" cy="141480"/>
              </a:xfrm>
              <a:prstGeom prst="ellipse">
                <a:avLst/>
              </a:prstGeom>
              <a:gradFill rotWithShape="0">
                <a:gsLst>
                  <a:gs pos="0">
                    <a:srgbClr val="ff9900"/>
                  </a:gs>
                  <a:gs pos="100000">
                    <a:srgbClr val="bb5f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 name=""/>
            <p:cNvGrpSpPr/>
            <p:nvPr/>
          </p:nvGrpSpPr>
          <p:grpSpPr>
            <a:xfrm>
              <a:off x="3093480" y="2569680"/>
              <a:ext cx="2966400" cy="3296160"/>
              <a:chOff x="3093480" y="2569680"/>
              <a:chExt cx="2966400" cy="3296160"/>
            </a:xfrm>
          </p:grpSpPr>
          <p:grpSp>
            <p:nvGrpSpPr>
              <p:cNvPr id="75" name=""/>
              <p:cNvGrpSpPr/>
              <p:nvPr/>
            </p:nvGrpSpPr>
            <p:grpSpPr>
              <a:xfrm>
                <a:off x="3810960" y="2993760"/>
                <a:ext cx="1498680" cy="1104480"/>
                <a:chOff x="3810960" y="2993760"/>
                <a:chExt cx="1498680" cy="1104480"/>
              </a:xfrm>
            </p:grpSpPr>
            <p:sp>
              <p:nvSpPr>
                <p:cNvPr id="76" name=""/>
                <p:cNvSpPr/>
                <p:nvPr/>
              </p:nvSpPr>
              <p:spPr>
                <a:xfrm>
                  <a:off x="3810960" y="2993760"/>
                  <a:ext cx="1498680" cy="1104480"/>
                </a:xfrm>
                <a:prstGeom prst="ellipse">
                  <a:avLst/>
                </a:prstGeom>
                <a:gradFill rotWithShape="0">
                  <a:gsLst>
                    <a:gs pos="0">
                      <a:srgbClr val="bb5f03"/>
                    </a:gs>
                    <a:gs pos="100000">
                      <a:srgbClr val="99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4383360" y="3397680"/>
                  <a:ext cx="297000" cy="208440"/>
                </a:xfrm>
                <a:prstGeom prst="ellipse">
                  <a:avLst/>
                </a:prstGeom>
                <a:gradFill rotWithShape="0">
                  <a:gsLst>
                    <a:gs pos="0">
                      <a:srgbClr val="b76a03"/>
                    </a:gs>
                    <a:gs pos="100000">
                      <a:srgbClr val="bb5f0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8" name=""/>
              <p:cNvGrpSpPr/>
              <p:nvPr/>
            </p:nvGrpSpPr>
            <p:grpSpPr>
              <a:xfrm>
                <a:off x="3093480" y="2569680"/>
                <a:ext cx="2867400" cy="2268360"/>
                <a:chOff x="3093480" y="2569680"/>
                <a:chExt cx="2867400" cy="2268360"/>
              </a:xfrm>
            </p:grpSpPr>
            <p:grpSp>
              <p:nvGrpSpPr>
                <p:cNvPr id="79" name=""/>
                <p:cNvGrpSpPr/>
                <p:nvPr/>
              </p:nvGrpSpPr>
              <p:grpSpPr>
                <a:xfrm>
                  <a:off x="4654800" y="3433680"/>
                  <a:ext cx="1064160" cy="1141560"/>
                  <a:chOff x="4654800" y="3433680"/>
                  <a:chExt cx="1064160" cy="1141560"/>
                </a:xfrm>
              </p:grpSpPr>
              <p:sp>
                <p:nvSpPr>
                  <p:cNvPr id="80" name=""/>
                  <p:cNvSpPr/>
                  <p:nvPr/>
                </p:nvSpPr>
                <p:spPr>
                  <a:xfrm rot="2711400">
                    <a:off x="4580640" y="372384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rot="2711400">
                    <a:off x="5225040" y="419256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82" name=""/>
                <p:cNvGrpSpPr/>
                <p:nvPr/>
              </p:nvGrpSpPr>
              <p:grpSpPr>
                <a:xfrm>
                  <a:off x="4664880" y="3361680"/>
                  <a:ext cx="1265760" cy="1052640"/>
                  <a:chOff x="4664880" y="3361680"/>
                  <a:chExt cx="1265760" cy="1052640"/>
                </a:xfrm>
              </p:grpSpPr>
              <p:sp>
                <p:nvSpPr>
                  <p:cNvPr id="83" name=""/>
                  <p:cNvSpPr/>
                  <p:nvPr/>
                </p:nvSpPr>
                <p:spPr>
                  <a:xfrm rot="2103600">
                    <a:off x="4631400" y="361296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4" name=""/>
                  <p:cNvSpPr/>
                  <p:nvPr/>
                </p:nvSpPr>
                <p:spPr>
                  <a:xfrm rot="2103600">
                    <a:off x="5396040" y="401652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4660560" y="3326400"/>
                  <a:ext cx="1288080" cy="828720"/>
                  <a:chOff x="4660560" y="3326400"/>
                  <a:chExt cx="1288080" cy="828720"/>
                </a:xfrm>
              </p:grpSpPr>
              <p:sp>
                <p:nvSpPr>
                  <p:cNvPr id="86" name=""/>
                  <p:cNvSpPr/>
                  <p:nvPr/>
                </p:nvSpPr>
                <p:spPr>
                  <a:xfrm rot="1582800">
                    <a:off x="4648680" y="351576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87" name=""/>
                  <p:cNvSpPr/>
                  <p:nvPr/>
                </p:nvSpPr>
                <p:spPr>
                  <a:xfrm rot="1582800">
                    <a:off x="5441040" y="381744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8" name=""/>
                <p:cNvGrpSpPr/>
                <p:nvPr/>
              </p:nvGrpSpPr>
              <p:grpSpPr>
                <a:xfrm>
                  <a:off x="4657320" y="3286800"/>
                  <a:ext cx="1303560" cy="669240"/>
                  <a:chOff x="4657320" y="3286800"/>
                  <a:chExt cx="1303560" cy="669240"/>
                </a:xfrm>
              </p:grpSpPr>
              <p:sp>
                <p:nvSpPr>
                  <p:cNvPr id="89" name=""/>
                  <p:cNvSpPr/>
                  <p:nvPr/>
                </p:nvSpPr>
                <p:spPr>
                  <a:xfrm rot="1080000">
                    <a:off x="4662720" y="341532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0" name=""/>
                  <p:cNvSpPr/>
                  <p:nvPr/>
                </p:nvSpPr>
                <p:spPr>
                  <a:xfrm rot="1080000">
                    <a:off x="5468400" y="362088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1" name=""/>
                <p:cNvGrpSpPr/>
                <p:nvPr/>
              </p:nvGrpSpPr>
              <p:grpSpPr>
                <a:xfrm>
                  <a:off x="4672800" y="3248640"/>
                  <a:ext cx="1223640" cy="417960"/>
                  <a:chOff x="4672800" y="3248640"/>
                  <a:chExt cx="1223640" cy="417960"/>
                </a:xfrm>
              </p:grpSpPr>
              <p:sp>
                <p:nvSpPr>
                  <p:cNvPr id="92" name=""/>
                  <p:cNvSpPr/>
                  <p:nvPr/>
                </p:nvSpPr>
                <p:spPr>
                  <a:xfrm rot="463200">
                    <a:off x="4680000" y="330084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3" name=""/>
                  <p:cNvSpPr/>
                  <p:nvPr/>
                </p:nvSpPr>
                <p:spPr>
                  <a:xfrm rot="463200">
                    <a:off x="5455440" y="338760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4" name=""/>
                <p:cNvGrpSpPr/>
                <p:nvPr/>
              </p:nvGrpSpPr>
              <p:grpSpPr>
                <a:xfrm>
                  <a:off x="4691880" y="3223800"/>
                  <a:ext cx="1106280" cy="184320"/>
                  <a:chOff x="4691880" y="3223800"/>
                  <a:chExt cx="1106280" cy="184320"/>
                </a:xfrm>
              </p:grpSpPr>
              <p:sp>
                <p:nvSpPr>
                  <p:cNvPr id="95" name=""/>
                  <p:cNvSpPr/>
                  <p:nvPr/>
                </p:nvSpPr>
                <p:spPr>
                  <a:xfrm rot="21515400">
                    <a:off x="4692960" y="323856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6" name=""/>
                  <p:cNvSpPr/>
                  <p:nvPr/>
                </p:nvSpPr>
                <p:spPr>
                  <a:xfrm rot="21515400">
                    <a:off x="5409000" y="322812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97" name=""/>
                <p:cNvGrpSpPr/>
                <p:nvPr/>
              </p:nvGrpSpPr>
              <p:grpSpPr>
                <a:xfrm>
                  <a:off x="4665600" y="3010680"/>
                  <a:ext cx="983520" cy="326880"/>
                  <a:chOff x="4665600" y="3010680"/>
                  <a:chExt cx="983520" cy="326880"/>
                </a:xfrm>
              </p:grpSpPr>
              <p:sp>
                <p:nvSpPr>
                  <p:cNvPr id="98" name=""/>
                  <p:cNvSpPr/>
                  <p:nvPr/>
                </p:nvSpPr>
                <p:spPr>
                  <a:xfrm rot="20797200">
                    <a:off x="4669560" y="315576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99" name=""/>
                  <p:cNvSpPr/>
                  <p:nvPr/>
                </p:nvSpPr>
                <p:spPr>
                  <a:xfrm rot="20797200">
                    <a:off x="5293800" y="304740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0" name=""/>
                <p:cNvGrpSpPr/>
                <p:nvPr/>
              </p:nvGrpSpPr>
              <p:grpSpPr>
                <a:xfrm>
                  <a:off x="3358440" y="3497040"/>
                  <a:ext cx="1063440" cy="1140840"/>
                  <a:chOff x="3358440" y="3497040"/>
                  <a:chExt cx="1063440" cy="1140840"/>
                </a:xfrm>
              </p:grpSpPr>
              <p:sp>
                <p:nvSpPr>
                  <p:cNvPr id="101" name=""/>
                  <p:cNvSpPr/>
                  <p:nvPr/>
                </p:nvSpPr>
                <p:spPr>
                  <a:xfrm flipH="1" rot="18888600">
                    <a:off x="3610440" y="378720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2" name=""/>
                  <p:cNvSpPr/>
                  <p:nvPr/>
                </p:nvSpPr>
                <p:spPr>
                  <a:xfrm flipH="1" rot="18888600">
                    <a:off x="3377160" y="425520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3" name=""/>
                <p:cNvGrpSpPr/>
                <p:nvPr/>
              </p:nvGrpSpPr>
              <p:grpSpPr>
                <a:xfrm>
                  <a:off x="3124080" y="3452040"/>
                  <a:ext cx="1266120" cy="1053000"/>
                  <a:chOff x="3124080" y="3452040"/>
                  <a:chExt cx="1266120" cy="1053000"/>
                </a:xfrm>
              </p:grpSpPr>
              <p:sp>
                <p:nvSpPr>
                  <p:cNvPr id="104" name=""/>
                  <p:cNvSpPr/>
                  <p:nvPr/>
                </p:nvSpPr>
                <p:spPr>
                  <a:xfrm flipH="1" rot="19496400">
                    <a:off x="3492000" y="370332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5" name=""/>
                  <p:cNvSpPr/>
                  <p:nvPr/>
                </p:nvSpPr>
                <p:spPr>
                  <a:xfrm flipH="1" rot="19496400">
                    <a:off x="3158280" y="410688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6" name=""/>
                <p:cNvGrpSpPr/>
                <p:nvPr/>
              </p:nvGrpSpPr>
              <p:grpSpPr>
                <a:xfrm>
                  <a:off x="3106080" y="3417840"/>
                  <a:ext cx="1288800" cy="828720"/>
                  <a:chOff x="3106080" y="3417840"/>
                  <a:chExt cx="1288800" cy="828720"/>
                </a:xfrm>
              </p:grpSpPr>
              <p:sp>
                <p:nvSpPr>
                  <p:cNvPr id="107" name=""/>
                  <p:cNvSpPr/>
                  <p:nvPr/>
                </p:nvSpPr>
                <p:spPr>
                  <a:xfrm flipH="1" rot="20017200">
                    <a:off x="3515400" y="360756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8" name=""/>
                  <p:cNvSpPr/>
                  <p:nvPr/>
                </p:nvSpPr>
                <p:spPr>
                  <a:xfrm flipH="1" rot="20017200">
                    <a:off x="3134880" y="390888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09" name=""/>
                <p:cNvGrpSpPr/>
                <p:nvPr/>
              </p:nvGrpSpPr>
              <p:grpSpPr>
                <a:xfrm>
                  <a:off x="3093480" y="3378240"/>
                  <a:ext cx="1303920" cy="668520"/>
                  <a:chOff x="3093480" y="3378240"/>
                  <a:chExt cx="1303920" cy="668520"/>
                </a:xfrm>
              </p:grpSpPr>
              <p:sp>
                <p:nvSpPr>
                  <p:cNvPr id="110" name=""/>
                  <p:cNvSpPr/>
                  <p:nvPr/>
                </p:nvSpPr>
                <p:spPr>
                  <a:xfrm flipH="1" rot="20520000">
                    <a:off x="3531240" y="350676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1" name=""/>
                  <p:cNvSpPr/>
                  <p:nvPr/>
                </p:nvSpPr>
                <p:spPr>
                  <a:xfrm flipH="1" rot="20520000">
                    <a:off x="3124080" y="371232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2" name=""/>
                <p:cNvGrpSpPr/>
                <p:nvPr/>
              </p:nvGrpSpPr>
              <p:grpSpPr>
                <a:xfrm>
                  <a:off x="3159000" y="3340440"/>
                  <a:ext cx="1222560" cy="416160"/>
                  <a:chOff x="3159000" y="3340440"/>
                  <a:chExt cx="1222560" cy="416160"/>
                </a:xfrm>
              </p:grpSpPr>
              <p:sp>
                <p:nvSpPr>
                  <p:cNvPr id="113" name=""/>
                  <p:cNvSpPr/>
                  <p:nvPr/>
                </p:nvSpPr>
                <p:spPr>
                  <a:xfrm flipH="1" rot="21136800">
                    <a:off x="3581640" y="339300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4" name=""/>
                  <p:cNvSpPr/>
                  <p:nvPr/>
                </p:nvSpPr>
                <p:spPr>
                  <a:xfrm flipH="1" rot="21136800">
                    <a:off x="3173400" y="347904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5" name=""/>
                <p:cNvGrpSpPr/>
                <p:nvPr/>
              </p:nvGrpSpPr>
              <p:grpSpPr>
                <a:xfrm>
                  <a:off x="3256200" y="3313800"/>
                  <a:ext cx="1106640" cy="184320"/>
                  <a:chOff x="3256200" y="3313800"/>
                  <a:chExt cx="1106640" cy="184320"/>
                </a:xfrm>
              </p:grpSpPr>
              <p:sp>
                <p:nvSpPr>
                  <p:cNvPr id="116" name=""/>
                  <p:cNvSpPr/>
                  <p:nvPr/>
                </p:nvSpPr>
                <p:spPr>
                  <a:xfrm flipH="1" rot="84600">
                    <a:off x="3641040" y="332856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7" name=""/>
                  <p:cNvSpPr/>
                  <p:nvPr/>
                </p:nvSpPr>
                <p:spPr>
                  <a:xfrm flipH="1" rot="84600">
                    <a:off x="3257640" y="331812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18" name=""/>
                <p:cNvGrpSpPr/>
                <p:nvPr/>
              </p:nvGrpSpPr>
              <p:grpSpPr>
                <a:xfrm>
                  <a:off x="3405600" y="3101040"/>
                  <a:ext cx="983880" cy="326880"/>
                  <a:chOff x="3405600" y="3101040"/>
                  <a:chExt cx="983880" cy="326880"/>
                </a:xfrm>
              </p:grpSpPr>
              <p:sp>
                <p:nvSpPr>
                  <p:cNvPr id="119" name=""/>
                  <p:cNvSpPr/>
                  <p:nvPr/>
                </p:nvSpPr>
                <p:spPr>
                  <a:xfrm flipH="1" rot="802800">
                    <a:off x="3751920" y="324612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0" name=""/>
                  <p:cNvSpPr/>
                  <p:nvPr/>
                </p:nvSpPr>
                <p:spPr>
                  <a:xfrm flipH="1" rot="802800">
                    <a:off x="3420720" y="313776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1" name=""/>
                <p:cNvGrpSpPr/>
                <p:nvPr/>
              </p:nvGrpSpPr>
              <p:grpSpPr>
                <a:xfrm>
                  <a:off x="3458520" y="2981520"/>
                  <a:ext cx="967320" cy="451800"/>
                  <a:chOff x="3458520" y="2981520"/>
                  <a:chExt cx="967320" cy="451800"/>
                </a:xfrm>
              </p:grpSpPr>
              <p:sp>
                <p:nvSpPr>
                  <p:cNvPr id="122" name=""/>
                  <p:cNvSpPr/>
                  <p:nvPr/>
                </p:nvSpPr>
                <p:spPr>
                  <a:xfrm flipH="1" rot="1278000">
                    <a:off x="3794760" y="321156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3" name=""/>
                  <p:cNvSpPr/>
                  <p:nvPr/>
                </p:nvSpPr>
                <p:spPr>
                  <a:xfrm flipH="1" rot="1278000">
                    <a:off x="3477960" y="30369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4" name=""/>
                <p:cNvGrpSpPr/>
                <p:nvPr/>
              </p:nvGrpSpPr>
              <p:grpSpPr>
                <a:xfrm>
                  <a:off x="3571920" y="2813400"/>
                  <a:ext cx="902520" cy="627120"/>
                  <a:chOff x="3571920" y="2813400"/>
                  <a:chExt cx="902520" cy="627120"/>
                </a:xfrm>
              </p:grpSpPr>
              <p:sp>
                <p:nvSpPr>
                  <p:cNvPr id="125" name=""/>
                  <p:cNvSpPr/>
                  <p:nvPr/>
                </p:nvSpPr>
                <p:spPr>
                  <a:xfrm flipH="1" rot="2028600">
                    <a:off x="3863880" y="316332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6" name=""/>
                  <p:cNvSpPr/>
                  <p:nvPr/>
                </p:nvSpPr>
                <p:spPr>
                  <a:xfrm flipH="1" rot="2028600">
                    <a:off x="3590640" y="289296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 name=""/>
                <p:cNvGrpSpPr/>
                <p:nvPr/>
              </p:nvGrpSpPr>
              <p:grpSpPr>
                <a:xfrm>
                  <a:off x="3687840" y="2648520"/>
                  <a:ext cx="825120" cy="761760"/>
                  <a:chOff x="3687840" y="2648520"/>
                  <a:chExt cx="825120" cy="761760"/>
                </a:xfrm>
              </p:grpSpPr>
              <p:sp>
                <p:nvSpPr>
                  <p:cNvPr id="128" name=""/>
                  <p:cNvSpPr/>
                  <p:nvPr/>
                </p:nvSpPr>
                <p:spPr>
                  <a:xfrm flipH="1" rot="2664600">
                    <a:off x="3923640" y="309168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29" name=""/>
                  <p:cNvSpPr/>
                  <p:nvPr/>
                </p:nvSpPr>
                <p:spPr>
                  <a:xfrm flipH="1" rot="2664600">
                    <a:off x="3698640" y="274464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0" name=""/>
                <p:cNvGrpSpPr/>
                <p:nvPr/>
              </p:nvGrpSpPr>
              <p:grpSpPr>
                <a:xfrm>
                  <a:off x="3931920" y="2606760"/>
                  <a:ext cx="608040" cy="784800"/>
                  <a:chOff x="3931920" y="2606760"/>
                  <a:chExt cx="608040" cy="784800"/>
                </a:xfrm>
              </p:grpSpPr>
              <p:sp>
                <p:nvSpPr>
                  <p:cNvPr id="131" name=""/>
                  <p:cNvSpPr/>
                  <p:nvPr/>
                </p:nvSpPr>
                <p:spPr>
                  <a:xfrm flipH="1" rot="3474000">
                    <a:off x="4060800" y="306828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2" name=""/>
                  <p:cNvSpPr/>
                  <p:nvPr/>
                </p:nvSpPr>
                <p:spPr>
                  <a:xfrm flipH="1" rot="3474000">
                    <a:off x="3933360" y="269460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3" name=""/>
                <p:cNvGrpSpPr/>
                <p:nvPr/>
              </p:nvGrpSpPr>
              <p:grpSpPr>
                <a:xfrm>
                  <a:off x="4107600" y="2569680"/>
                  <a:ext cx="466560" cy="808200"/>
                  <a:chOff x="4107600" y="2569680"/>
                  <a:chExt cx="466560" cy="808200"/>
                </a:xfrm>
              </p:grpSpPr>
              <p:sp>
                <p:nvSpPr>
                  <p:cNvPr id="134" name=""/>
                  <p:cNvSpPr/>
                  <p:nvPr/>
                </p:nvSpPr>
                <p:spPr>
                  <a:xfrm flipH="1" rot="4126800">
                    <a:off x="4152240" y="304956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5" name=""/>
                  <p:cNvSpPr/>
                  <p:nvPr/>
                </p:nvSpPr>
                <p:spPr>
                  <a:xfrm flipH="1" rot="4126800">
                    <a:off x="4094280" y="265068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
                <p:cNvGrpSpPr/>
                <p:nvPr/>
              </p:nvGrpSpPr>
              <p:grpSpPr>
                <a:xfrm>
                  <a:off x="4613400" y="2863080"/>
                  <a:ext cx="963720" cy="462960"/>
                  <a:chOff x="4613400" y="2863080"/>
                  <a:chExt cx="963720" cy="462960"/>
                </a:xfrm>
              </p:grpSpPr>
              <p:sp>
                <p:nvSpPr>
                  <p:cNvPr id="137" name=""/>
                  <p:cNvSpPr/>
                  <p:nvPr/>
                </p:nvSpPr>
                <p:spPr>
                  <a:xfrm rot="20274000">
                    <a:off x="4610880" y="310068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38" name=""/>
                  <p:cNvSpPr/>
                  <p:nvPr/>
                </p:nvSpPr>
                <p:spPr>
                  <a:xfrm rot="20274000">
                    <a:off x="5217480" y="292032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9" name=""/>
                <p:cNvGrpSpPr/>
                <p:nvPr/>
              </p:nvGrpSpPr>
              <p:grpSpPr>
                <a:xfrm>
                  <a:off x="4557960" y="2727000"/>
                  <a:ext cx="915840" cy="604800"/>
                  <a:chOff x="4557960" y="2727000"/>
                  <a:chExt cx="915840" cy="604800"/>
                </a:xfrm>
              </p:grpSpPr>
              <p:sp>
                <p:nvSpPr>
                  <p:cNvPr id="140" name=""/>
                  <p:cNvSpPr/>
                  <p:nvPr/>
                </p:nvSpPr>
                <p:spPr>
                  <a:xfrm rot="19678800">
                    <a:off x="4538880" y="306180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1" name=""/>
                  <p:cNvSpPr/>
                  <p:nvPr/>
                </p:nvSpPr>
                <p:spPr>
                  <a:xfrm rot="19678800">
                    <a:off x="5113800" y="280368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42" name=""/>
                <p:cNvSpPr/>
                <p:nvPr/>
              </p:nvSpPr>
              <p:spPr>
                <a:xfrm flipH="1" rot="4578600">
                  <a:off x="4239720" y="307728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 name=""/>
                <p:cNvSpPr/>
                <p:nvPr/>
              </p:nvSpPr>
              <p:spPr>
                <a:xfrm flipH="1" rot="4578600">
                  <a:off x="4251240" y="269136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4" name=""/>
                <p:cNvGrpSpPr/>
                <p:nvPr/>
              </p:nvGrpSpPr>
              <p:grpSpPr>
                <a:xfrm>
                  <a:off x="4485600" y="2579760"/>
                  <a:ext cx="497520" cy="790920"/>
                  <a:chOff x="4485600" y="2579760"/>
                  <a:chExt cx="497520" cy="790920"/>
                </a:xfrm>
              </p:grpSpPr>
              <p:sp>
                <p:nvSpPr>
                  <p:cNvPr id="145" name=""/>
                  <p:cNvSpPr/>
                  <p:nvPr/>
                </p:nvSpPr>
                <p:spPr>
                  <a:xfrm rot="17742000">
                    <a:off x="4373640" y="305712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6" name=""/>
                  <p:cNvSpPr/>
                  <p:nvPr/>
                </p:nvSpPr>
                <p:spPr>
                  <a:xfrm rot="17742000">
                    <a:off x="4706640" y="266940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 name=""/>
                <p:cNvGrpSpPr/>
                <p:nvPr/>
              </p:nvGrpSpPr>
              <p:grpSpPr>
                <a:xfrm>
                  <a:off x="4483080" y="2629080"/>
                  <a:ext cx="785880" cy="747360"/>
                  <a:chOff x="4483080" y="2629080"/>
                  <a:chExt cx="785880" cy="747360"/>
                </a:xfrm>
              </p:grpSpPr>
              <p:sp>
                <p:nvSpPr>
                  <p:cNvPr id="148" name=""/>
                  <p:cNvSpPr/>
                  <p:nvPr/>
                </p:nvSpPr>
                <p:spPr>
                  <a:xfrm rot="18822600">
                    <a:off x="4441320" y="304524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 name=""/>
                  <p:cNvSpPr/>
                  <p:nvPr/>
                </p:nvSpPr>
                <p:spPr>
                  <a:xfrm rot="18822600">
                    <a:off x="4921560" y="271044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0" name=""/>
                <p:cNvGrpSpPr/>
                <p:nvPr/>
              </p:nvGrpSpPr>
              <p:grpSpPr>
                <a:xfrm>
                  <a:off x="4528800" y="2589480"/>
                  <a:ext cx="177840" cy="746640"/>
                  <a:chOff x="4528800" y="2589480"/>
                  <a:chExt cx="177840" cy="746640"/>
                </a:xfrm>
              </p:grpSpPr>
              <p:sp>
                <p:nvSpPr>
                  <p:cNvPr id="151" name=""/>
                  <p:cNvSpPr/>
                  <p:nvPr/>
                </p:nvSpPr>
                <p:spPr>
                  <a:xfrm rot="16696200">
                    <a:off x="4341240" y="306864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152" name=""/>
                  <p:cNvSpPr/>
                  <p:nvPr/>
                </p:nvSpPr>
                <p:spPr>
                  <a:xfrm rot="16696200">
                    <a:off x="4521960" y="268956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53" name=""/>
                <p:cNvGrpSpPr/>
                <p:nvPr/>
              </p:nvGrpSpPr>
              <p:grpSpPr>
                <a:xfrm>
                  <a:off x="3531240" y="3520800"/>
                  <a:ext cx="912960" cy="1248840"/>
                  <a:chOff x="3531240" y="3520800"/>
                  <a:chExt cx="912960" cy="1248840"/>
                </a:xfrm>
              </p:grpSpPr>
              <p:sp>
                <p:nvSpPr>
                  <p:cNvPr id="154" name=""/>
                  <p:cNvSpPr/>
                  <p:nvPr/>
                </p:nvSpPr>
                <p:spPr>
                  <a:xfrm flipH="1" rot="18336000">
                    <a:off x="3679200" y="384660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5" name=""/>
                  <p:cNvSpPr/>
                  <p:nvPr/>
                </p:nvSpPr>
                <p:spPr>
                  <a:xfrm flipH="1" rot="18336000">
                    <a:off x="3534120" y="437796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6" name=""/>
                <p:cNvGrpSpPr/>
                <p:nvPr/>
              </p:nvGrpSpPr>
              <p:grpSpPr>
                <a:xfrm>
                  <a:off x="3834360" y="3570120"/>
                  <a:ext cx="616680" cy="1248480"/>
                  <a:chOff x="3834360" y="3570120"/>
                  <a:chExt cx="616680" cy="1248480"/>
                </a:xfrm>
              </p:grpSpPr>
              <p:sp>
                <p:nvSpPr>
                  <p:cNvPr id="157" name=""/>
                  <p:cNvSpPr/>
                  <p:nvPr/>
                </p:nvSpPr>
                <p:spPr>
                  <a:xfrm flipH="1" rot="17543400">
                    <a:off x="3812040" y="389880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8" name=""/>
                  <p:cNvSpPr/>
                  <p:nvPr/>
                </p:nvSpPr>
                <p:spPr>
                  <a:xfrm flipH="1" rot="17543400">
                    <a:off x="3814200" y="444168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59" name=""/>
                <p:cNvGrpSpPr/>
                <p:nvPr/>
              </p:nvGrpSpPr>
              <p:grpSpPr>
                <a:xfrm>
                  <a:off x="4132080" y="3592080"/>
                  <a:ext cx="364680" cy="1217880"/>
                  <a:chOff x="4132080" y="3592080"/>
                  <a:chExt cx="364680" cy="1217880"/>
                </a:xfrm>
              </p:grpSpPr>
              <p:sp>
                <p:nvSpPr>
                  <p:cNvPr id="160" name=""/>
                  <p:cNvSpPr/>
                  <p:nvPr/>
                </p:nvSpPr>
                <p:spPr>
                  <a:xfrm flipH="1" rot="16870800">
                    <a:off x="3956760" y="391896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1" name=""/>
                  <p:cNvSpPr/>
                  <p:nvPr/>
                </p:nvSpPr>
                <p:spPr>
                  <a:xfrm flipH="1" rot="16870800">
                    <a:off x="4073040" y="446796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2" name=""/>
                <p:cNvGrpSpPr/>
                <p:nvPr/>
              </p:nvGrpSpPr>
              <p:grpSpPr>
                <a:xfrm>
                  <a:off x="4618800" y="3500280"/>
                  <a:ext cx="949680" cy="1229040"/>
                  <a:chOff x="4618800" y="3500280"/>
                  <a:chExt cx="949680" cy="1229040"/>
                </a:xfrm>
              </p:grpSpPr>
              <p:sp>
                <p:nvSpPr>
                  <p:cNvPr id="163" name=""/>
                  <p:cNvSpPr/>
                  <p:nvPr/>
                </p:nvSpPr>
                <p:spPr>
                  <a:xfrm rot="3144000">
                    <a:off x="4509720" y="381924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rot="3144000">
                    <a:off x="5086800" y="433836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5" name=""/>
                <p:cNvGrpSpPr/>
                <p:nvPr/>
              </p:nvGrpSpPr>
              <p:grpSpPr>
                <a:xfrm>
                  <a:off x="4606560" y="3547080"/>
                  <a:ext cx="732960" cy="1261800"/>
                  <a:chOff x="4606560" y="3547080"/>
                  <a:chExt cx="732960" cy="1261800"/>
                </a:xfrm>
              </p:grpSpPr>
              <p:sp>
                <p:nvSpPr>
                  <p:cNvPr id="166" name=""/>
                  <p:cNvSpPr/>
                  <p:nvPr/>
                </p:nvSpPr>
                <p:spPr>
                  <a:xfrm rot="3745200">
                    <a:off x="4447080" y="388080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rot="3745200">
                    <a:off x="4900320" y="443088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168" name=""/>
                <p:cNvGrpSpPr/>
                <p:nvPr/>
              </p:nvGrpSpPr>
              <p:grpSpPr>
                <a:xfrm>
                  <a:off x="4577040" y="3596040"/>
                  <a:ext cx="510120" cy="1242000"/>
                  <a:chOff x="4577040" y="3596040"/>
                  <a:chExt cx="510120" cy="1242000"/>
                </a:xfrm>
              </p:grpSpPr>
              <p:sp>
                <p:nvSpPr>
                  <p:cNvPr id="169" name=""/>
                  <p:cNvSpPr/>
                  <p:nvPr/>
                </p:nvSpPr>
                <p:spPr>
                  <a:xfrm rot="4286400">
                    <a:off x="4357080" y="394200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rot="4286400">
                    <a:off x="4702680" y="449820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1" name=""/>
                <p:cNvGrpSpPr/>
                <p:nvPr/>
              </p:nvGrpSpPr>
              <p:grpSpPr>
                <a:xfrm>
                  <a:off x="4554000" y="3649680"/>
                  <a:ext cx="290160" cy="1155960"/>
                  <a:chOff x="4554000" y="3649680"/>
                  <a:chExt cx="290160" cy="1155960"/>
                </a:xfrm>
              </p:grpSpPr>
              <p:sp>
                <p:nvSpPr>
                  <p:cNvPr id="172" name=""/>
                  <p:cNvSpPr/>
                  <p:nvPr/>
                </p:nvSpPr>
                <p:spPr>
                  <a:xfrm rot="4898400">
                    <a:off x="4293360" y="396900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cccc00"/>
                      </a:gs>
                      <a:gs pos="100000">
                        <a:srgbClr val="b76a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4898400">
                    <a:off x="4513680" y="449172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4" name=""/>
                <p:cNvGrpSpPr/>
                <p:nvPr/>
              </p:nvGrpSpPr>
              <p:grpSpPr>
                <a:xfrm>
                  <a:off x="4321080" y="3668400"/>
                  <a:ext cx="276120" cy="1131480"/>
                  <a:chOff x="4321080" y="3668400"/>
                  <a:chExt cx="276120" cy="1131480"/>
                </a:xfrm>
              </p:grpSpPr>
              <p:sp>
                <p:nvSpPr>
                  <p:cNvPr id="175" name=""/>
                  <p:cNvSpPr/>
                  <p:nvPr/>
                </p:nvSpPr>
                <p:spPr>
                  <a:xfrm rot="5755200">
                    <a:off x="4142160" y="399204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b76a03"/>
                      </a:gs>
                      <a:gs pos="100000">
                        <a:srgbClr val="cccc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rot="5755200">
                    <a:off x="4218480" y="451944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cccc00"/>
                      </a:gs>
                      <a:gs pos="100000">
                        <a:srgbClr val="99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77" name=""/>
              <p:cNvSpPr/>
              <p:nvPr/>
            </p:nvSpPr>
            <p:spPr>
              <a:xfrm flipH="1">
                <a:off x="4116240" y="381348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flipH="1">
                <a:off x="3664080" y="350280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flipV="1">
                <a:off x="4510800" y="282420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H="1">
                <a:off x="3773880" y="335016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3323160" y="341280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3231360" y="319032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535280" y="336168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4509000" y="335664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4502880" y="319680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818960" y="394272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V="1" rot="19660800">
                <a:off x="4431240" y="369360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76a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H="1">
                <a:off x="3161160" y="300852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H="1">
                <a:off x="3292560" y="275148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37360" y="324792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b76a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flipH="1">
                <a:off x="3374640" y="387612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cc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flipH="1">
                <a:off x="3637080" y="304884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cc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H="1">
                <a:off x="4048200" y="281592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cc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82720" y="376092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99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114520" y="334476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cc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143320" y="276336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cccc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rot="20253000">
                <a:off x="4807080" y="337464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76a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flipH="1" rot="1347000">
                <a:off x="3997800" y="336276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b76a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99" name=""/>
          <p:cNvGrpSpPr/>
          <p:nvPr/>
        </p:nvGrpSpPr>
        <p:grpSpPr>
          <a:xfrm>
            <a:off x="135000" y="685800"/>
            <a:ext cx="9009000" cy="1052640"/>
            <a:chOff x="135000" y="685800"/>
            <a:chExt cx="9009000" cy="1052640"/>
          </a:xfrm>
        </p:grpSpPr>
        <p:grpSp>
          <p:nvGrpSpPr>
            <p:cNvPr id="200" name=""/>
            <p:cNvGrpSpPr/>
            <p:nvPr/>
          </p:nvGrpSpPr>
          <p:grpSpPr>
            <a:xfrm>
              <a:off x="425520" y="793800"/>
              <a:ext cx="711360" cy="474840"/>
              <a:chOff x="425520" y="793800"/>
              <a:chExt cx="711360" cy="474840"/>
            </a:xfrm>
          </p:grpSpPr>
          <p:sp>
            <p:nvSpPr>
              <p:cNvPr id="201" name=""/>
              <p:cNvSpPr/>
              <p:nvPr/>
            </p:nvSpPr>
            <p:spPr>
              <a:xfrm>
                <a:off x="425520" y="793800"/>
                <a:ext cx="43740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808560" y="793800"/>
                <a:ext cx="328320" cy="474840"/>
              </a:xfrm>
              <a:prstGeom prst="rect">
                <a:avLst/>
              </a:prstGeom>
              <a:gradFill rotWithShape="0">
                <a:gsLst>
                  <a:gs pos="0">
                    <a:srgbClr val="993300"/>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3" name=""/>
            <p:cNvGrpSpPr/>
            <p:nvPr/>
          </p:nvGrpSpPr>
          <p:grpSpPr>
            <a:xfrm>
              <a:off x="549360" y="1216080"/>
              <a:ext cx="737640" cy="474840"/>
              <a:chOff x="549360" y="1216080"/>
              <a:chExt cx="737640" cy="474840"/>
            </a:xfrm>
          </p:grpSpPr>
          <p:sp>
            <p:nvSpPr>
              <p:cNvPr id="204" name=""/>
              <p:cNvSpPr/>
              <p:nvPr/>
            </p:nvSpPr>
            <p:spPr>
              <a:xfrm>
                <a:off x="549360" y="1216080"/>
                <a:ext cx="421560" cy="474840"/>
              </a:xfrm>
              <a:prstGeom prst="rect">
                <a:avLst/>
              </a:prstGeom>
              <a:solidFill>
                <a:srgbClr val="b76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918000" y="1216080"/>
                <a:ext cx="369000" cy="47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6" name=""/>
            <p:cNvSpPr/>
            <p:nvPr/>
          </p:nvSpPr>
          <p:spPr>
            <a:xfrm>
              <a:off x="135000" y="1143000"/>
              <a:ext cx="560520" cy="4222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70040" y="685800"/>
              <a:ext cx="31680" cy="1052640"/>
            </a:xfrm>
            <a:prstGeom prst="rect">
              <a:avLst/>
            </a:prstGeom>
            <a:solidFill>
              <a:srgbClr val="bb5f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V="1">
              <a:off x="451080" y="1508040"/>
              <a:ext cx="8692920" cy="55440"/>
            </a:xfrm>
            <a:prstGeom prst="rect">
              <a:avLst/>
            </a:prstGeom>
            <a:solidFill>
              <a:srgbClr val="0000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45" name=""/>
          <p:cNvGrpSpPr/>
          <p:nvPr/>
        </p:nvGrpSpPr>
        <p:grpSpPr>
          <a:xfrm>
            <a:off x="0" y="0"/>
            <a:ext cx="9144000" cy="6934320"/>
            <a:chOff x="0" y="0"/>
            <a:chExt cx="9144000" cy="6934320"/>
          </a:xfrm>
        </p:grpSpPr>
        <p:sp>
          <p:nvSpPr>
            <p:cNvPr id="24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Click to edit the title text format</a:t>
            </a:r>
            <a:endParaRPr b="1" lang="en-US" sz="5400" spc="-1" strike="noStrike">
              <a:solidFill>
                <a:srgbClr val="ffffff"/>
              </a:solidFill>
              <a:latin typeface="Times New Roman"/>
            </a:endParaRPr>
          </a:p>
        </p:txBody>
      </p:sp>
      <p:sp>
        <p:nvSpPr>
          <p:cNvPr id="26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175E-5D56-40F2-A7D8-AD09C0ADAA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KỸ NĂNG LẬP KẾ HOẠCH</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3 Xác định 3W</a:t>
            </a:r>
            <a:endParaRPr b="1" lang="en-US" sz="4400" spc="-1" strike="noStrike">
              <a:solidFill>
                <a:srgbClr val="feec94"/>
              </a:solidFill>
              <a:latin typeface="Times New Roman"/>
            </a:endParaRPr>
          </a:p>
        </p:txBody>
      </p:sp>
      <p:sp>
        <p:nvSpPr>
          <p:cNvPr id="3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 Ai, bao gồm các khía cạnh sa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 làm việc đó</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 kiểm tra</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 hổ trợ.</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 chịu trách nhiệm…</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0DAF8CF-8D49-4756-A1D0-14AA407FE2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4 Xác định phương pháp 1h</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3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 là how, nghĩa là như thế nào? Nó bao gồm các nội dun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ài liệu hướng dẫn thực hiện là gì (cách thức thực hiện từng công việc)?</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êu chuẩn là gì?</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ếu có máy móc thì cách thức vận hành như thế nào?</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3E9E7B8-AC5C-40A0-B23A-28C02FA967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3.5 Xác định phương pháp kiểm soát</a:t>
            </a:r>
            <a:endParaRPr b="1" lang="en-US" sz="4000" spc="-1" strike="noStrike">
              <a:solidFill>
                <a:srgbClr val="feec94"/>
              </a:solidFill>
              <a:latin typeface="Times New Roman"/>
            </a:endParaRPr>
          </a:p>
        </p:txBody>
      </p:sp>
      <p:sp>
        <p:nvSpPr>
          <p:cNvPr id="3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ách thức kiểm soát (control) sẽ liên quan đế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ông việc đó có đặc tính gì?</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àm thế nào để đo lường đặc tính đó?</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o lường bằng dụng cụ, máy móc như thế nà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ó bao nhiêu điểm kiểm soát và điểm kiểm soát trọng yếu (xem chi tiết qua tài liệu về MBP – phương pháp quản lý theo quá trình)</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4AB520C-DFA6-4085-B9C2-8DF61AF418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3.6 Xác định phương pháp kiểm tra</a:t>
            </a:r>
            <a:endParaRPr b="1" lang="en-US" sz="4000" spc="-1" strike="noStrike">
              <a:solidFill>
                <a:srgbClr val="feec94"/>
              </a:solidFill>
              <a:latin typeface="Times New Roman"/>
            </a:endParaRPr>
          </a:p>
        </p:txBody>
      </p:sp>
      <p:sp>
        <p:nvSpPr>
          <p:cNvPr id="3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hương pháp kiểm tra (check) liên quan đến các nội dung sau:</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những bước công việc nào cần phải kiểm tra. Thông thường thì có bao nhiêu công việc thì cũng cần số lượng tương tự các bước phải kiểm tr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ần suất kiểm tra như thế nào? Việc kiểm tra đó thực hiện 1 lần hay thường xuyên (nếu vậy thì bao lâu một lần?).</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 tiến hành kiểm tr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BB06409-A7DD-4691-BFB1-87D4CA68EA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3.6 Xác định phương pháp kiểm tra</a:t>
            </a:r>
            <a:endParaRPr b="1" lang="en-US" sz="4000" spc="-1" strike="noStrike">
              <a:solidFill>
                <a:srgbClr val="feec94"/>
              </a:solidFill>
              <a:latin typeface="Times New Roman"/>
            </a:endParaRPr>
          </a:p>
        </p:txBody>
      </p:sp>
      <p:sp>
        <p:nvSpPr>
          <p:cNvPr id="3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ững điểm kiểm tra nào là trọng yếu?</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ng DN không thể có đầy đủ các nguồn lực để tiến hành kiểm tra hết tất cả các công đoạn, do vậy chúng ta chỉ tiến hành kiểm tra những điểm trọng yếu (quan trọng nhấ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iểm kiểm tra trọng yếu tuân theo nguyên tắc Pareto (20/80), tức là những điểm kiểm tra này chỉ chiếm 20 % số lượng nhưng chiếm đến 80 % khối lượng sai só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AF20CFE-E432-4ABF-8B55-CFEE2B24B9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7 Xác định nguồn lực (5M)</a:t>
            </a:r>
            <a:endParaRPr b="1" lang="en-US" sz="4400" spc="-1" strike="noStrike">
              <a:solidFill>
                <a:srgbClr val="feec94"/>
              </a:solidFill>
              <a:latin typeface="Times New Roman"/>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hiều kế hoạch thường chỉ chú trọng đến công việc mà lại không chú trọng đến các nguồn lực, mà chỉ có nguồn lực mới đảm bảo cho kế hoạch được khả thi.</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guồn lực bao gồm các yếu tố: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      = nguồn nhân lự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ney   = Tiền bạ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erial = nguyên vật liệu/hệ thống cung ứng.</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chine = máy móc/công nghệ.</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thod  = phương pháp làm việc.</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9C818F9C-5DD6-4552-970A-E3E3E4BBFA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7 Xác định nguồn lực (5M)</a:t>
            </a:r>
            <a:endParaRPr b="1" lang="en-US" sz="4400" spc="-1" strike="noStrike">
              <a:solidFill>
                <a:srgbClr val="feec94"/>
              </a:solidFill>
              <a:latin typeface="Times New Roman"/>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 bao gồm các nội dung:</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hững ai sẽ thực hiện công việc, họ có đủ trình độ, kinh nghiệm, kỹ năng, phẩm chất, tính cách phù hợp?</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 hỗ trợ?</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 kiểm tr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ếu cần nguồn phòng ngừa thì có đủ nguồn lực con người để hỗ trợ không?</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EAB6BB0-6452-4977-91AD-86D4D223F3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7 Xác định nguồn lực (5M)</a:t>
            </a:r>
            <a:endParaRPr b="1" lang="en-US" sz="4400" spc="-1" strike="noStrike">
              <a:solidFill>
                <a:srgbClr val="feec94"/>
              </a:solidFill>
              <a:latin typeface="Times New Roman"/>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aterial = nguyên vật liệu/hệ thống cung ứng, bao gồm các yếu tố:</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tiêu chuẩn NVL.</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êu chuẩn nhà cung ứng.</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phương pháp giao hàng</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ời hạn giao hàng.</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EC1D4DC-841C-4CD3-B2F8-128ED28A53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 Phân loại</a:t>
            </a:r>
            <a:endParaRPr b="1" lang="en-US" sz="4400" spc="-1" strike="noStrike">
              <a:solidFill>
                <a:srgbClr val="feec94"/>
              </a:solidFill>
              <a:latin typeface="Times New Roman"/>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1  Hoạch định chiến lượ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2  Hoạch định tác nghiệ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3  Hoạch định dự á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4  Mục tiêu.</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5  Hoạch định nă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6  Hoạch định tháng.</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7  Hoạch định tuầ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6C8D54C-492B-471B-A9A0-B1C7DF2195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1  Hoạch định chiến lược</a:t>
            </a:r>
            <a:endParaRPr b="1" lang="en-US" sz="4400" spc="-1" strike="noStrike">
              <a:solidFill>
                <a:srgbClr val="feec94"/>
              </a:solidFill>
              <a:latin typeface="Times New Roman"/>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Đặc điểm</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ời hạn</a:t>
            </a:r>
            <a:r>
              <a:rPr b="0" lang="en-US" sz="3200" spc="-1" strike="noStrike">
                <a:solidFill>
                  <a:srgbClr val="ffffff"/>
                </a:solidFill>
                <a:latin typeface="Times New Roman"/>
              </a:rPr>
              <a:t>	</a:t>
            </a:r>
            <a:r>
              <a:rPr b="0" lang="en-US" sz="3200" spc="-1" strike="noStrike">
                <a:solidFill>
                  <a:srgbClr val="ffffff"/>
                </a:solidFill>
                <a:latin typeface="Times New Roman"/>
              </a:rPr>
              <a:t>: vài năm</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uôn khổ</a:t>
            </a:r>
            <a:r>
              <a:rPr b="0" lang="en-US" sz="3200" spc="-1" strike="noStrike">
                <a:solidFill>
                  <a:srgbClr val="ffffff"/>
                </a:solidFill>
                <a:latin typeface="Times New Roman"/>
              </a:rPr>
              <a:t>	</a:t>
            </a:r>
            <a:r>
              <a:rPr b="0" lang="en-US" sz="3200" spc="-1" strike="noStrike">
                <a:solidFill>
                  <a:srgbClr val="ffffff"/>
                </a:solidFill>
                <a:latin typeface="Times New Roman"/>
              </a:rPr>
              <a:t>: rộng</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ục tiêu</a:t>
            </a:r>
            <a:r>
              <a:rPr b="0" lang="en-US" sz="3200" spc="-1" strike="noStrike">
                <a:solidFill>
                  <a:srgbClr val="ffffff"/>
                </a:solidFill>
                <a:latin typeface="Times New Roman"/>
              </a:rPr>
              <a:t>	</a:t>
            </a:r>
            <a:r>
              <a:rPr b="0" lang="en-US" sz="3200" spc="-1" strike="noStrike">
                <a:solidFill>
                  <a:srgbClr val="ffffff"/>
                </a:solidFill>
                <a:latin typeface="Times New Roman"/>
              </a:rPr>
              <a:t>: ít chi tiế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5105520" y="1447560"/>
            <a:ext cx="40384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 name="PlaceHolder 4"/>
          <p:cNvSpPr>
            <a:spLocks noGrp="1"/>
          </p:cNvSpPr>
          <p:nvPr>
            <p:ph type="sldNum" idx="3"/>
          </p:nvPr>
        </p:nvSpPr>
        <p:spPr/>
        <p:txBody>
          <a:bodyPr/>
          <a:p>
            <a:fld id="{BE82F1C2-7B13-44B4-A09F-D5A460A668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1. Khái niệm</a:t>
            </a:r>
            <a:endParaRPr b="1" lang="en-US" sz="4400" spc="-1" strike="noStrike">
              <a:solidFill>
                <a:srgbClr val="feec94"/>
              </a:solidFill>
              <a:latin typeface="Times New Roman"/>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ạch định là một quá trình ấn định những mục tiêu và xác định biện pháp tốt nhất để thực hiện những mục tiêu đó.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ó liên hệ với những phương tiện cũng như với những mục đích. Tất cả những người quản lý đều làm công việc hoạch định.</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164569B-EC4F-453B-BFC9-CB26051E3F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1  Hoạch định chiến lược (tt)</a:t>
            </a:r>
            <a:endParaRPr b="1" lang="en-US" sz="4400" spc="-1" strike="noStrike">
              <a:solidFill>
                <a:srgbClr val="feec94"/>
              </a:solidFill>
              <a:latin typeface="Times New Roman"/>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á trình cơ bản của hoạch định chiến lược</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ận thức được cơ hội</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ác định các mục tiêu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át triển các tiền đề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ác định các phương án lựa chọn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ánh giá các phương án.</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ựa chọn phương án</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ạch định các kế hoạch phụ trợ</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ượng hóa bằng hoạch định ngân quỹ</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E0E9076-8C28-4DF9-9BBB-DE56C5219F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1  Hoạch định chiến lược (tt)</a:t>
            </a:r>
            <a:endParaRPr b="1" lang="en-US" sz="4400" spc="-1" strike="noStrike">
              <a:solidFill>
                <a:srgbClr val="feec94"/>
              </a:solidFill>
              <a:latin typeface="Times New Roman"/>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Đầu ra của hoạch định chiến lược:</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ột bản kế hoạch kinh doan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ế hoạch phát triển công t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6E44987-5616-4794-BAE4-403D2F23EF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2 Hoạch định tác nghiệp</a:t>
            </a:r>
            <a:endParaRPr b="1" lang="en-US" sz="4400" spc="-1" strike="noStrike">
              <a:solidFill>
                <a:srgbClr val="feec94"/>
              </a:solidFill>
              <a:latin typeface="Times New Roman"/>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Đặc điểm </a:t>
            </a:r>
            <a:endParaRPr b="0" lang="en-US" sz="3200" spc="-1" strike="noStrike">
              <a:solidFill>
                <a:srgbClr val="ffffff"/>
              </a:solidFill>
              <a:latin typeface="Times New Roman"/>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ời hạn</a:t>
            </a:r>
            <a:r>
              <a:rPr b="0" lang="en-US" sz="3200" spc="-1" strike="noStrike">
                <a:solidFill>
                  <a:srgbClr val="ffffff"/>
                </a:solidFill>
                <a:latin typeface="Times New Roman"/>
              </a:rPr>
              <a:t>	</a:t>
            </a:r>
            <a:r>
              <a:rPr b="0" lang="en-US" sz="3200" spc="-1" strike="noStrike">
                <a:solidFill>
                  <a:srgbClr val="ffffff"/>
                </a:solidFill>
                <a:latin typeface="Times New Roman"/>
              </a:rPr>
              <a:t>: ngày, tuần, tháng</a:t>
            </a: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huôn khổ</a:t>
            </a:r>
            <a:r>
              <a:rPr b="0" lang="en-US" sz="3200" spc="-1" strike="noStrike">
                <a:solidFill>
                  <a:srgbClr val="ffffff"/>
                </a:solidFill>
                <a:latin typeface="Times New Roman"/>
              </a:rPr>
              <a:t>	</a:t>
            </a:r>
            <a:r>
              <a:rPr b="0" lang="en-US" sz="3200" spc="-1" strike="noStrike">
                <a:solidFill>
                  <a:srgbClr val="ffffff"/>
                </a:solidFill>
                <a:latin typeface="Times New Roman"/>
              </a:rPr>
              <a:t>: hẹp</a:t>
            </a: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ục tiêu</a:t>
            </a:r>
            <a:r>
              <a:rPr b="0" lang="en-US" sz="3200" spc="-1" strike="noStrike">
                <a:solidFill>
                  <a:srgbClr val="ffffff"/>
                </a:solidFill>
                <a:latin typeface="Times New Roman"/>
              </a:rPr>
              <a:t>	</a:t>
            </a:r>
            <a:r>
              <a:rPr b="0" lang="en-US" sz="3200" spc="-1" strike="noStrike">
                <a:solidFill>
                  <a:srgbClr val="ffffff"/>
                </a:solidFill>
                <a:latin typeface="Times New Roman"/>
              </a:rPr>
              <a:t>: chi tiết xác định</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15B9AE3-8FF6-437A-9657-F4F850C1A7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2 Hoạch định tác nghiệp (tt)</a:t>
            </a:r>
            <a:endParaRPr b="1" lang="en-US" sz="4400" spc="-1" strike="noStrike">
              <a:solidFill>
                <a:srgbClr val="feec94"/>
              </a:solidFill>
              <a:latin typeface="Times New Roman"/>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Đầu ra của hoạch định tác nghiệp:</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ệ thống tài liệu hoạt động của tổ chức như: </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loại sổ tay, cẩm nang.</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y trình hoạt động</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quy định</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ướng dẫn công việc</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biểu mẫu</a:t>
            </a:r>
            <a:endParaRPr b="0" lang="en-US" sz="3200" spc="-1" strike="noStrike">
              <a:solidFill>
                <a:srgbClr val="ffffff"/>
              </a:solidFill>
              <a:latin typeface="Times New Roman"/>
            </a:endParaRPr>
          </a:p>
          <a:p>
            <a:pPr marL="325800" indent="-325800">
              <a:spcBef>
                <a:spcPts val="7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kế hoạch thực hiện mục tiêu, dự án ngắn hạn.</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32BFA05-13C1-42BF-94F9-43EBD038E4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3 Hoạch định dự án</a:t>
            </a:r>
            <a:endParaRPr b="1" lang="en-US" sz="4400" spc="-1" strike="noStrike">
              <a:solidFill>
                <a:srgbClr val="feec94"/>
              </a:solidFill>
              <a:latin typeface="Times New Roman"/>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các yêu cầu của dự 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các quy trình cơ bả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nguồn lực cung cấp cho dự án.</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ây dựng kế hoạch thực hiện dự án theo sơ đồ gantt</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372F63D-8C70-4C09-90A2-4404856F8A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4 Mục tiêu: </a:t>
            </a:r>
            <a:endParaRPr b="1" lang="en-US" sz="4400" spc="-1" strike="noStrike">
              <a:solidFill>
                <a:srgbClr val="feec94"/>
              </a:solidFill>
              <a:latin typeface="Times New Roman"/>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Phần này, bạn tham khảo theo kỹ năng quản lý theo mục tiêu)</a:t>
            </a:r>
            <a:endParaRPr b="0" lang="en-US" sz="3200" spc="-1" strike="noStrike">
              <a:solidFill>
                <a:srgbClr val="ffffff"/>
              </a:solidFill>
              <a:latin typeface="Times New Roman"/>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ân loại mục tiêu</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iều kiện của mục tiêu</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ập kế hoạch thực hiện mục tiêu:</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D452746-A00F-4A9C-84B9-CB7310BBF0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4.1 Phân loại mục tiêu</a:t>
            </a:r>
            <a:endParaRPr b="1" lang="en-US" sz="4400" spc="-1" strike="noStrike">
              <a:solidFill>
                <a:srgbClr val="feec94"/>
              </a:solidFill>
              <a:latin typeface="Times New Roman"/>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ục tiêu cấp công ty, bộ phận, cá nhâ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o Peter Drucker, mục tiêu của công ty xếp từ ngắn hạn đến dài hạn như sa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ồn tại và tăng trưởng.</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ợi nhuậ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ân bổ các nguồn lực và rủi ro</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ăng suất</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 thế cạnh tranh</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át triển nguồn lực</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át triển công nghệ</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ách nhịêm xã hội.</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B006FF1-47AD-458A-8AD3-B7CE34318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4.2 Điều kiện của mục tiêu:</a:t>
            </a:r>
            <a:endParaRPr b="1" lang="en-US" sz="4400" spc="-1" strike="noStrike">
              <a:solidFill>
                <a:srgbClr val="feec94"/>
              </a:solidFill>
              <a:latin typeface="Times New Roman"/>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Điều kiện của mục tiêu phải đảm bảo yêu cầu của nguyên tắc SMAR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fic - cụ thể, dễ hiể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surable – đo lường đượ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hievable – vừa sứ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istics – thực tế.</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bound – có thời hạ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68D195E-7FF3-414D-9242-0AC3EE7A93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Specific - cụ thể, dễ hiểu</a:t>
            </a:r>
            <a:endParaRPr b="1" lang="en-US" sz="4400" spc="-1" strike="noStrike">
              <a:solidFill>
                <a:srgbClr val="feec94"/>
              </a:solidFill>
              <a:latin typeface="Times New Roman"/>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96720" indent="-3967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ỉ tiêu phải cụ thể vì nó định hướng cho các hoạt động trong tương lai. </a:t>
            </a:r>
            <a:endParaRPr b="0" lang="en-US" sz="2800" spc="-1" strike="noStrike">
              <a:solidFill>
                <a:srgbClr val="ffffff"/>
              </a:solidFill>
              <a:latin typeface="Times New Roman"/>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96720" indent="-3967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Đừng nói mục tiêu của bạn là dẫn đầu thị trường trong khi đối thủ đang chiếm 40 % thị phần. </a:t>
            </a:r>
            <a:endParaRPr b="0" lang="en-US" sz="2800" spc="-1" strike="noStrike">
              <a:solidFill>
                <a:srgbClr val="ffffff"/>
              </a:solidFill>
              <a:latin typeface="Times New Roman"/>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96720" indent="-39672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ãy đặt mục tiêu chiếm tối thiểu 41% thị phần, từ đó bạn sẽ biết mình còn phải cố đạt bao nhiêu % nữa.</a:t>
            </a:r>
            <a:endParaRPr b="0" lang="en-US" sz="2800" spc="-1" strike="noStrike">
              <a:solidFill>
                <a:srgbClr val="ffffff"/>
              </a:solidFill>
              <a:latin typeface="Times New Roman"/>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5E92684-56A3-43D6-9A6B-9DF8860365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Measurable – đo lường được</a:t>
            </a:r>
            <a:endParaRPr b="1" lang="en-US" sz="4400" spc="-1" strike="noStrike">
              <a:solidFill>
                <a:srgbClr val="feec94"/>
              </a:solidFill>
              <a:latin typeface="Times New Roman"/>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tiêu này mà không đo lường được thì không biết có đạt được hay không?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ừng ghi: “phải trả lời thư của khách hàng ngay khi có thể”. Hãy yêu cầu nhân viên trả lời thư ngay trong ngày nhận đượ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8EEDD02-4087-4D3C-8688-0D3270EA57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2. Ý nghĩa</a:t>
            </a:r>
            <a:endParaRPr b="1" lang="en-US" sz="4400" spc="-1" strike="noStrike">
              <a:solidFill>
                <a:srgbClr val="feec94"/>
              </a:solidFill>
              <a:latin typeface="Times New Roman"/>
            </a:endParaRPr>
          </a:p>
        </p:txBody>
      </p:sp>
      <p:sp>
        <p:nvSpPr>
          <p:cNvPr id="30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ư duy có hệ thống để tiên liệu các tình huống quản lý</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ối hợp mọi nguồn lực của tổ chức hữu hiệu hơn.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ập trung vào các mục tiêu và chính sách của tổ chức.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ắm vững các nhiệm vụ cơ bản của tổ chức để phối hợp với các quản lý viên khác.</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ẵn sàng ứng phó và đối phó với những thay đổi của môi trường bên ngoài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át triển hữu hiệu các tiêu chuẩn kiểm tra.</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1D40BC8-C506-4C5D-A463-7B5F94C637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chievable – vừa sức.</a:t>
            </a:r>
            <a:endParaRPr b="1" lang="en-US" sz="4400" spc="-1" strike="noStrike">
              <a:solidFill>
                <a:srgbClr val="feec94"/>
              </a:solidFill>
              <a:latin typeface="Times New Roman"/>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ỉ tiêu phải có tính thách thức để cố gắng, nhưng cũng đừng đặt chỉ tiêu loại không thể đạt nổi.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ếu bạn không có giọng ca trời phú thì đừng đặt chỉ tiêu trở thành siêu sao. Giữ trọng lượng ở mức lý tưởng 45kg có thể vừa sức hơ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4CF44C1-B501-4EA9-A5AC-8441F1252A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ealistics – thực tế.</a:t>
            </a:r>
            <a:endParaRPr b="1" lang="en-US" sz="4400" spc="-1" strike="noStrike">
              <a:solidFill>
                <a:srgbClr val="feec94"/>
              </a:solidFill>
              <a:latin typeface="Times New Roman"/>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ây là tiêu chí đo lường sự cân bằng giữa khả năng thực hiện so vối nguồn lực của doanh nghiệp bạn (thời gian, nhân sự, tiền bạ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ừng đặt chỉ tiêu giảm 20 kg trong một tháng để đạt trọng lượng lý tưởng 45 kg trong vòng một tháng, như vậy là không thực tế.</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6D59A0B-5A79-42FF-B530-17189C9650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Timebound – có thời hạn.</a:t>
            </a:r>
            <a:endParaRPr b="1" lang="en-US" sz="4400" spc="-1" strike="noStrike">
              <a:solidFill>
                <a:srgbClr val="feec94"/>
              </a:solidFill>
              <a:latin typeface="Times New Roman"/>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ọi công việc phải có thời hạn hoàn thành, nếu không nó sẽ bị trì hoã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ời gian hợp lý giúp bạn vừa đạt được mục tiêu lại vừa dưỡng sức cho các mục tiêu khác.</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2C409F5-B58A-4CBA-A6D2-3D644594B6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4.4.3 Kế hoạch thực hiện mục tiêu (gantt)</a:t>
            </a:r>
            <a:endParaRPr b="1" lang="en-US" sz="4000" spc="-1" strike="noStrike">
              <a:solidFill>
                <a:srgbClr val="feec94"/>
              </a:solidFill>
              <a:latin typeface="Times New Roman"/>
            </a:endParaRPr>
          </a:p>
        </p:txBody>
      </p:sp>
      <p:graphicFrame>
        <p:nvGraphicFramePr>
          <p:cNvPr id="370" name=""/>
          <p:cNvGraphicFramePr/>
          <p:nvPr/>
        </p:nvGraphicFramePr>
        <p:xfrm>
          <a:off x="457200" y="1600200"/>
          <a:ext cx="8229600" cy="4686480"/>
        </p:xfrm>
        <a:graphic>
          <a:graphicData uri="http://schemas.openxmlformats.org/drawingml/2006/table">
            <a:tbl>
              <a:tblPr/>
              <a:tblGrid>
                <a:gridCol w="592200"/>
                <a:gridCol w="1881000"/>
                <a:gridCol w="1333800"/>
                <a:gridCol w="1253880"/>
                <a:gridCol w="316872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ội dung công việc</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gười thực hiệ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ổng t.gia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ến độ</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1" name=""/>
          <p:cNvSpPr/>
          <p:nvPr/>
        </p:nvSpPr>
        <p:spPr>
          <a:xfrm>
            <a:off x="5638680" y="2819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6172200" y="3352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6248520" y="3962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7696080" y="5029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8381880" y="563868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FDBCCCC-4BFA-4F16-AA9B-F29EE99CF1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5 Hoạch định kế hoạch năm</a:t>
            </a:r>
            <a:endParaRPr b="1" lang="en-US" sz="4400" spc="-1" strike="noStrike">
              <a:solidFill>
                <a:srgbClr val="feec94"/>
              </a:solidFill>
              <a:latin typeface="Times New Roman"/>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392040" indent="0">
              <a:lnSpc>
                <a:spcPct val="90000"/>
              </a:lnSpc>
              <a:spcBef>
                <a:spcPts val="601"/>
              </a:spcBef>
              <a:buNone/>
              <a:tabLst>
                <a:tab algn="l" pos="0"/>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1" lang="nl-NL" sz="2400" spc="-1" strike="noStrike">
                <a:solidFill>
                  <a:srgbClr val="ffffff"/>
                </a:solidFill>
                <a:latin typeface="Times New Roman"/>
              </a:rPr>
              <a:t>Nguồn thông tin từ để lập kế hoạch năm bao gồm:</a:t>
            </a:r>
            <a:endParaRPr b="0" lang="en-US" sz="2400" spc="-1" strike="noStrike">
              <a:solidFill>
                <a:srgbClr val="ffffff"/>
              </a:solidFill>
              <a:latin typeface="Times New Roman"/>
            </a:endParaRPr>
          </a:p>
          <a:p>
            <a:pPr lvl="1" marL="392040" indent="0">
              <a:lnSpc>
                <a:spcPct val="90000"/>
              </a:lnSpc>
              <a:spcBef>
                <a:spcPts val="601"/>
              </a:spcBef>
              <a:buNone/>
              <a:tabLst>
                <a:tab algn="l" pos="0"/>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040" indent="-277560">
              <a:lnSpc>
                <a:spcPct val="90000"/>
              </a:lnSpc>
              <a:spcBef>
                <a:spcPts val="601"/>
              </a:spcBef>
              <a:buClr>
                <a:srgbClr val="feec94"/>
              </a:buClr>
              <a:buSzPct val="60000"/>
              <a:buFont typeface="Wingdings" charset="2"/>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ừ  chiến lược của công ty.</a:t>
            </a:r>
            <a:endParaRPr b="0" lang="en-US" sz="2400" spc="-1" strike="noStrike">
              <a:solidFill>
                <a:srgbClr val="ffffff"/>
              </a:solidFill>
              <a:latin typeface="Times New Roman"/>
            </a:endParaRPr>
          </a:p>
          <a:p>
            <a:pPr lvl="1" marL="392040" indent="0">
              <a:lnSpc>
                <a:spcPct val="90000"/>
              </a:lnSpc>
              <a:spcBef>
                <a:spcPts val="601"/>
              </a:spcBef>
              <a:buNone/>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040" indent="-277560">
              <a:lnSpc>
                <a:spcPct val="90000"/>
              </a:lnSpc>
              <a:spcBef>
                <a:spcPts val="601"/>
              </a:spcBef>
              <a:buClr>
                <a:srgbClr val="feec94"/>
              </a:buClr>
              <a:buSzPct val="60000"/>
              <a:buFont typeface="Wingdings" charset="2"/>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ừ các dự án tham gia</a:t>
            </a:r>
            <a:endParaRPr b="0" lang="en-US" sz="2400" spc="-1" strike="noStrike">
              <a:solidFill>
                <a:srgbClr val="ffffff"/>
              </a:solidFill>
              <a:latin typeface="Times New Roman"/>
            </a:endParaRPr>
          </a:p>
          <a:p>
            <a:pPr lvl="1" marL="392040" indent="0">
              <a:lnSpc>
                <a:spcPct val="90000"/>
              </a:lnSpc>
              <a:spcBef>
                <a:spcPts val="601"/>
              </a:spcBef>
              <a:buNone/>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040" indent="-277560">
              <a:lnSpc>
                <a:spcPct val="90000"/>
              </a:lnSpc>
              <a:spcBef>
                <a:spcPts val="601"/>
              </a:spcBef>
              <a:buClr>
                <a:srgbClr val="feec94"/>
              </a:buClr>
              <a:buSzPct val="60000"/>
              <a:buFont typeface="Wingdings" charset="2"/>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ừ mục tiêu của công ty và mục tiêu bộ phận do công ty giao.</a:t>
            </a:r>
            <a:endParaRPr b="0" lang="en-US" sz="2400" spc="-1" strike="noStrike">
              <a:solidFill>
                <a:srgbClr val="ffffff"/>
              </a:solidFill>
              <a:latin typeface="Times New Roman"/>
            </a:endParaRPr>
          </a:p>
          <a:p>
            <a:pPr lvl="1" marL="392040" indent="0">
              <a:lnSpc>
                <a:spcPct val="90000"/>
              </a:lnSpc>
              <a:spcBef>
                <a:spcPts val="601"/>
              </a:spcBef>
              <a:buNone/>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040" indent="-277560">
              <a:lnSpc>
                <a:spcPct val="90000"/>
              </a:lnSpc>
              <a:spcBef>
                <a:spcPts val="601"/>
              </a:spcBef>
              <a:buClr>
                <a:srgbClr val="feec94"/>
              </a:buClr>
              <a:buSzPct val="60000"/>
              <a:buFont typeface="Wingdings" charset="2"/>
              <a:buChar char=""/>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Từ các nhiệm vụ theo chức năng nhiệm vụ bộ phận.</a:t>
            </a:r>
            <a:endParaRPr b="0" lang="en-US" sz="2400" spc="-1" strike="noStrike">
              <a:solidFill>
                <a:srgbClr val="ffffff"/>
              </a:solidFill>
              <a:latin typeface="Times New Roman"/>
            </a:endParaRPr>
          </a:p>
          <a:p>
            <a:pPr lvl="1" marL="392040" indent="0">
              <a:lnSpc>
                <a:spcPct val="90000"/>
              </a:lnSpc>
              <a:spcBef>
                <a:spcPts val="601"/>
              </a:spcBef>
              <a:buNone/>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92040" indent="0">
              <a:lnSpc>
                <a:spcPct val="90000"/>
              </a:lnSpc>
              <a:spcBef>
                <a:spcPts val="601"/>
              </a:spcBef>
              <a:buNone/>
              <a:tabLst>
                <a:tab algn="l" pos="392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3589F4A-EA73-434F-B59E-F24CA00020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5 Hoạch định kế hoạch năm (tt)</a:t>
            </a:r>
            <a:endParaRPr b="1" lang="en-US" sz="4400" spc="-1" strike="noStrike">
              <a:solidFill>
                <a:srgbClr val="feec94"/>
              </a:solidFill>
              <a:latin typeface="Times New Roman"/>
            </a:endParaRPr>
          </a:p>
        </p:txBody>
      </p:sp>
      <p:sp>
        <p:nvSpPr>
          <p:cNvPr id="3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ội dung của kế hoạch công tác năm:</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ội dung các mục tiêu công việc.</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ời gian thực hiện.</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ức độ quan trọng của các công viêc (để giúp bộ phận có thể đặt trọng tâm vào công tác nào và đánh giá công việc cuối năm).</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87105B6-74A3-404F-B0BB-350403C570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6 Hoạch định kế hoạch tháng:</a:t>
            </a:r>
            <a:endParaRPr b="1" lang="en-US" sz="4400" spc="-1" strike="noStrike">
              <a:solidFill>
                <a:srgbClr val="feec94"/>
              </a:solidFill>
              <a:latin typeface="Times New Roman"/>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uồn thông tin lập kế hoạch tháng</a:t>
            </a:r>
            <a:endParaRPr b="0" lang="en-US" sz="3200" spc="-1" strike="noStrike">
              <a:solidFill>
                <a:srgbClr val="ffffff"/>
              </a:solidFill>
              <a:latin typeface="Times New Roman"/>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trong kế hoạch năm.</a:t>
            </a: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tháng trước còn tồn tại.</a:t>
            </a:r>
            <a:endParaRPr b="0" lang="en-US" sz="3200" spc="-1" strike="noStrike">
              <a:solidFill>
                <a:srgbClr val="ffffff"/>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mới phát sinh do công ty giao.</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1D591AF-3988-45C8-9A20-C864538C73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ội dung kế hoạch tháng</a:t>
            </a:r>
            <a:endParaRPr b="1" lang="en-US" sz="4400" spc="-1" strike="noStrike">
              <a:solidFill>
                <a:srgbClr val="feec94"/>
              </a:solidFill>
              <a:latin typeface="Times New Roman"/>
            </a:endParaRPr>
          </a:p>
        </p:txBody>
      </p:sp>
      <p:sp>
        <p:nvSpPr>
          <p:cNvPr id="3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quan trọng trong tháng</a:t>
            </a:r>
            <a:endParaRPr b="0" lang="en-US" sz="3200" spc="-1" strike="noStrike">
              <a:solidFill>
                <a:srgbClr val="ffffff"/>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ần các công việc cụ thể gồm: nội dung công việc, thời gian thực hiện, người thực hiện.</a:t>
            </a:r>
            <a:endParaRPr b="0" lang="en-US" sz="3200" spc="-1" strike="noStrike">
              <a:solidFill>
                <a:srgbClr val="ffffff"/>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chưa xác định được lịch (nhưng phải làm trong tháng hoặc làm trong tháng sau).</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28EDD8E-4206-46F2-B458-05ADA213B5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7 Hoạch định kế hoạch tuần</a:t>
            </a:r>
            <a:endParaRPr b="1" lang="en-US" sz="4400" spc="-1" strike="noStrike">
              <a:solidFill>
                <a:srgbClr val="feec94"/>
              </a:solidFill>
              <a:latin typeface="Times New Roman"/>
            </a:endParaRPr>
          </a:p>
        </p:txBody>
      </p:sp>
      <p:sp>
        <p:nvSpPr>
          <p:cNvPr id="3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727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guồn thông tin để lập kế hoạch tuần:</a:t>
            </a:r>
            <a:endParaRPr b="0" lang="en-US" sz="3200" spc="-1" strike="noStrike">
              <a:solidFill>
                <a:srgbClr val="ffffff"/>
              </a:solidFill>
              <a:latin typeface="Times New Roman"/>
            </a:endParaRPr>
          </a:p>
          <a:p>
            <a:pPr marL="5727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trong kế hoạch tháng.</a:t>
            </a:r>
            <a:endParaRPr b="0" lang="en-US" sz="3200" spc="-1" strike="noStrike">
              <a:solidFill>
                <a:srgbClr val="ffffff"/>
              </a:solidFill>
              <a:latin typeface="Times New Roman"/>
            </a:endParaRPr>
          </a:p>
          <a:p>
            <a:pPr marL="572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trong tuần trước chưa thực hiện xong</a:t>
            </a:r>
            <a:endParaRPr b="0" lang="en-US" sz="3200" spc="-1" strike="noStrike">
              <a:solidFill>
                <a:srgbClr val="ffffff"/>
              </a:solidFill>
              <a:latin typeface="Times New Roman"/>
            </a:endParaRPr>
          </a:p>
          <a:p>
            <a:pPr marL="5727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572760" indent="-57276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mới phát sinh do công ty giao thêm.</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DBE39F5-C5AA-4D08-B710-2FE7031791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4.7 Hoạch định kế hoạch tuần</a:t>
            </a:r>
            <a:endParaRPr b="1" lang="en-US" sz="4400" spc="-1" strike="noStrike">
              <a:solidFill>
                <a:srgbClr val="feec94"/>
              </a:solidFill>
              <a:latin typeface="Times New Roman"/>
            </a:endParaRPr>
          </a:p>
        </p:txBody>
      </p:sp>
      <p:sp>
        <p:nvSpPr>
          <p:cNvPr id="3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ỘI DUNG BẢN KẾ HOẠCH TUẦ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quan trọng trong tuầ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ần các công việc cụ thể gồm: nội dung công việc, thời gian thực hiện, người thực hiện, ghi chú (yêu cầu kết quả).</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ác công việc chưa xác định được lịch (nhưng phải làm trong tuần hoặc làm trong tuần sau).</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1F607E6-1B34-4E71-8642-EB07A3BD3F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3. Làm thế nào xác định công việc?</a:t>
            </a:r>
            <a:endParaRPr b="1" lang="en-US" sz="4000" spc="-1" strike="noStrike">
              <a:solidFill>
                <a:srgbClr val="feec94"/>
              </a:solidFill>
              <a:latin typeface="Times New Roman"/>
            </a:endParaRPr>
          </a:p>
        </p:txBody>
      </p:sp>
      <p:sp>
        <p:nvSpPr>
          <p:cNvPr id="3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hi bắt đầu một công việc mới, làm thế nào để triển khai công việc đó hoàn hả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ếu bạn không có phương pháp để xác định đầy đủ các yếu tố, bạn có thể bỏ sót nhiều nội dung công việc. Đó chính là một lỗ hổng trong hoạch định công việ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E75E44E-303A-4265-8351-6D12926BAC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3. Làm thế nào xác định công việc?</a:t>
            </a:r>
            <a:endParaRPr b="1" lang="en-US" sz="4000" spc="-1" strike="noStrike">
              <a:solidFill>
                <a:srgbClr val="feec94"/>
              </a:solidFill>
              <a:latin typeface="Times New Roman"/>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ƯƠNG PHÁP XÁC ĐỊNH NỘI DUNG CÔNG VIỆC </a:t>
            </a:r>
            <a:r>
              <a:rPr b="1" lang="en-US" sz="2800" spc="-1" strike="noStrike">
                <a:solidFill>
                  <a:srgbClr val="0000cc"/>
                </a:solidFill>
                <a:latin typeface="Times New Roman"/>
              </a:rPr>
              <a:t>5WH2C5M</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mục tiêu, yêu cầu công việc 1W (wh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nội dung công việc 1W (wh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3W: where, when, who</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cách thức thực hiện 1H (how)</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phương pháp kiểm soát – 1C (control)</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phương pháp kiểm tra – 1C (check)</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ác định nguồn lực thực hiện 5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2846E75-ED1F-4131-806B-4FF83BC61A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1 Xác định mục tiêu yêu cầu</a:t>
            </a:r>
            <a:endParaRPr b="1" lang="en-US" sz="4400" spc="-1" strike="noStrike">
              <a:solidFill>
                <a:srgbClr val="feec94"/>
              </a:solidFill>
              <a:latin typeface="Times New Roman"/>
            </a:endParaRPr>
          </a:p>
        </p:txBody>
      </p:sp>
      <p:sp>
        <p:nvSpPr>
          <p:cNvPr id="3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hi phải làm một công việc, điều đầu tiên mà bạn phải quan tâm là:</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ại sao bạn phải làm công việc nà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ó có ý nghĩa như thế nào với tổ chức, bộ phận của bạ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ậy quả nếu bạn không thực hiện chúng?</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tại sao?) là 1W trong 5W. Khi bạn thực hiện một công việc thì điều đầu tiên bạn nên xem xét đó chíng là why với nội dung như trê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ác định được yêu cầu, mục tiêu giúp bạn luôn hướng trọng tâm các công việc vào mục tiêu và đánh giá hiệu quả cuối cùng.</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EEF6CED-FC27-423E-B093-1B4E9D760B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2 Xác định nội dung công việc</a:t>
            </a:r>
            <a:endParaRPr b="1" lang="en-US" sz="4400" spc="-1" strike="noStrike">
              <a:solidFill>
                <a:srgbClr val="feec94"/>
              </a:solidFill>
              <a:latin typeface="Times New Roman"/>
            </a:endParaRPr>
          </a:p>
        </p:txBody>
      </p:sp>
      <p:sp>
        <p:nvSpPr>
          <p:cNvPr id="3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W = what? Nội dung công việc đó là g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ãy chỉ ra các bước đê thực hiện công việc được gia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ạn hãy chắc rằng, bước sau là khách hàng của bước công việc trước.</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CD36FB0-31B3-4D88-A83A-82B0EA9261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3 Xác định 3W</a:t>
            </a:r>
            <a:endParaRPr b="1" lang="en-US" sz="4400" spc="-1" strike="noStrike">
              <a:solidFill>
                <a:srgbClr val="feec94"/>
              </a:solidFill>
              <a:latin typeface="Times New Roman"/>
            </a:endParaRPr>
          </a:p>
        </p:txBody>
      </p:sp>
      <p:sp>
        <p:nvSpPr>
          <p:cNvPr id="3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ở đâu, có thể bao gồm các câu hỏi sau:</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ông việc đó thực hiện tại đâu?</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ao hàng tại địa điểm nà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ểm tra tại bộ phận nà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ing những công đoạn nà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368962E-1268-4A1A-BD1E-A6027B1204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3.3 Xác định 3W</a:t>
            </a:r>
            <a:endParaRPr b="1" lang="en-US" sz="4400" spc="-1" strike="noStrike">
              <a:solidFill>
                <a:srgbClr val="feec94"/>
              </a:solidFill>
              <a:latin typeface="Times New Roman"/>
            </a:endParaRPr>
          </a:p>
        </p:txBody>
      </p:sp>
      <p:sp>
        <p:nvSpPr>
          <p:cNvPr id="3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Công việc đó thực hiện khi nào, khi nào thì giao, khi nào kết thú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ể xác định được thời hạn phải làm công việc, bạn cần xác định được mức độ khẩn cấp và mức độ quan trọng của từng công việ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4 loại công việc khác nhau: công việc quan trọng và khẩn cấp, công việc không quan trọng nhưng khẩn cấp, công việc quan trọng nhưng không khẩn cấp, công việc không quan trọng và không khẩn cấp. Bạn phải thực hiện công việc quan trọng và khẩn cấp trướ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5684747-EBA4-4611-A0F2-AB62F12CA5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6:11Z</dcterms:created>
  <dc:creator>Nq</dc:creator>
  <dc:description/>
  <dc:language>en-US</dc:language>
  <cp:lastModifiedBy>HUYKC</cp:lastModifiedBy>
  <dcterms:modified xsi:type="dcterms:W3CDTF">2006-12-31T02:24:46Z</dcterms:modified>
  <cp:revision>24</cp:revision>
  <dc:subject/>
  <dc:title>Quản trị xung đột</dc:title>
</cp:coreProperties>
</file>