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6F15-B77C-44A2-97E8-1EBF239D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CB5E-706A-433E-AD46-47E7959B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E572-A7A3-4763-A5D0-F7C2011A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CA1B-933B-4325-99F3-879CC746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5156-169A-4B1C-A431-7E60B487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EE4E-4E2C-4B1F-BA75-5E267F99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46A6-E67D-456F-A709-3203BBA3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C810-7E78-4E12-8E68-AE528DA2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46E2-D9CB-404A-B5B8-235AF1A2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9C91-C9E2-43C2-96CC-15657441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0903-F8BB-46BF-849A-5A93F74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E388-5803-4006-A733-1640AC64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B094-236D-46F7-9FC4-51ABDE10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272F-2684-456E-9788-E515CF22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326B-26F1-4531-B225-4E9CC9D9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2DA1-5DC0-4A3A-AA10-A325A287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91A2-31E6-438F-AAB5-934791D0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498B-CE2E-412D-9A04-11B572AC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965D-7C8D-4E21-BDB1-1EB2D545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C669-36B0-4F46-B100-17963979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B521-43A7-4474-8427-A4ED361A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928A-2A4A-4BB4-8E00-1DABF92C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2E11-4D50-4634-B849-E03147F0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33EB-9806-4E74-AD8C-5AA549F8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5B24-BE5B-46DE-9150-41BF256A5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8404-EFF3-4B8D-90F4-3BBF45180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87640" y="404280"/>
            <a:ext cx="410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</a:t>
            </a: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Arial"/>
              </a:rPr>
              <a:t> </a:t>
            </a: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COLLECTIF</a:t>
            </a: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Arial"/>
              </a:rPr>
              <a:t> </a:t>
            </a: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489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1413000"/>
            <a:ext cx="576000" cy="358560"/>
          </a:xfrm>
          <a:prstGeom prst="wedgeEllipseCallout">
            <a:avLst>
              <a:gd name="adj1" fmla="val 23555"/>
              <a:gd name="adj2" fmla="val -10044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1989000"/>
            <a:ext cx="57636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2781360"/>
            <a:ext cx="57600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4149720"/>
            <a:ext cx="57636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5013360"/>
            <a:ext cx="57600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5084640"/>
            <a:ext cx="576000" cy="360360"/>
          </a:xfrm>
          <a:prstGeom prst="wedgeEllipseCallout">
            <a:avLst>
              <a:gd name="adj1" fmla="val -54134"/>
              <a:gd name="adj2" fmla="val 8920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4292640"/>
            <a:ext cx="576360" cy="360360"/>
          </a:xfrm>
          <a:prstGeom prst="wedgeEllipseCallout">
            <a:avLst>
              <a:gd name="adj1" fmla="val -43388"/>
              <a:gd name="adj2" fmla="val 8039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2637000"/>
            <a:ext cx="57636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80000" y="4437000"/>
            <a:ext cx="57600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5013360"/>
            <a:ext cx="57600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4581360"/>
            <a:ext cx="576360" cy="360360"/>
          </a:xfrm>
          <a:prstGeom prst="wedgeEllipseCallout">
            <a:avLst>
              <a:gd name="adj1" fmla="val 55236"/>
              <a:gd name="adj2" fmla="val 109472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869000"/>
            <a:ext cx="503280" cy="360360"/>
          </a:xfrm>
          <a:prstGeom prst="wedgeEllipseCallout">
            <a:avLst>
              <a:gd name="adj1" fmla="val -48421"/>
              <a:gd name="adj2" fmla="val 91851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4365720"/>
            <a:ext cx="576000" cy="358560"/>
          </a:xfrm>
          <a:prstGeom prst="wedgeEllipseCallout">
            <a:avLst>
              <a:gd name="adj1" fmla="val -25759"/>
              <a:gd name="adj2" fmla="val 10531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4437000"/>
            <a:ext cx="576000" cy="360360"/>
          </a:xfrm>
          <a:prstGeom prst="wedgeEllipseCallout">
            <a:avLst>
              <a:gd name="adj1" fmla="val -43388"/>
              <a:gd name="adj2" fmla="val 112555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941720"/>
            <a:ext cx="576360" cy="360360"/>
          </a:xfrm>
          <a:prstGeom prst="wedgeEllipseCallout">
            <a:avLst>
              <a:gd name="adj1" fmla="val -76171"/>
              <a:gd name="adj2" fmla="val 6277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2133720"/>
            <a:ext cx="576360" cy="360360"/>
          </a:xfrm>
          <a:prstGeom prst="wedgeEllipseCallout">
            <a:avLst>
              <a:gd name="adj1" fmla="val -52481"/>
              <a:gd name="adj2" fmla="val 83481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997360"/>
            <a:ext cx="576360" cy="360360"/>
          </a:xfrm>
          <a:prstGeom prst="wedgeEllipseCallout">
            <a:avLst>
              <a:gd name="adj1" fmla="val 53305"/>
              <a:gd name="adj2" fmla="val 7731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2060640"/>
            <a:ext cx="576360" cy="360360"/>
          </a:xfrm>
          <a:prstGeom prst="wedgeEllipseCallout">
            <a:avLst>
              <a:gd name="adj1" fmla="val 60745"/>
              <a:gd name="adj2" fmla="val 7158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24720" y="3141720"/>
            <a:ext cx="57636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44000" y="3573360"/>
            <a:ext cx="576000" cy="360360"/>
          </a:xfrm>
          <a:prstGeom prst="wedgeEllipseCallout">
            <a:avLst>
              <a:gd name="adj1" fmla="val 46143"/>
              <a:gd name="adj2" fmla="val 57046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0" y="2133720"/>
            <a:ext cx="7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76720" y="306864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40360" y="220500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740720" y="321300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459640" y="3645000"/>
            <a:ext cx="144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308720" y="4508640"/>
            <a:ext cx="144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24720" y="501336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27640" y="4437000"/>
            <a:ext cx="14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443640" y="494172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32360" y="5084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64000" y="465300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24360" y="4508640"/>
            <a:ext cx="216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8000" y="422100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916360" y="4365720"/>
            <a:ext cx="215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5280" y="508464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59280" y="5157720"/>
            <a:ext cx="21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67280" y="270828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35280" y="285264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00" y="2060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640" y="1484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630864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411280" y="5661000"/>
            <a:ext cx="1513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DAIRA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71640" y="1989000"/>
            <a:ext cx="647640" cy="935280"/>
          </a:xfrm>
          <a:custGeom>
            <a:avLst/>
            <a:gdLst/>
            <a:ahLst/>
            <a:rect l="l" t="t" r="r" b="b"/>
            <a:pathLst>
              <a:path w="573" h="1005">
                <a:moveTo>
                  <a:pt x="468" y="166"/>
                </a:moveTo>
                <a:cubicBezTo>
                  <a:pt x="393" y="53"/>
                  <a:pt x="120" y="0"/>
                  <a:pt x="60" y="121"/>
                </a:cubicBezTo>
                <a:cubicBezTo>
                  <a:pt x="0" y="242"/>
                  <a:pt x="30" y="779"/>
                  <a:pt x="105" y="892"/>
                </a:cubicBezTo>
                <a:cubicBezTo>
                  <a:pt x="180" y="1005"/>
                  <a:pt x="453" y="922"/>
                  <a:pt x="513" y="801"/>
                </a:cubicBezTo>
                <a:cubicBezTo>
                  <a:pt x="573" y="680"/>
                  <a:pt x="543" y="279"/>
                  <a:pt x="468" y="166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06800" cy="3527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411280" y="5661000"/>
            <a:ext cx="1513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HOTEL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403280" y="1916280"/>
            <a:ext cx="263520" cy="312480"/>
          </a:xfrm>
          <a:custGeom>
            <a:avLst/>
            <a:gdLst/>
            <a:ahLst/>
            <a:rect l="l" t="t" r="r" b="b"/>
            <a:pathLst>
              <a:path w="211" h="242">
                <a:moveTo>
                  <a:pt x="151" y="30"/>
                </a:moveTo>
                <a:cubicBezTo>
                  <a:pt x="121" y="0"/>
                  <a:pt x="30" y="0"/>
                  <a:pt x="15" y="30"/>
                </a:cubicBezTo>
                <a:cubicBezTo>
                  <a:pt x="0" y="60"/>
                  <a:pt x="30" y="182"/>
                  <a:pt x="60" y="212"/>
                </a:cubicBezTo>
                <a:cubicBezTo>
                  <a:pt x="90" y="242"/>
                  <a:pt x="181" y="242"/>
                  <a:pt x="196" y="212"/>
                </a:cubicBezTo>
                <a:cubicBezTo>
                  <a:pt x="211" y="182"/>
                  <a:pt x="181" y="60"/>
                  <a:pt x="151" y="30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411280" y="5661000"/>
            <a:ext cx="22320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CENTRE DE SOIN 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916360" y="3789360"/>
            <a:ext cx="647640" cy="431640"/>
          </a:xfrm>
          <a:custGeom>
            <a:avLst/>
            <a:gdLst/>
            <a:ahLst/>
            <a:rect l="l" t="t" r="r" b="b"/>
            <a:pathLst>
              <a:path w="582" h="603">
                <a:moveTo>
                  <a:pt x="522" y="75"/>
                </a:moveTo>
                <a:cubicBezTo>
                  <a:pt x="462" y="0"/>
                  <a:pt x="136" y="0"/>
                  <a:pt x="68" y="75"/>
                </a:cubicBezTo>
                <a:cubicBezTo>
                  <a:pt x="0" y="150"/>
                  <a:pt x="53" y="453"/>
                  <a:pt x="113" y="528"/>
                </a:cubicBezTo>
                <a:cubicBezTo>
                  <a:pt x="173" y="603"/>
                  <a:pt x="363" y="603"/>
                  <a:pt x="431" y="528"/>
                </a:cubicBezTo>
                <a:cubicBezTo>
                  <a:pt x="499" y="453"/>
                  <a:pt x="582" y="150"/>
                  <a:pt x="522" y="75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411280" y="5661000"/>
            <a:ext cx="16560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USINE 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979640" y="3357720"/>
            <a:ext cx="647640" cy="431640"/>
          </a:xfrm>
          <a:custGeom>
            <a:avLst/>
            <a:gdLst/>
            <a:ahLst/>
            <a:rect l="l" t="t" r="r" b="b"/>
            <a:pathLst>
              <a:path w="711" h="394">
                <a:moveTo>
                  <a:pt x="620" y="83"/>
                </a:moveTo>
                <a:cubicBezTo>
                  <a:pt x="544" y="30"/>
                  <a:pt x="258" y="0"/>
                  <a:pt x="167" y="38"/>
                </a:cubicBezTo>
                <a:cubicBezTo>
                  <a:pt x="76" y="76"/>
                  <a:pt x="0" y="257"/>
                  <a:pt x="76" y="310"/>
                </a:cubicBezTo>
                <a:cubicBezTo>
                  <a:pt x="152" y="363"/>
                  <a:pt x="529" y="394"/>
                  <a:pt x="620" y="356"/>
                </a:cubicBezTo>
                <a:cubicBezTo>
                  <a:pt x="711" y="318"/>
                  <a:pt x="696" y="136"/>
                  <a:pt x="620" y="83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411280" y="5661000"/>
            <a:ext cx="201636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MOSQUE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771640" y="3141720"/>
            <a:ext cx="287640" cy="287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411280" y="5661000"/>
            <a:ext cx="302436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SALLE DE SPORT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987640" y="3068640"/>
            <a:ext cx="64764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411280" y="5661000"/>
            <a:ext cx="302436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POLYCLINIQU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403280" y="1989000"/>
            <a:ext cx="936720" cy="648000"/>
          </a:xfrm>
          <a:custGeom>
            <a:avLst/>
            <a:gdLst/>
            <a:ahLst/>
            <a:rect l="l" t="t" r="r" b="b"/>
            <a:pathLst>
              <a:path w="793" h="528">
                <a:moveTo>
                  <a:pt x="491" y="0"/>
                </a:moveTo>
                <a:cubicBezTo>
                  <a:pt x="378" y="0"/>
                  <a:pt x="0" y="378"/>
                  <a:pt x="38" y="453"/>
                </a:cubicBezTo>
                <a:cubicBezTo>
                  <a:pt x="76" y="528"/>
                  <a:pt x="643" y="528"/>
                  <a:pt x="718" y="453"/>
                </a:cubicBezTo>
                <a:cubicBezTo>
                  <a:pt x="793" y="378"/>
                  <a:pt x="604" y="0"/>
                  <a:pt x="491" y="0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95280" y="3357720"/>
            <a:ext cx="216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3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258920" y="3429000"/>
            <a:ext cx="280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CENTRE COMMERCIAL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77080" y="342900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8000" y="5734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32" name=""/>
          <p:cNvSpPr/>
          <p:nvPr/>
        </p:nvSpPr>
        <p:spPr>
          <a:xfrm>
            <a:off x="2050920" y="4525920"/>
            <a:ext cx="4103640" cy="2332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59280" y="907920"/>
            <a:ext cx="4032360" cy="2448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71640" y="5805360"/>
            <a:ext cx="10080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HOTEL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7812000" y="3429000"/>
            <a:ext cx="72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POST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124000" y="4581360"/>
            <a:ext cx="3960720" cy="21607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203640" y="6165720"/>
            <a:ext cx="792000" cy="382680"/>
          </a:xfrm>
          <a:custGeom>
            <a:avLst/>
            <a:gdLst/>
            <a:ahLst/>
            <a:rect l="l" t="t" r="r" b="b"/>
            <a:pathLst>
              <a:path w="763" h="513">
                <a:moveTo>
                  <a:pt x="612" y="60"/>
                </a:moveTo>
                <a:cubicBezTo>
                  <a:pt x="506" y="45"/>
                  <a:pt x="204" y="0"/>
                  <a:pt x="113" y="60"/>
                </a:cubicBezTo>
                <a:cubicBezTo>
                  <a:pt x="22" y="120"/>
                  <a:pt x="0" y="355"/>
                  <a:pt x="68" y="423"/>
                </a:cubicBezTo>
                <a:cubicBezTo>
                  <a:pt x="136" y="491"/>
                  <a:pt x="408" y="513"/>
                  <a:pt x="521" y="468"/>
                </a:cubicBezTo>
                <a:cubicBezTo>
                  <a:pt x="634" y="423"/>
                  <a:pt x="733" y="219"/>
                  <a:pt x="748" y="151"/>
                </a:cubicBezTo>
                <a:cubicBezTo>
                  <a:pt x="763" y="83"/>
                  <a:pt x="718" y="75"/>
                  <a:pt x="612" y="60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859200" cy="230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50920" y="907920"/>
            <a:ext cx="4032000" cy="2448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67640" y="1700280"/>
            <a:ext cx="289080" cy="217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3887640" cy="2303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68360" y="2637000"/>
            <a:ext cx="1079640" cy="453960"/>
          </a:xfrm>
          <a:custGeom>
            <a:avLst/>
            <a:gdLst/>
            <a:ahLst/>
            <a:rect l="l" t="t" r="r" b="b"/>
            <a:pathLst>
              <a:path w="1414" h="876">
                <a:moveTo>
                  <a:pt x="1233" y="143"/>
                </a:moveTo>
                <a:cubicBezTo>
                  <a:pt x="1089" y="30"/>
                  <a:pt x="552" y="0"/>
                  <a:pt x="371" y="98"/>
                </a:cubicBezTo>
                <a:cubicBezTo>
                  <a:pt x="190" y="196"/>
                  <a:pt x="0" y="620"/>
                  <a:pt x="144" y="733"/>
                </a:cubicBezTo>
                <a:cubicBezTo>
                  <a:pt x="288" y="846"/>
                  <a:pt x="1052" y="876"/>
                  <a:pt x="1233" y="778"/>
                </a:cubicBezTo>
                <a:cubicBezTo>
                  <a:pt x="1414" y="680"/>
                  <a:pt x="1377" y="256"/>
                  <a:pt x="1233" y="143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59640" y="638172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84360" y="3716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Les équipements proposés par le P.O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8603600">
            <a:off x="5760360" y="3681720"/>
            <a:ext cx="1081080" cy="432000"/>
          </a:xfrm>
          <a:custGeom>
            <a:avLst/>
            <a:gdLst>
              <a:gd name="textAreaLeft" fmla="*/ 189000 w 1081080"/>
              <a:gd name="textAreaRight" fmla="*/ 783720 w 1081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164360" y="3573360"/>
            <a:ext cx="50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3420800">
            <a:off x="1402920" y="3715920"/>
            <a:ext cx="1009800" cy="574560"/>
          </a:xfrm>
          <a:custGeom>
            <a:avLst/>
            <a:gdLst>
              <a:gd name="textAreaLeft" fmla="*/ 176760 w 1009800"/>
              <a:gd name="textAreaRight" fmla="*/ 732240 w 100980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3500280"/>
            <a:ext cx="502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8360" y="5950080"/>
            <a:ext cx="50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3816360" y="4184640"/>
            <a:ext cx="432000" cy="21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88000" y="457200"/>
            <a:ext cx="38988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32000" cy="3513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957600">
            <a:off x="763560" y="1359000"/>
            <a:ext cx="1144440" cy="1493640"/>
          </a:xfrm>
          <a:custGeom>
            <a:avLst/>
            <a:gdLst/>
            <a:ahLst/>
            <a:rect l="l" t="t" r="r" b="b"/>
            <a:pathLst>
              <a:path w="764" h="907">
                <a:moveTo>
                  <a:pt x="673" y="113"/>
                </a:moveTo>
                <a:cubicBezTo>
                  <a:pt x="582" y="0"/>
                  <a:pt x="166" y="0"/>
                  <a:pt x="83" y="113"/>
                </a:cubicBezTo>
                <a:cubicBezTo>
                  <a:pt x="0" y="226"/>
                  <a:pt x="83" y="681"/>
                  <a:pt x="174" y="794"/>
                </a:cubicBezTo>
                <a:cubicBezTo>
                  <a:pt x="265" y="907"/>
                  <a:pt x="544" y="907"/>
                  <a:pt x="627" y="794"/>
                </a:cubicBezTo>
                <a:cubicBezTo>
                  <a:pt x="710" y="681"/>
                  <a:pt x="764" y="226"/>
                  <a:pt x="673" y="113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050920" y="5734080"/>
            <a:ext cx="605016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CENTRE DE FORMATION PROFESSIONNELLE 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734080"/>
            <a:ext cx="1006560" cy="21600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445000"/>
            <a:ext cx="57636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946200">
            <a:off x="1761840" y="1455480"/>
            <a:ext cx="714240" cy="1160280"/>
          </a:xfrm>
          <a:custGeom>
            <a:avLst/>
            <a:gdLst/>
            <a:ahLst/>
            <a:rect l="l" t="t" r="r" b="b"/>
            <a:pathLst>
              <a:path w="801" h="861">
                <a:moveTo>
                  <a:pt x="733" y="204"/>
                </a:moveTo>
                <a:cubicBezTo>
                  <a:pt x="665" y="83"/>
                  <a:pt x="196" y="0"/>
                  <a:pt x="98" y="68"/>
                </a:cubicBezTo>
                <a:cubicBezTo>
                  <a:pt x="0" y="136"/>
                  <a:pt x="76" y="491"/>
                  <a:pt x="144" y="612"/>
                </a:cubicBezTo>
                <a:cubicBezTo>
                  <a:pt x="212" y="733"/>
                  <a:pt x="409" y="861"/>
                  <a:pt x="507" y="793"/>
                </a:cubicBezTo>
                <a:cubicBezTo>
                  <a:pt x="605" y="725"/>
                  <a:pt x="801" y="325"/>
                  <a:pt x="733" y="204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11280" y="5661000"/>
            <a:ext cx="302436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ECOLE PRIMAIR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411280" y="5734080"/>
            <a:ext cx="1224000" cy="1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CEM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2637000"/>
            <a:ext cx="1584000" cy="1056960"/>
          </a:xfrm>
          <a:custGeom>
            <a:avLst/>
            <a:gdLst/>
            <a:ahLst/>
            <a:rect l="l" t="t" r="r" b="b"/>
            <a:pathLst>
              <a:path w="1526" h="1074">
                <a:moveTo>
                  <a:pt x="1337" y="235"/>
                </a:moveTo>
                <a:cubicBezTo>
                  <a:pt x="1148" y="129"/>
                  <a:pt x="408" y="0"/>
                  <a:pt x="204" y="53"/>
                </a:cubicBezTo>
                <a:cubicBezTo>
                  <a:pt x="0" y="106"/>
                  <a:pt x="30" y="386"/>
                  <a:pt x="113" y="552"/>
                </a:cubicBezTo>
                <a:cubicBezTo>
                  <a:pt x="196" y="718"/>
                  <a:pt x="498" y="1028"/>
                  <a:pt x="702" y="1051"/>
                </a:cubicBezTo>
                <a:cubicBezTo>
                  <a:pt x="906" y="1074"/>
                  <a:pt x="1231" y="825"/>
                  <a:pt x="1337" y="689"/>
                </a:cubicBezTo>
                <a:cubicBezTo>
                  <a:pt x="1443" y="553"/>
                  <a:pt x="1526" y="341"/>
                  <a:pt x="1337" y="235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11280" y="5661000"/>
            <a:ext cx="3313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ECOLE PRIMAIR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rot="1141200">
            <a:off x="3090960" y="3052800"/>
            <a:ext cx="645840" cy="790560"/>
          </a:xfrm>
          <a:custGeom>
            <a:avLst/>
            <a:gdLst/>
            <a:ahLst/>
            <a:rect l="l" t="t" r="r" b="b"/>
            <a:pathLst>
              <a:path w="1640" h="756">
                <a:moveTo>
                  <a:pt x="250" y="408"/>
                </a:moveTo>
                <a:cubicBezTo>
                  <a:pt x="8" y="506"/>
                  <a:pt x="31" y="537"/>
                  <a:pt x="23" y="590"/>
                </a:cubicBezTo>
                <a:cubicBezTo>
                  <a:pt x="15" y="643"/>
                  <a:pt x="0" y="756"/>
                  <a:pt x="204" y="726"/>
                </a:cubicBezTo>
                <a:cubicBezTo>
                  <a:pt x="408" y="696"/>
                  <a:pt x="1036" y="529"/>
                  <a:pt x="1248" y="408"/>
                </a:cubicBezTo>
                <a:cubicBezTo>
                  <a:pt x="1460" y="287"/>
                  <a:pt x="1640" y="0"/>
                  <a:pt x="1474" y="0"/>
                </a:cubicBezTo>
                <a:cubicBezTo>
                  <a:pt x="1308" y="0"/>
                  <a:pt x="492" y="310"/>
                  <a:pt x="250" y="408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411280" y="5661000"/>
            <a:ext cx="2737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TECHNICUM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0920" y="4005360"/>
            <a:ext cx="1368720" cy="718920"/>
          </a:xfrm>
          <a:custGeom>
            <a:avLst/>
            <a:gdLst/>
            <a:ahLst/>
            <a:rect l="l" t="t" r="r" b="b"/>
            <a:pathLst>
              <a:path w="1890" h="1058">
                <a:moveTo>
                  <a:pt x="1603" y="30"/>
                </a:moveTo>
                <a:cubicBezTo>
                  <a:pt x="1354" y="60"/>
                  <a:pt x="394" y="318"/>
                  <a:pt x="197" y="484"/>
                </a:cubicBezTo>
                <a:cubicBezTo>
                  <a:pt x="0" y="650"/>
                  <a:pt x="174" y="1058"/>
                  <a:pt x="423" y="1028"/>
                </a:cubicBezTo>
                <a:cubicBezTo>
                  <a:pt x="672" y="998"/>
                  <a:pt x="1496" y="469"/>
                  <a:pt x="1693" y="303"/>
                </a:cubicBezTo>
                <a:cubicBezTo>
                  <a:pt x="1890" y="137"/>
                  <a:pt x="1852" y="0"/>
                  <a:pt x="1603" y="30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411280" y="5661000"/>
            <a:ext cx="25210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MOSQUE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332000" y="2997360"/>
            <a:ext cx="503280" cy="502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06800" cy="3527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411280" y="5661000"/>
            <a:ext cx="22320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SONELGAZ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32360" cy="3527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042920" y="3068640"/>
            <a:ext cx="433440" cy="431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486900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Google eart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27280" y="40428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cccc"/>
                </a:solidFill>
                <a:uFillTx/>
                <a:latin typeface="Times New Roman"/>
                <a:ea typeface="Times New Roman"/>
              </a:rPr>
              <a:t>HABITAT SEMI COLLECTIF ET INDIVID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3280" y="1125360"/>
            <a:ext cx="4176720" cy="367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42920" y="5661000"/>
            <a:ext cx="1008000" cy="216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8000" y="5445000"/>
            <a:ext cx="647640" cy="576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5516640"/>
            <a:ext cx="21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411280" y="5661000"/>
            <a:ext cx="244800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latin typeface="Times New Roman"/>
              </a:rPr>
              <a:t>ECOLE PRIMAIRE</a:t>
            </a:r>
            <a:endParaRPr b="1" i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latin typeface="Times New Roman"/>
              <a:ea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006800" cy="3527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4032000" cy="3527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618080" y="486900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ource:Prise de photo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87520" y="2241720"/>
            <a:ext cx="444600" cy="706320"/>
          </a:xfrm>
          <a:custGeom>
            <a:avLst/>
            <a:gdLst/>
            <a:ahLst/>
            <a:rect l="l" t="t" r="r" b="b"/>
            <a:pathLst>
              <a:path w="280" h="445">
                <a:moveTo>
                  <a:pt x="129" y="22"/>
                </a:moveTo>
                <a:cubicBezTo>
                  <a:pt x="167" y="37"/>
                  <a:pt x="280" y="90"/>
                  <a:pt x="265" y="158"/>
                </a:cubicBezTo>
                <a:cubicBezTo>
                  <a:pt x="250" y="226"/>
                  <a:pt x="76" y="445"/>
                  <a:pt x="38" y="430"/>
                </a:cubicBezTo>
                <a:cubicBezTo>
                  <a:pt x="0" y="415"/>
                  <a:pt x="23" y="136"/>
                  <a:pt x="38" y="68"/>
                </a:cubicBezTo>
                <a:cubicBezTo>
                  <a:pt x="53" y="0"/>
                  <a:pt x="91" y="7"/>
                  <a:pt x="129" y="22"/>
                </a:cubicBezTo>
                <a:close/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8:10:00Z</dcterms:created>
  <dc:creator>AZDINE</dc:creator>
  <dc:description/>
  <dc:language>en-US</dc:language>
  <cp:lastModifiedBy>AZDINE</cp:lastModifiedBy>
  <dcterms:modified xsi:type="dcterms:W3CDTF">2011-02-15T23:17:57Z</dcterms:modified>
  <cp:revision>57</cp:revision>
  <dc:subject/>
  <dc:title>Diapositive 1</dc:title>
</cp:coreProperties>
</file>