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D92A-10F4-409E-B6D0-AF342466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C878-D232-4667-9D67-424B69CF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131C6-495A-4612-BDD4-E98A6ADA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B7BE-F4B3-48C1-95A2-251509A8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3EA1-661E-4329-A713-E0831B74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5027-CC59-40FF-B206-B3476E2D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6418-3BF6-4825-BDA2-A1D3E74C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F328-D079-4941-967E-1FFDE862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1185-1987-430A-A10E-B40BA08D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7551-3135-4A22-A1CD-00E49382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9321-77D7-4B24-AF5E-09AEF44B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1EEE-01C0-4D45-9911-C5A13A68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5CCA-ADD8-4F5B-9342-5E012D9F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C35F-D0F9-458D-A421-C0683D4B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9500-CCD9-481F-83E0-87ABEA1F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6968-C867-4D68-BBD8-605ACE6B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337A-C4EA-4F87-8301-42F4E69D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03AFB-44CC-4222-9815-6512B773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D4F75-4576-4C55-AB68-EE201F5D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25BD7-BCD0-4BE4-BF67-631640C6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99DB-9BFF-4172-95D4-85B64886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0CFC-1DDB-4067-97CE-4EEEA32B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0681-8346-4CAA-A45F-E90A5B78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FAD68-18FA-4D37-B2D2-0953630C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131C-F61C-4C14-923D-FA48710C1F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4982-107F-495D-B83A-9E17D9389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87640" y="404280"/>
            <a:ext cx="410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</a:t>
            </a: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Arial"/>
              </a:rPr>
              <a:t> </a:t>
            </a: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COLLECTIF</a:t>
            </a: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Arial"/>
              </a:rPr>
              <a:t> </a:t>
            </a: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4896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1280" y="1413000"/>
            <a:ext cx="576000" cy="358560"/>
          </a:xfrm>
          <a:prstGeom prst="wedgeEllipseCallout">
            <a:avLst>
              <a:gd name="adj1" fmla="val 23555"/>
              <a:gd name="adj2" fmla="val -100444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1989000"/>
            <a:ext cx="57636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2781360"/>
            <a:ext cx="57600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4149720"/>
            <a:ext cx="57636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5013360"/>
            <a:ext cx="57600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5084640"/>
            <a:ext cx="576000" cy="360360"/>
          </a:xfrm>
          <a:prstGeom prst="wedgeEllipseCallout">
            <a:avLst>
              <a:gd name="adj1" fmla="val -54134"/>
              <a:gd name="adj2" fmla="val 89208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4292640"/>
            <a:ext cx="576360" cy="360360"/>
          </a:xfrm>
          <a:prstGeom prst="wedgeEllipseCallout">
            <a:avLst>
              <a:gd name="adj1" fmla="val -43388"/>
              <a:gd name="adj2" fmla="val 80398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24360" y="2637000"/>
            <a:ext cx="57636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80000" y="4437000"/>
            <a:ext cx="57600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5013360"/>
            <a:ext cx="57600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4581360"/>
            <a:ext cx="576360" cy="360360"/>
          </a:xfrm>
          <a:prstGeom prst="wedgeEllipseCallout">
            <a:avLst>
              <a:gd name="adj1" fmla="val 55236"/>
              <a:gd name="adj2" fmla="val 109472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4869000"/>
            <a:ext cx="503280" cy="360360"/>
          </a:xfrm>
          <a:prstGeom prst="wedgeEllipseCallout">
            <a:avLst>
              <a:gd name="adj1" fmla="val -48421"/>
              <a:gd name="adj2" fmla="val 91851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4365720"/>
            <a:ext cx="576000" cy="358560"/>
          </a:xfrm>
          <a:prstGeom prst="wedgeEllipseCallout">
            <a:avLst>
              <a:gd name="adj1" fmla="val -25759"/>
              <a:gd name="adj2" fmla="val 10531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4437000"/>
            <a:ext cx="576000" cy="360360"/>
          </a:xfrm>
          <a:prstGeom prst="wedgeEllipseCallout">
            <a:avLst>
              <a:gd name="adj1" fmla="val -43388"/>
              <a:gd name="adj2" fmla="val 112555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941720"/>
            <a:ext cx="576360" cy="360360"/>
          </a:xfrm>
          <a:prstGeom prst="wedgeEllipseCallout">
            <a:avLst>
              <a:gd name="adj1" fmla="val -76171"/>
              <a:gd name="adj2" fmla="val 6277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2133720"/>
            <a:ext cx="576360" cy="360360"/>
          </a:xfrm>
          <a:prstGeom prst="wedgeEllipseCallout">
            <a:avLst>
              <a:gd name="adj1" fmla="val -52481"/>
              <a:gd name="adj2" fmla="val 83481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997360"/>
            <a:ext cx="576360" cy="360360"/>
          </a:xfrm>
          <a:prstGeom prst="wedgeEllipseCallout">
            <a:avLst>
              <a:gd name="adj1" fmla="val 53305"/>
              <a:gd name="adj2" fmla="val 77314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2060640"/>
            <a:ext cx="576360" cy="360360"/>
          </a:xfrm>
          <a:prstGeom prst="wedgeEllipseCallout">
            <a:avLst>
              <a:gd name="adj1" fmla="val 60745"/>
              <a:gd name="adj2" fmla="val 7158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24720" y="3141720"/>
            <a:ext cx="57636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44000" y="3573360"/>
            <a:ext cx="57600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2133720"/>
            <a:ext cx="71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76720" y="3068640"/>
            <a:ext cx="14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40360" y="220500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740720" y="321300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459640" y="3645000"/>
            <a:ext cx="144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308720" y="4508640"/>
            <a:ext cx="144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24720" y="501336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227640" y="4437000"/>
            <a:ext cx="14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443640" y="494172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932360" y="5084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64000" y="465300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24360" y="4508640"/>
            <a:ext cx="216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8000" y="422100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916360" y="4365720"/>
            <a:ext cx="215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835280" y="5084640"/>
            <a:ext cx="217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59280" y="5157720"/>
            <a:ext cx="2156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67280" y="2708280"/>
            <a:ext cx="217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835280" y="2852640"/>
            <a:ext cx="217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00" y="2060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640" y="148428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630864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411280" y="5661000"/>
            <a:ext cx="151308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DAIRA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71640" y="1989000"/>
            <a:ext cx="647640" cy="935280"/>
          </a:xfrm>
          <a:custGeom>
            <a:avLst/>
            <a:gdLst/>
            <a:ahLst/>
            <a:rect l="l" t="t" r="r" b="b"/>
            <a:pathLst>
              <a:path w="573" h="1005">
                <a:moveTo>
                  <a:pt x="468" y="166"/>
                </a:moveTo>
                <a:cubicBezTo>
                  <a:pt x="393" y="53"/>
                  <a:pt x="120" y="0"/>
                  <a:pt x="60" y="121"/>
                </a:cubicBezTo>
                <a:cubicBezTo>
                  <a:pt x="0" y="242"/>
                  <a:pt x="30" y="779"/>
                  <a:pt x="105" y="892"/>
                </a:cubicBezTo>
                <a:cubicBezTo>
                  <a:pt x="180" y="1005"/>
                  <a:pt x="453" y="922"/>
                  <a:pt x="513" y="801"/>
                </a:cubicBezTo>
                <a:cubicBezTo>
                  <a:pt x="573" y="680"/>
                  <a:pt x="543" y="279"/>
                  <a:pt x="468" y="166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4006800" cy="3527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411280" y="5661000"/>
            <a:ext cx="151308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HOTEL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403280" y="1916280"/>
            <a:ext cx="263520" cy="312480"/>
          </a:xfrm>
          <a:custGeom>
            <a:avLst/>
            <a:gdLst/>
            <a:ahLst/>
            <a:rect l="l" t="t" r="r" b="b"/>
            <a:pathLst>
              <a:path w="211" h="242">
                <a:moveTo>
                  <a:pt x="151" y="30"/>
                </a:moveTo>
                <a:cubicBezTo>
                  <a:pt x="121" y="0"/>
                  <a:pt x="30" y="0"/>
                  <a:pt x="15" y="30"/>
                </a:cubicBezTo>
                <a:cubicBezTo>
                  <a:pt x="0" y="60"/>
                  <a:pt x="30" y="182"/>
                  <a:pt x="60" y="212"/>
                </a:cubicBezTo>
                <a:cubicBezTo>
                  <a:pt x="90" y="242"/>
                  <a:pt x="181" y="242"/>
                  <a:pt x="196" y="212"/>
                </a:cubicBezTo>
                <a:cubicBezTo>
                  <a:pt x="211" y="182"/>
                  <a:pt x="181" y="60"/>
                  <a:pt x="151" y="30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1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411280" y="5661000"/>
            <a:ext cx="223200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CENTRE DE SOIN 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916360" y="3789360"/>
            <a:ext cx="647640" cy="431640"/>
          </a:xfrm>
          <a:custGeom>
            <a:avLst/>
            <a:gdLst/>
            <a:ahLst/>
            <a:rect l="l" t="t" r="r" b="b"/>
            <a:pathLst>
              <a:path w="582" h="603">
                <a:moveTo>
                  <a:pt x="522" y="75"/>
                </a:moveTo>
                <a:cubicBezTo>
                  <a:pt x="462" y="0"/>
                  <a:pt x="136" y="0"/>
                  <a:pt x="68" y="75"/>
                </a:cubicBezTo>
                <a:cubicBezTo>
                  <a:pt x="0" y="150"/>
                  <a:pt x="53" y="453"/>
                  <a:pt x="113" y="528"/>
                </a:cubicBezTo>
                <a:cubicBezTo>
                  <a:pt x="173" y="603"/>
                  <a:pt x="363" y="603"/>
                  <a:pt x="431" y="528"/>
                </a:cubicBezTo>
                <a:cubicBezTo>
                  <a:pt x="499" y="453"/>
                  <a:pt x="582" y="150"/>
                  <a:pt x="522" y="75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2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411280" y="5661000"/>
            <a:ext cx="165600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USINE 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979640" y="3357720"/>
            <a:ext cx="647640" cy="431640"/>
          </a:xfrm>
          <a:custGeom>
            <a:avLst/>
            <a:gdLst/>
            <a:ahLst/>
            <a:rect l="l" t="t" r="r" b="b"/>
            <a:pathLst>
              <a:path w="711" h="394">
                <a:moveTo>
                  <a:pt x="620" y="83"/>
                </a:moveTo>
                <a:cubicBezTo>
                  <a:pt x="544" y="30"/>
                  <a:pt x="258" y="0"/>
                  <a:pt x="167" y="38"/>
                </a:cubicBezTo>
                <a:cubicBezTo>
                  <a:pt x="76" y="76"/>
                  <a:pt x="0" y="257"/>
                  <a:pt x="76" y="310"/>
                </a:cubicBezTo>
                <a:cubicBezTo>
                  <a:pt x="152" y="363"/>
                  <a:pt x="529" y="394"/>
                  <a:pt x="620" y="356"/>
                </a:cubicBezTo>
                <a:cubicBezTo>
                  <a:pt x="711" y="318"/>
                  <a:pt x="696" y="136"/>
                  <a:pt x="620" y="83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5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411280" y="5661000"/>
            <a:ext cx="201636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MOSQUEE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771640" y="3141720"/>
            <a:ext cx="287640" cy="287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7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411280" y="5661000"/>
            <a:ext cx="302436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SALLE DE SPORT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987640" y="3068640"/>
            <a:ext cx="647640" cy="43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20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411280" y="5661000"/>
            <a:ext cx="302436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POLYCLINIQUE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403280" y="1989000"/>
            <a:ext cx="936720" cy="648000"/>
          </a:xfrm>
          <a:custGeom>
            <a:avLst/>
            <a:gdLst/>
            <a:ahLst/>
            <a:rect l="l" t="t" r="r" b="b"/>
            <a:pathLst>
              <a:path w="793" h="528">
                <a:moveTo>
                  <a:pt x="491" y="0"/>
                </a:moveTo>
                <a:cubicBezTo>
                  <a:pt x="378" y="0"/>
                  <a:pt x="0" y="378"/>
                  <a:pt x="38" y="453"/>
                </a:cubicBezTo>
                <a:cubicBezTo>
                  <a:pt x="76" y="528"/>
                  <a:pt x="643" y="528"/>
                  <a:pt x="718" y="453"/>
                </a:cubicBezTo>
                <a:cubicBezTo>
                  <a:pt x="793" y="378"/>
                  <a:pt x="604" y="0"/>
                  <a:pt x="491" y="0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95280" y="3357720"/>
            <a:ext cx="216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3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258920" y="3429000"/>
            <a:ext cx="2808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CENTRE COMMERCIAL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77080" y="342900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4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08000" y="573408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9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32" name=""/>
          <p:cNvSpPr/>
          <p:nvPr/>
        </p:nvSpPr>
        <p:spPr>
          <a:xfrm>
            <a:off x="2050920" y="4525920"/>
            <a:ext cx="4103640" cy="2332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59280" y="907920"/>
            <a:ext cx="4032360" cy="2448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71640" y="5805360"/>
            <a:ext cx="100800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HOTEL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7812000" y="3429000"/>
            <a:ext cx="720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POSTE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124000" y="4581360"/>
            <a:ext cx="3960720" cy="21607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203640" y="6165720"/>
            <a:ext cx="792000" cy="382680"/>
          </a:xfrm>
          <a:custGeom>
            <a:avLst/>
            <a:gdLst/>
            <a:ahLst/>
            <a:rect l="l" t="t" r="r" b="b"/>
            <a:pathLst>
              <a:path w="763" h="513">
                <a:moveTo>
                  <a:pt x="612" y="60"/>
                </a:moveTo>
                <a:cubicBezTo>
                  <a:pt x="506" y="45"/>
                  <a:pt x="204" y="0"/>
                  <a:pt x="113" y="60"/>
                </a:cubicBezTo>
                <a:cubicBezTo>
                  <a:pt x="22" y="120"/>
                  <a:pt x="0" y="355"/>
                  <a:pt x="68" y="423"/>
                </a:cubicBezTo>
                <a:cubicBezTo>
                  <a:pt x="136" y="491"/>
                  <a:pt x="408" y="513"/>
                  <a:pt x="521" y="468"/>
                </a:cubicBezTo>
                <a:cubicBezTo>
                  <a:pt x="634" y="423"/>
                  <a:pt x="733" y="219"/>
                  <a:pt x="748" y="151"/>
                </a:cubicBezTo>
                <a:cubicBezTo>
                  <a:pt x="763" y="83"/>
                  <a:pt x="718" y="75"/>
                  <a:pt x="612" y="60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932360" y="981000"/>
            <a:ext cx="3859200" cy="2303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50920" y="907920"/>
            <a:ext cx="4032000" cy="2448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67640" y="1700280"/>
            <a:ext cx="289080" cy="217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3887640" cy="23036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268360" y="2637000"/>
            <a:ext cx="1079640" cy="453960"/>
          </a:xfrm>
          <a:custGeom>
            <a:avLst/>
            <a:gdLst/>
            <a:ahLst/>
            <a:rect l="l" t="t" r="r" b="b"/>
            <a:pathLst>
              <a:path w="1414" h="876">
                <a:moveTo>
                  <a:pt x="1233" y="143"/>
                </a:moveTo>
                <a:cubicBezTo>
                  <a:pt x="1089" y="30"/>
                  <a:pt x="552" y="0"/>
                  <a:pt x="371" y="98"/>
                </a:cubicBezTo>
                <a:cubicBezTo>
                  <a:pt x="190" y="196"/>
                  <a:pt x="0" y="620"/>
                  <a:pt x="144" y="733"/>
                </a:cubicBezTo>
                <a:cubicBezTo>
                  <a:pt x="288" y="846"/>
                  <a:pt x="1052" y="876"/>
                  <a:pt x="1233" y="778"/>
                </a:cubicBezTo>
                <a:cubicBezTo>
                  <a:pt x="1414" y="680"/>
                  <a:pt x="1377" y="256"/>
                  <a:pt x="1233" y="143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59640" y="638172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84360" y="3716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es équipements proposés par le P.O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8603600">
            <a:off x="5760360" y="3681720"/>
            <a:ext cx="1081080" cy="432000"/>
          </a:xfrm>
          <a:custGeom>
            <a:avLst/>
            <a:gdLst>
              <a:gd name="textAreaLeft" fmla="*/ 189000 w 1081080"/>
              <a:gd name="textAreaRight" fmla="*/ 783720 w 1081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164360" y="3573360"/>
            <a:ext cx="503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3420800">
            <a:off x="1402920" y="3715920"/>
            <a:ext cx="1009800" cy="574560"/>
          </a:xfrm>
          <a:custGeom>
            <a:avLst/>
            <a:gdLst>
              <a:gd name="textAreaLeft" fmla="*/ 176760 w 1009800"/>
              <a:gd name="textAreaRight" fmla="*/ 732240 w 100980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3500280"/>
            <a:ext cx="502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8360" y="5950080"/>
            <a:ext cx="503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5400000">
            <a:off x="3816360" y="4184640"/>
            <a:ext cx="432000" cy="216000"/>
          </a:xfrm>
          <a:custGeom>
            <a:avLst/>
            <a:gdLst>
              <a:gd name="textAreaLeft" fmla="*/ 0 w 432000"/>
              <a:gd name="textAreaRight" fmla="*/ 432360 w 432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88000" y="457200"/>
            <a:ext cx="38988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32000" cy="3513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rot="957600">
            <a:off x="763560" y="1359000"/>
            <a:ext cx="1144440" cy="1493640"/>
          </a:xfrm>
          <a:custGeom>
            <a:avLst/>
            <a:gdLst/>
            <a:ahLst/>
            <a:rect l="l" t="t" r="r" b="b"/>
            <a:pathLst>
              <a:path w="764" h="907">
                <a:moveTo>
                  <a:pt x="673" y="113"/>
                </a:moveTo>
                <a:cubicBezTo>
                  <a:pt x="582" y="0"/>
                  <a:pt x="166" y="0"/>
                  <a:pt x="83" y="113"/>
                </a:cubicBezTo>
                <a:cubicBezTo>
                  <a:pt x="0" y="226"/>
                  <a:pt x="83" y="681"/>
                  <a:pt x="174" y="794"/>
                </a:cubicBezTo>
                <a:cubicBezTo>
                  <a:pt x="265" y="907"/>
                  <a:pt x="544" y="907"/>
                  <a:pt x="627" y="794"/>
                </a:cubicBezTo>
                <a:cubicBezTo>
                  <a:pt x="710" y="681"/>
                  <a:pt x="764" y="226"/>
                  <a:pt x="673" y="113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050920" y="5734080"/>
            <a:ext cx="6050160" cy="2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CENTRE DE FORMATION PROFESSIONNELLE 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5734080"/>
            <a:ext cx="1006560" cy="21600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5445000"/>
            <a:ext cx="57636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946200">
            <a:off x="1761840" y="1455480"/>
            <a:ext cx="714240" cy="1160280"/>
          </a:xfrm>
          <a:custGeom>
            <a:avLst/>
            <a:gdLst/>
            <a:ahLst/>
            <a:rect l="l" t="t" r="r" b="b"/>
            <a:pathLst>
              <a:path w="801" h="861">
                <a:moveTo>
                  <a:pt x="733" y="204"/>
                </a:moveTo>
                <a:cubicBezTo>
                  <a:pt x="665" y="83"/>
                  <a:pt x="196" y="0"/>
                  <a:pt x="98" y="68"/>
                </a:cubicBezTo>
                <a:cubicBezTo>
                  <a:pt x="0" y="136"/>
                  <a:pt x="76" y="491"/>
                  <a:pt x="144" y="612"/>
                </a:cubicBezTo>
                <a:cubicBezTo>
                  <a:pt x="212" y="733"/>
                  <a:pt x="409" y="861"/>
                  <a:pt x="507" y="793"/>
                </a:cubicBezTo>
                <a:cubicBezTo>
                  <a:pt x="605" y="725"/>
                  <a:pt x="801" y="325"/>
                  <a:pt x="733" y="204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411280" y="5661000"/>
            <a:ext cx="302436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ECOLE PRIMAIRE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411280" y="5734080"/>
            <a:ext cx="1224000" cy="1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CEM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2637000"/>
            <a:ext cx="1584000" cy="1056960"/>
          </a:xfrm>
          <a:custGeom>
            <a:avLst/>
            <a:gdLst/>
            <a:ahLst/>
            <a:rect l="l" t="t" r="r" b="b"/>
            <a:pathLst>
              <a:path w="1526" h="1074">
                <a:moveTo>
                  <a:pt x="1337" y="235"/>
                </a:moveTo>
                <a:cubicBezTo>
                  <a:pt x="1148" y="129"/>
                  <a:pt x="408" y="0"/>
                  <a:pt x="204" y="53"/>
                </a:cubicBezTo>
                <a:cubicBezTo>
                  <a:pt x="0" y="106"/>
                  <a:pt x="30" y="386"/>
                  <a:pt x="113" y="552"/>
                </a:cubicBezTo>
                <a:cubicBezTo>
                  <a:pt x="196" y="718"/>
                  <a:pt x="498" y="1028"/>
                  <a:pt x="702" y="1051"/>
                </a:cubicBezTo>
                <a:cubicBezTo>
                  <a:pt x="906" y="1074"/>
                  <a:pt x="1231" y="825"/>
                  <a:pt x="1337" y="689"/>
                </a:cubicBezTo>
                <a:cubicBezTo>
                  <a:pt x="1443" y="553"/>
                  <a:pt x="1526" y="341"/>
                  <a:pt x="1337" y="235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411280" y="5661000"/>
            <a:ext cx="331308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ECOLE PRIMAIRE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 rot="1141200">
            <a:off x="3090960" y="3052800"/>
            <a:ext cx="645840" cy="790560"/>
          </a:xfrm>
          <a:custGeom>
            <a:avLst/>
            <a:gdLst/>
            <a:ahLst/>
            <a:rect l="l" t="t" r="r" b="b"/>
            <a:pathLst>
              <a:path w="1640" h="756">
                <a:moveTo>
                  <a:pt x="250" y="408"/>
                </a:moveTo>
                <a:cubicBezTo>
                  <a:pt x="8" y="506"/>
                  <a:pt x="31" y="537"/>
                  <a:pt x="23" y="590"/>
                </a:cubicBezTo>
                <a:cubicBezTo>
                  <a:pt x="15" y="643"/>
                  <a:pt x="0" y="756"/>
                  <a:pt x="204" y="726"/>
                </a:cubicBezTo>
                <a:cubicBezTo>
                  <a:pt x="408" y="696"/>
                  <a:pt x="1036" y="529"/>
                  <a:pt x="1248" y="408"/>
                </a:cubicBezTo>
                <a:cubicBezTo>
                  <a:pt x="1460" y="287"/>
                  <a:pt x="1640" y="0"/>
                  <a:pt x="1474" y="0"/>
                </a:cubicBezTo>
                <a:cubicBezTo>
                  <a:pt x="1308" y="0"/>
                  <a:pt x="492" y="310"/>
                  <a:pt x="250" y="408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411280" y="5661000"/>
            <a:ext cx="273708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TECHNICUM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0920" y="4005360"/>
            <a:ext cx="1368720" cy="718920"/>
          </a:xfrm>
          <a:custGeom>
            <a:avLst/>
            <a:gdLst/>
            <a:ahLst/>
            <a:rect l="l" t="t" r="r" b="b"/>
            <a:pathLst>
              <a:path w="1890" h="1058">
                <a:moveTo>
                  <a:pt x="1603" y="30"/>
                </a:moveTo>
                <a:cubicBezTo>
                  <a:pt x="1354" y="60"/>
                  <a:pt x="394" y="318"/>
                  <a:pt x="197" y="484"/>
                </a:cubicBezTo>
                <a:cubicBezTo>
                  <a:pt x="0" y="650"/>
                  <a:pt x="174" y="1058"/>
                  <a:pt x="423" y="1028"/>
                </a:cubicBezTo>
                <a:cubicBezTo>
                  <a:pt x="672" y="998"/>
                  <a:pt x="1496" y="469"/>
                  <a:pt x="1693" y="303"/>
                </a:cubicBezTo>
                <a:cubicBezTo>
                  <a:pt x="1890" y="137"/>
                  <a:pt x="1852" y="0"/>
                  <a:pt x="1603" y="30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411280" y="5661000"/>
            <a:ext cx="252108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MOSQUEE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332000" y="2997360"/>
            <a:ext cx="503280" cy="502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4006800" cy="3527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411280" y="5661000"/>
            <a:ext cx="223200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SONELGAZ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042920" y="3068640"/>
            <a:ext cx="433440" cy="431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411280" y="5661000"/>
            <a:ext cx="244800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ECOLE PRIMAIRE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06800" cy="3527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87520" y="2241720"/>
            <a:ext cx="444600" cy="706320"/>
          </a:xfrm>
          <a:custGeom>
            <a:avLst/>
            <a:gdLst/>
            <a:ahLst/>
            <a:rect l="l" t="t" r="r" b="b"/>
            <a:pathLst>
              <a:path w="280" h="445">
                <a:moveTo>
                  <a:pt x="129" y="22"/>
                </a:moveTo>
                <a:cubicBezTo>
                  <a:pt x="167" y="37"/>
                  <a:pt x="280" y="90"/>
                  <a:pt x="265" y="158"/>
                </a:cubicBezTo>
                <a:cubicBezTo>
                  <a:pt x="250" y="226"/>
                  <a:pt x="76" y="445"/>
                  <a:pt x="38" y="430"/>
                </a:cubicBezTo>
                <a:cubicBezTo>
                  <a:pt x="0" y="415"/>
                  <a:pt x="23" y="136"/>
                  <a:pt x="38" y="68"/>
                </a:cubicBezTo>
                <a:cubicBezTo>
                  <a:pt x="53" y="0"/>
                  <a:pt x="91" y="7"/>
                  <a:pt x="129" y="22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8:10:00Z</dcterms:created>
  <dc:creator>AZDINE</dc:creator>
  <dc:description/>
  <dc:language>en-US</dc:language>
  <cp:lastModifiedBy>AZDINE</cp:lastModifiedBy>
  <dcterms:modified xsi:type="dcterms:W3CDTF">2011-02-15T23:17:57Z</dcterms:modified>
  <cp:revision>57</cp:revision>
  <dc:subject/>
  <dc:title>Diapositive 1</dc:title>
</cp:coreProperties>
</file>