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068-D37C-4208-B0F2-A2518CCD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B65-81EF-4583-B2B4-CCBE71C5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CCA-87CA-4D14-B467-675966A9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FEF-9F15-42B2-8F54-4A5EC6A8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08E-678A-4623-B5EA-99DEA3F6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1F54-975B-413B-B822-33995695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237-0BC7-418B-AA54-7201E991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7DB-04A8-4418-99C8-1BA4F5FF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07F-6752-4922-9601-D42E858B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CE0B-71EB-4D44-A16E-EA78B3F6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C783-BD1C-450B-B9D0-E5820BC6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1B7-9D03-4EBA-B5B1-476CB6D7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1f7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6E98-E29B-4105-A0B8-9552C357A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1f7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2940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nl-BE" sz="9600" spc="-1" strike="noStrike">
              <a:solidFill>
                <a:srgbClr val="800080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nimal%20dream1" descr=""/>
          <p:cNvPicPr/>
          <p:nvPr/>
        </p:nvPicPr>
        <p:blipFill>
          <a:blip r:embed="rId1"/>
          <a:stretch/>
        </p:blipFill>
        <p:spPr>
          <a:xfrm>
            <a:off x="1447920" y="0"/>
            <a:ext cx="63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1f7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2940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nl-BE" sz="9600" spc="-1" strike="noStrike">
              <a:solidFill>
                <a:srgbClr val="800080"/>
              </a:solidFill>
              <a:latin typeface="Monotype Corsiv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Animal%20dream2" descr=""/>
          <p:cNvPicPr/>
          <p:nvPr/>
        </p:nvPicPr>
        <p:blipFill>
          <a:blip r:embed="rId1"/>
          <a:stretch/>
        </p:blipFill>
        <p:spPr>
          <a:xfrm>
            <a:off x="2362320" y="0"/>
            <a:ext cx="452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1f7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2940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nl-BE" sz="9600" spc="-1" strike="noStrike">
              <a:solidFill>
                <a:srgbClr val="800080"/>
              </a:solidFill>
              <a:latin typeface="Monotype Corsi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nimal%20dream3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1f7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2940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nl-BE" sz="9600" spc="-1" strike="noStrike">
              <a:solidFill>
                <a:srgbClr val="800080"/>
              </a:solidFill>
              <a:latin typeface="Monotype Corsi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nimal%20dream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1f7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2940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nl-BE" sz="9600" spc="-1" strike="noStrike">
              <a:solidFill>
                <a:srgbClr val="800080"/>
              </a:solidFill>
              <a:latin typeface="Monotype Corsi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nimal%20dream5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1f7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2940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nl-BE" sz="9600" spc="-1" strike="noStrike">
              <a:solidFill>
                <a:srgbClr val="800080"/>
              </a:solidFill>
              <a:latin typeface="Monotype Corsi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nimal%20dream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1f7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2940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nl-BE" sz="9600" spc="-1" strike="noStrike">
              <a:solidFill>
                <a:srgbClr val="800080"/>
              </a:solidFill>
              <a:latin typeface="Monotype Corsiv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nimal%20dream7" descr=""/>
          <p:cNvPicPr/>
          <p:nvPr/>
        </p:nvPicPr>
        <p:blipFill>
          <a:blip r:embed="rId1"/>
          <a:stretch/>
        </p:blipFill>
        <p:spPr>
          <a:xfrm>
            <a:off x="2362320" y="0"/>
            <a:ext cx="446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1f7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2940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nl-BE" sz="9600" spc="-1" strike="noStrike">
              <a:solidFill>
                <a:srgbClr val="800080"/>
              </a:solidFill>
              <a:latin typeface="Monotype Corsiv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nimal%20dream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1f7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2940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nl-BE" sz="9600" spc="-1" strike="noStrike">
              <a:solidFill>
                <a:srgbClr val="800080"/>
              </a:solidFill>
              <a:latin typeface="Monotype Corsi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2:14:06Z</dcterms:created>
  <dc:creator>SinfoPragma</dc:creator>
  <dc:description/>
  <dc:language>en-US</dc:language>
  <cp:lastModifiedBy>Smets</cp:lastModifiedBy>
  <dcterms:modified xsi:type="dcterms:W3CDTF">2009-04-16T19:40:08Z</dcterms:modified>
  <cp:revision>3</cp:revision>
  <dc:subject/>
  <dc:title>Gli animali e i loro sogni…</dc:title>
</cp:coreProperties>
</file>