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FF33-A4B4-4007-992C-8BE163E86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4853-C48C-4783-AB77-80A658372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2AE0-3D0D-445D-997F-4E1F0ED6B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9B51-C51B-42AC-A2A2-ED6071415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B961-700C-431B-9CD8-1FBF2B452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83A3-7753-4FB4-9A00-24998AB9F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D4D3-2B86-45D8-B898-BD32F6B62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08B8-3055-493B-8E5C-1CA3C88EE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3D45-3DE4-43F7-8D57-F47302B58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32F4-2BB5-4B99-8C34-9E690CD34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24E3-0020-4030-AE83-1F35F175C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B106-F4C5-4557-8218-098582A09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95E34-E0F7-4374-AD45-FDF05339A8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42600" y="523800"/>
            <a:ext cx="59598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ied – wir gehen in den Zoo (1.1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 I O wir gehen in den Zo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a gibt es viel zu schau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ei Tigern und bei Pfau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 I O Wir gehen in den Zoo (x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 I AU der Elefant ist gr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ie Viper, die verschwindet schn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er Eisbar hat ein we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ßes F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E I AU der Elefant ist gr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757160" y="476280"/>
            <a:ext cx="55054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 I EU Kamele fressen He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er Delphin liebt die Fischer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d 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üsse mag der Papag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 I EU Kamele fressen He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 I AI sehr hungrig ist der H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achelig ist das Stachelschw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as Krokodil schaut 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öse dr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E I AI sehr hungrig ist der H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792440" y="476280"/>
            <a:ext cx="62035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 I OCH  Giraffen sind ganz ho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er Panda bleibt in seinem Ha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er Peligak fliegt hoch hina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 I OCH  Giraffen sind ganz ho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 I Q Weit springt das 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änguru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er Affe nach Bananen grei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as Zebra ist schwarz-we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ß gestrei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 I Q Weit springt das 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änguru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71480" y="476280"/>
            <a:ext cx="51566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IZ der Seehund ist koke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er 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öwe kommt aus Afr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r Tukan aus Amer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er Peligak fliegt hoch hina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IZ der Seehund ist koket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 I O Wir waren heut’ im Zo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a gab es viel zu schau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ei Tigern und bei Pfau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 I O Wir waren heut’ im Zo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1T15:57:13Z</dcterms:created>
  <dc:creator>smarsh</dc:creator>
  <dc:description/>
  <dc:language>en-US</dc:language>
  <cp:lastModifiedBy>smarsh</cp:lastModifiedBy>
  <dcterms:modified xsi:type="dcterms:W3CDTF">2009-02-01T16:06:56Z</dcterms:modified>
  <cp:revision>2</cp:revision>
  <dc:subject/>
  <dc:title>Slide 1</dc:title>
</cp:coreProperties>
</file>