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BF8A-5FBE-4154-8255-346767FB5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9569-869A-4926-90BB-0CC97412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ECA6-4539-453E-80E5-552EA4875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1AC9-DA70-4BDB-9666-215212DC7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8974-984D-478F-A4F8-01B7BB787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AC45-95EB-44F2-85DB-B0BDC994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4358-F653-490A-B2A8-4841512B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7D80-5A35-496C-A50C-AF2C350C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004A-C80A-4D57-8321-1456DEE8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47E9-CD39-4202-B6B5-A728385A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358C-6459-46E8-935A-95BAC026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CA5B-12C7-4EF3-BFAC-E125AEDD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3796-3B59-470B-A414-4BD00B8C1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2600" y="523800"/>
            <a:ext cx="5959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ed – wir gehen in den Zoo (1.1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I O wir gehen in den Z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a gibt es viel zu schau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ei Tigern und bei Pfau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I O Wir gehen in den Zoo (x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I AU der Elefant ist gr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e Viper, die verschwindet schn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r Eisbar hat ein we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ßes F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E I AU der Elefant ist gr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57160" y="476280"/>
            <a:ext cx="5505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I EU Kamele fressen H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r Delphin liebt die Fischer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d 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üsse mag der Papag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I EU Kamele fressen H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I AI sehr hungrig ist der H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tachelig ist das Stachelschw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as Krokodil schaut b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öse dr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E I AI sehr hungrig ist der H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440" y="476280"/>
            <a:ext cx="62035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I OCH  Giraffen sind ganz ho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r Panda bleibt in seinem Ha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r Peligak fliegt hoch hina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I OCH  Giraffen sind ganz ho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I Q Weit springt das 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änguru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r Affe nach Bananen grei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as Zebra ist schwarz-we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ß gestrei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I Q Weit springt das 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änguru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71480" y="476280"/>
            <a:ext cx="5156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IZ der Seehund ist koket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r 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öwe kommt aus Afr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r Tukan aus Amer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er Peligak fliegt hoch hina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IZ der Seehund ist koket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I O Wir waren heut’ im Z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a gab es viel zu schau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ei Tigern und bei Pfau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I O Wir waren heut’ im Z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15:57:13Z</dcterms:created>
  <dc:creator>smarsh</dc:creator>
  <dc:description/>
  <dc:language>en-US</dc:language>
  <cp:lastModifiedBy>smarsh</cp:lastModifiedBy>
  <dcterms:modified xsi:type="dcterms:W3CDTF">2009-02-01T16:06:56Z</dcterms:modified>
  <cp:revision>2</cp:revision>
  <dc:subject/>
  <dc:title>Slide 1</dc:title>
</cp:coreProperties>
</file>