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93.jpeg" ContentType="image/jpeg"/>
  <Override PartName="/ppt/media/image66.jpeg" ContentType="image/jpeg"/>
  <Override PartName="/ppt/media/image94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67.jpeg" ContentType="image/jpeg"/>
  <Override PartName="/ppt/media/image115.png" ContentType="image/png"/>
  <Override PartName="/ppt/media/image95.jpeg" ContentType="image/jpeg"/>
  <Override PartName="/ppt/media/image122.jpeg" ContentType="image/jpeg"/>
  <Override PartName="/ppt/media/image121.jpeg" ContentType="image/jpeg"/>
  <Override PartName="/ppt/media/image76.jpeg" ContentType="image/jpeg"/>
  <Override PartName="/ppt/media/image69.jpeg" ContentType="image/jpeg"/>
  <Override PartName="/ppt/media/image114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0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57E-6872-4ADC-BE20-865FCC07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FD8-098A-418F-85CC-550719E8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8E4-BEA7-4D0B-8AF9-B4343534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380-8106-4E4B-A2B8-9FF46203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7BE-823C-4B37-9218-FD96F984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E4B-6478-4A60-A178-03BA8CCE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B08-B98C-4ACC-955D-06A1D3DB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B72-F780-4D31-ACEE-D190C96D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A34-9301-4B6A-84E4-0D19F99B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375-0CB0-49E4-BEE0-7AFFC29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BC2-DBC9-4315-891B-4E3C54F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B23-D165-4538-A8C1-962BF04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5E4-34B4-4AB9-A322-EF706F00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image" Target="../media/image1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png"/><Relationship Id="rId5" Type="http://schemas.openxmlformats.org/officeDocument/2006/relationships/image" Target="../media/image116.jpeg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image" Target="../media/image12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einture sur Cor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832720" cy="454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58080" y="692280"/>
            <a:ext cx="3085920" cy="460836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772080" cy="564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409920" cy="521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867040" cy="36482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3810240" cy="523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4120" y="765000"/>
            <a:ext cx="3809880" cy="49532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51440" cy="544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4203720" cy="56163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257640" cy="4791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68840" y="0"/>
            <a:ext cx="3575160" cy="496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419640" y="3762360"/>
            <a:ext cx="33112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600880" y="1197000"/>
            <a:ext cx="3219120" cy="442908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48080" cy="6934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788000" cy="604836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324240" cy="4429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24240" cy="44290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914640" cy="6191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84440" cy="61930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4120" y="177156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2200" cy="666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164280"/>
            <a:ext cx="1584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620640"/>
            <a:ext cx="3162240" cy="56484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809880" cy="4819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276720" cy="4429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90800" cy="514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4859280" cy="4457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78200" cy="611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4271760" cy="597708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048120" cy="4648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2695680" cy="38577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617640" cy="554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23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171880" cy="364788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772080" cy="56484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628720" cy="3933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09880" cy="443880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0240" cy="5181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305160" cy="4857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038760" cy="428652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809880" cy="553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219560" cy="63356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40360" y="476280"/>
            <a:ext cx="4173480" cy="604836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171600" cy="4762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810240" cy="584820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809880" cy="2200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810240" cy="2219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3809880" cy="2295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788000" y="3213000"/>
            <a:ext cx="3809880" cy="261936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71560" cy="4762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809880" cy="29530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133360" cy="2867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5689440" cy="4494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619280" y="3716280"/>
            <a:ext cx="1427040" cy="2924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1562040" cy="237168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895480" cy="4781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427640" y="836640"/>
            <a:ext cx="3809880" cy="479088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371760" cy="5172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154480" y="765000"/>
            <a:ext cx="3810240" cy="5610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780000" y="1628640"/>
            <a:ext cx="1109520" cy="165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140360" y="4149720"/>
            <a:ext cx="64764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09880" cy="5209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810240" cy="5943600"/>
          </a:xfrm>
          <a:prstGeom prst="rect">
            <a:avLst/>
          </a:prstGeom>
          <a:ln w="0">
            <a:noFill/>
          </a:ln>
        </p:spPr>
      </p:pic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48640" y="3809880"/>
            <a:ext cx="2295360" cy="3048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851280" y="333360"/>
            <a:ext cx="3333600" cy="5048280"/>
          </a:xfrm>
          <a:prstGeom prst="rect">
            <a:avLst/>
          </a:prstGeom>
          <a:ln w="0">
            <a:noFill/>
          </a:ln>
        </p:spPr>
      </p:pic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76440" cy="6264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809880" cy="57340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828960" cy="520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406728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14800" cy="6264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264120" cy="604836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809880" cy="4953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3543120" cy="571500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09880" cy="5753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2160720" cy="3240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1904760" cy="2847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4140360" y="3284640"/>
            <a:ext cx="2562120" cy="33685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3809880" cy="5734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809880" cy="58485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267000" cy="4905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95640" y="1052640"/>
            <a:ext cx="2714760" cy="4762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6804000" y="549360"/>
            <a:ext cx="2009880" cy="4762440"/>
          </a:xfrm>
          <a:prstGeom prst="rect">
            <a:avLst/>
          </a:prstGeom>
          <a:ln w="0">
            <a:noFill/>
          </a:ln>
        </p:spPr>
      </p:pic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09880" cy="6153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003640" y="352440"/>
            <a:ext cx="3714840" cy="650556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809880" cy="57340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334120" y="-27000"/>
            <a:ext cx="3809880" cy="49528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3810240" cy="573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2273400" cy="29239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371760" cy="4829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5819760" y="0"/>
            <a:ext cx="3324240" cy="476244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09880" cy="5210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140360" y="4653000"/>
            <a:ext cx="1152360" cy="143820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810240" cy="547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3809880" cy="282924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562040" cy="23428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1381320" cy="2019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003640" y="765000"/>
            <a:ext cx="1724040" cy="2286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11280" y="3645000"/>
            <a:ext cx="1457280" cy="2266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276720" y="3068640"/>
            <a:ext cx="2786040" cy="378936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39640" y="190440"/>
            <a:ext cx="3810240" cy="66675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810240" cy="604872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809880" cy="52005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324240" cy="5238720"/>
          </a:xfrm>
          <a:prstGeom prst="rect">
            <a:avLst/>
          </a:prstGeom>
          <a:ln w="0">
            <a:noFill/>
          </a:ln>
        </p:spPr>
      </p:pic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1295280" cy="1800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1022400" cy="1511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1081080" cy="14414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059280" y="620640"/>
            <a:ext cx="1261800" cy="1728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5334120" y="549360"/>
            <a:ext cx="3809880" cy="5800680"/>
          </a:xfrm>
          <a:prstGeom prst="rect">
            <a:avLst/>
          </a:prstGeom>
          <a:ln w="0">
            <a:noFill/>
          </a:ln>
        </p:spPr>
      </p:pic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Renvoie ce mail au moins à une personne de ton entourage.........</a:t>
            </a: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t tu n’auras pas plus de chance que si tu ne le fais pas....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mais c’est sympa..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 rot="10800000">
            <a:off x="4571640" y="638172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firstslide"/>
          </p:cNvPr>
          <p:cNvSpPr/>
          <p:nvPr/>
        </p:nvSpPr>
        <p:spPr>
          <a:xfrm rot="10800000">
            <a:off x="4355640" y="638172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 rot="10800000">
            <a:off x="4140360" y="6381720"/>
            <a:ext cx="576000" cy="216000"/>
          </a:xfrm>
          <a:custGeom>
            <a:avLst/>
            <a:gdLst>
              <a:gd name="textAreaLeft" fmla="*/ 0 w 576000"/>
              <a:gd name="textAreaRight" fmla="*/ 576000 w 57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09880" cy="5819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3809880" cy="50864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354120" cy="496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809880" cy="39528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809880" cy="392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80988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3562560" cy="49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809880" cy="44006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956720" y="6453360"/>
            <a:ext cx="3585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20:20Z</dcterms:created>
  <dc:creator/>
  <dc:description/>
  <dc:language>en-US</dc:language>
  <cp:lastModifiedBy>YBDU6273</cp:lastModifiedBy>
  <dcterms:modified xsi:type="dcterms:W3CDTF">2008-12-15T18:53:05Z</dcterms:modified>
  <cp:revision>11</cp:revision>
  <dc:subject/>
  <dc:title>Peinture sur Corps</dc:title>
</cp:coreProperties>
</file>