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8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3425-291F-470E-87E3-C6E0AADB1852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076A-B509-4C0D-832C-DC575C4D9B43}" type="slidenum">
              <a:rPr b="0" lang="id-ID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8DA-DC7F-43C3-92B7-13DD6FC2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C04-4855-4663-AC8A-8A2BF25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F37-6245-4FD7-A9D1-97DD1B1F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8A1-5CFA-44B6-A281-A08919E7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6D2D-5360-47AA-A4E6-96671B7B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384F-1D4E-4DED-A7AA-FD6BBE61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7A7E-B4FC-4568-91B8-5285DA29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3CE8-D2E3-4B5E-9881-44B3491F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B4A7-A2FC-44E9-94E0-9034442C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AD21-9B50-4C62-8791-4BF6E1A6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D08A-3523-4721-84CB-9E3F35B1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73F-8EB2-4AB1-AD4F-117E6A4A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BA9D-C26B-4220-888C-444F975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2956-7FB9-4905-A64D-D7BC25A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213-E335-41CA-BF5B-04774A11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2342-B9A7-4028-A3E1-77D9785F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BBA0-9E68-44FD-8AA4-FA751795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4B49-18EC-4BC7-B209-7305B7B0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6141-D1D2-4162-B563-21EAC047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6E83-AA1A-4C46-877F-11B2CF4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BDB0-38EC-48E7-9D90-B1D4C1EF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E0DD-32A3-4CBB-9C3F-3380AE88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E10-E4BB-4FA9-8FA0-297D015A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60417-10FD-4039-8F74-6D1751E9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3926-4AB2-4DCF-97B6-C2A30BD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F28C-584E-49C4-BA2B-2B4C6278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0DEF7-E2FC-404A-B78A-908974EA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85CA-6413-43F0-BE4F-DCEC6B9A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5FD1-66D9-4A31-A4A9-5FB6C39C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62AAD-498D-41E9-8951-257DAA99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F87A-73A7-4421-9489-73D9739B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2A9A-6D95-4324-A161-F392CF42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6090E-ACA1-4389-A35D-13F8E7F0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D75-0DE8-44F7-AFE1-A336896F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4EF9-1415-4FDA-862F-7B4ECE81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8C9E5-1CFB-4734-B84F-9C128FE3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C340A-F2BC-40E7-8F24-653977FC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FA46C-1856-4F17-9D6B-217FFEA9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51EB-AEB9-4446-AB40-0C25376F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9897A-D597-490B-808C-7518B1F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BACB-9D0E-4D03-B1AB-3027C1C9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5831-40D0-4E76-860C-82BEF04D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A57D2-8FA2-4322-9B33-392E4CAC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5499-C156-46ED-983E-00B9270B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3E1-8BCA-4A70-AF05-DFD5B88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9F0BA-1A4F-464A-A9DF-06106F0B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A02D-7BB5-4907-87EC-1242E8C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A5E9A-2DFD-44C3-A04B-13D4C8B3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6C67-DA5F-4042-B01E-C8C7715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0FF6-2077-42F5-83F5-04147FAF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225E-5AC5-4BB8-899E-544C3B94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7F98-A36A-4422-9C08-BB0EF39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FBFC7-D8EA-4C12-8A86-BB89B75D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0897A-1A48-4D65-BBE7-5555D9EE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5D9BB-C168-4218-9CBF-E913070E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267-0952-4433-8DEE-0102CF5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4D4A2-B0ED-4EE4-98F4-480F3430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5B056-429A-413F-AF89-9F05263F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62162-F594-4824-8DFB-56C66ED0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466A5-D1AF-4F0E-A769-4C49B5E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1C1DB-2554-43F6-BC62-34555A7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4141-0731-4F67-A2DB-A84DDB49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AB34-ECFB-4BCA-8198-D3F91981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DDE3E-0D53-4567-A6E3-AE046924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BA3B4-5B0B-4BB5-AAE9-D73FFC1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6087F-E502-454C-BE60-6E8B9D1B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E91D-5F8E-492B-BECC-7B534E42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ADBC4-8FAF-4F49-B4E4-D55232F4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17AA-CD84-44BA-99A3-5B2F460E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09FE0-51B4-46A3-9563-FC7F5FF1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11A6F-17CC-4968-8797-4FBF9958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847E7-BC27-4D6D-8923-FC7CF040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52B66-E2B4-4BAD-BDD3-1C61C66F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376A-A667-46C9-B62F-81640DD0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BB577-0652-4DA5-BC74-0D843987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DF7B9-6B65-4A5C-9691-36963CCF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C2E1E-ED24-4126-A6FB-DC4539EA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C7E-4F07-4122-9E22-9882B684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FDBE5-9E07-4FDE-9C24-83D00F2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0658C-D7DD-4ED8-9CDC-2C4BCC0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0476-3299-421C-834D-61355124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456D4-2E62-4956-833B-BF025F69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DFAE7-9492-4191-B8AC-50915077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0A4DA-46FC-4C53-8202-DC4B22B5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C13DF-B4AC-43B2-8FC7-CEFEB7B8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EEEBF-692E-4F81-9C03-353E14AC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C9856-71BF-4704-8CDF-E063FC12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E7F0-E695-4EEE-A4C3-143C8B1E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061-597A-4081-A2FE-773C5F1B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40EBA-2994-49D0-AD00-38B6FC06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9206E-E7BF-4047-8B2B-BE33DAF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7F91E-C9CA-4D55-9E47-D3C78CE1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4A3EF-6C4D-4C97-A298-BCF3AD0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D3E5B-F064-4CC8-8600-2D36968A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2ADFB-4CBA-4CE2-81E1-E54B275A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698B7-A5F4-49FD-B6C9-386A6CB5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F68-4A88-4C4A-B9C0-37724795D435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B25C-EC84-40D5-A2A5-96816C4154C1}" type="slidenum">
              <a:rPr b="0" lang="id-ID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DBC6-4AF0-41FE-B930-17B5AE94B9B1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2973-6FCE-47AD-A4F6-2C8FA1E20583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6B7-9FA1-486B-8649-2AD0D80CCF04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479C-3418-421D-B353-C14D91247BAB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42D1-23BC-4CEA-A258-2DF95FC1E496}" type="slidenum">
              <a:rPr b="0" lang="id-ID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061D-1746-4C08-A9B8-8B9FA4D7CC34}" type="slidenum">
              <a:rPr b="0" lang="id-ID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5400" spc="-1" strike="noStrike">
                <a:solidFill>
                  <a:srgbClr val="000000"/>
                </a:solidFill>
                <a:latin typeface="Comic Sans MS"/>
              </a:rPr>
              <a:t>Olahraga dan Kesehatan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Created by 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is Priyanto, M.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2000160"/>
            <a:ext cx="8229600" cy="3286080"/>
          </a:xfrm>
          <a:prstGeom prst="rect">
            <a:avLst/>
          </a:prstGeom>
          <a:solidFill>
            <a:srgbClr val="a8bfd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Pada umumnya menggunakan teknik start berdiri, kecuali pada lari jarak 800 m, ada juga yang menggunakan start jongkok tetapi jarang menggunakan balok sta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642960" y="1857240"/>
            <a:ext cx="7858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c07b8a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Yang dilombakan di olimpiade adalah nomor        4 x 100 m, dan 4 x 400 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Operan tongkat ada 2 cara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     </a:t>
            </a: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1. Visual (melihat)→ 4x400 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     </a:t>
            </a: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2. Non visual (tidak melihat)→ 4x100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Pada estafet 4 x 100 m, pelari berlari 3 zona   pengoperan masing-masing berjarak 20 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c00000"/>
                </a:solidFill>
                <a:latin typeface="Lucida Sans Unicode"/>
              </a:rPr>
              <a:t>Pada estafet 4 x400 m, pelari berlari pada jalurnya hanya pada putaran pertama dan tikungan pada putaran kedu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ari gawang yang diperlombakan adalah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110 m → put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100 m → put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400 m → putra dan putr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279520" y="4383000"/>
            <a:ext cx="6602400" cy="1554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722160" y="785880"/>
            <a:ext cx="77724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785880" y="785880"/>
            <a:ext cx="7643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"/>
          <p:cNvSpPr/>
          <p:nvPr/>
        </p:nvSpPr>
        <p:spPr>
          <a:xfrm>
            <a:off x="1000080" y="1643040"/>
            <a:ext cx="6643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Atletik adalah salah satu cabang olahra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Nomor-nomor yang dilombakan dalam cabang olahraga atletik adalah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1. Nomor ja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2. Nomor 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3. Nomor lem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1faecd"/>
                </a:solidFill>
                <a:latin typeface="Arial"/>
              </a:rPr>
              <a:t>4. Nomor lom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Content Placeholder 2" descr=""/>
          <p:cNvPicPr/>
          <p:nvPr/>
        </p:nvPicPr>
        <p:blipFill>
          <a:blip r:embed="rId1"/>
          <a:stretch/>
        </p:blipFill>
        <p:spPr>
          <a:xfrm>
            <a:off x="450720" y="2109960"/>
            <a:ext cx="8382240" cy="3894120"/>
          </a:xfrm>
          <a:prstGeom prst="rect">
            <a:avLst/>
          </a:prstGeom>
          <a:ln w="0">
            <a:noFill/>
          </a:ln>
        </p:spPr>
      </p:pic>
      <p:pic>
        <p:nvPicPr>
          <p:cNvPr id="382" name="Title 1" descr=""/>
          <p:cNvPicPr/>
          <p:nvPr/>
        </p:nvPicPr>
        <p:blipFill>
          <a:blip r:embed="rId2"/>
          <a:stretch/>
        </p:blipFill>
        <p:spPr>
          <a:xfrm>
            <a:off x="195120" y="201600"/>
            <a:ext cx="84981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JARAK PENDEK (SPRINT) 100 M – 200 M- 4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JARAK MENENGAH ( MIDDLE DISTANCE ) 800 M – 15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JARAK JAUH ( LONG DISTANCE )3000 M – 5000 M – 10.000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MARATH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KHUSUS : LARI GAWANG 100 M – 110 M 4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Lucida Sans Unicode"/>
              </a:rPr>
              <a:t>LARI ESTAFET : 4 X 100 M dan 4 X 400 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LEMPAR LEMBING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LEMPAR CAKRAM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LONTAR MARTIL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 algn="ctr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Lucida Sans Unicode"/>
              </a:rPr>
              <a:t>TOLAK PELURU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JAU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TINGG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JANGK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LOMPAT GALA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Arial Black"/>
              </a:rPr>
              <a:t>LARI JARAK PENDEK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TEKNIK START UNTUK JARAK PENDEK ADALAH START JONGKOK, YANG TERBAGI DALAM TIGA MACAM 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START PENDEK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(BUNCH START 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START MENENGAH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( MEDIUM START 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START PANJA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id-ID" sz="2200" spc="-1" strike="noStrike">
                <a:solidFill>
                  <a:srgbClr val="000000"/>
                </a:solidFill>
                <a:latin typeface="Lucida Sans Unicode"/>
              </a:rPr>
              <a:t>( LONG START 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857240"/>
            <a:ext cx="8229600" cy="4429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ABA-ABA “ BERSEDIA “ ATLIT MENEMPATKAN DIRI PADA BALOK START DENGAN BERAT BADAN DIBAGI SEIMBANG PADA LUTUT BELAKANG DAN LENG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ABA-ABA “ SIAP “ ATLIT MELENGKUNGKAN TUBUHNYA, PINGGUL DIANGKAT KEATAS SAMPAI SEDIKIT LEBIH TINGGI DARI BAH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PADA ABA-ABA “YA “ ATAU BUNYI PISTOL, KAKIYANG BERADA DIDEPAN DILURUSKAN DENGAN KUAT DAN KAKI YANG DIBELAKANG DIGERAKKAN KE DEPA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2"/>
          <a:stretch/>
        </p:blipFill>
        <p:spPr>
          <a:xfrm>
            <a:off x="268200" y="281160"/>
            <a:ext cx="8467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DIBAGI MENJADI 3 CARA , YAITU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Dengan cara lari terus secepat-cepatnya melewati garis finish dengan tidak mengubah posisi lar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Saat akan menyentuh pita/melewati garis finish, dada dicondongkan kedep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Lucida Sans Unicode"/>
              </a:rPr>
              <a:t>Saat akan menyentuh pita, dada diputar sehingga salah satu bahu maju kedepan terlebih dahulu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2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04:20:11Z</dcterms:created>
  <dc:creator>Microsoft</dc:creator>
  <dc:description/>
  <dc:language>en-US</dc:language>
  <cp:lastModifiedBy>Pak Aris</cp:lastModifiedBy>
  <dcterms:modified xsi:type="dcterms:W3CDTF">2011-08-01T05:05:27Z</dcterms:modified>
  <cp:revision>37</cp:revision>
  <dc:subject/>
  <dc:title>ATLETIK</dc:title>
</cp:coreProperties>
</file>