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8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33CF-4595-47CC-AFE9-7C363038615D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E9A7-1BA0-49D7-8B09-0E4EE56AD09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82F-1DB3-4AE3-9354-43A51B3C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BCF-3DD0-4092-ABFE-38C7827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029-4377-41E8-8490-749A8B9C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8F5-3C1E-41DF-B567-F116A2A9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D08-3AE7-4895-9F41-EAABA72C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21E4-B1C0-4F6C-BE10-D4E5AF3E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E71-786D-4B45-A616-5BD20135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DED8-4463-46C7-82BA-3BA2EE7C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7060-492B-4A17-9A85-ADE31184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C608-337E-42D5-8816-FB2E827E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BA2-BEC7-4F00-A990-4D0FBD2E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69F-3B2B-4F1F-AE3F-C926C480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142-CD56-4098-B223-4854005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D358-BF0C-47D7-B0BB-8207ABB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5AFB-66DB-4049-9A08-621F4DA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6C21-773D-4B2B-BEFA-48C00ADF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69B-B32D-4743-8943-4CB8181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5C1C-56A0-4581-A916-89DDD758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890E-6D52-4974-9BD8-FBF42C48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D10A-4C60-49AD-AEFD-8D15773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DF0D-6D6B-4CA4-A95D-AD2ED77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726E-1F4B-4CD9-8020-7900CD8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1A1-BE26-44BE-AEAC-ACF2502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964B-AFAC-46E6-908C-43F1484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422C-EF65-434F-8EC3-6D51F51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B30D-602A-49CD-9447-889C4F3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3354-620C-404B-9E30-E3C844D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75EC-53C9-48BF-AE53-C912A6B7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F274-AF90-4E3E-8B96-91EDDEE8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1832-9192-42FF-B4D1-BF2D089B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0F86-C28C-47C0-BBF3-865893E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A20E-0CA6-4657-8D61-1358AF70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A707-AC9F-43A4-A445-280C281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EE3-9012-4C25-9A1A-7A408031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13E4-DCF2-4408-A8CF-31944BBD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BC67-2251-45F9-9C6E-AA3AA09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68BC-50DF-4452-9188-B572E38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D692-D6D6-48E8-97DB-5CF2D85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68BD-64FC-4E68-88E7-71EBF72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2ADF-B62F-4CDE-8860-77E8B5A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03E7-35BB-430B-87FF-88A1407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9C56-47D5-496D-9D25-EBB77DC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2CF3-DB74-4B6A-A8A9-7990C231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CAE3-6110-468B-AED5-2D2840B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760-4731-41B8-A125-32B2AC2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1C36-2207-44DE-A575-8D24B8A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FE62-83F0-4F7D-91E4-A98F06A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56A1-D298-4C15-96F9-9ECCAB5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5336-0E29-4E6F-A417-6C23062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C484-17E4-48B1-BF91-1FB7D823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230D-AF92-4867-A611-26499D5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18F0-2A65-4AAD-A964-9A8E1B8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C97A-D3B1-426C-99FF-2DEBBDE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E977-3BDB-488C-85A1-C6BCA1E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87B7-66F2-4C80-B2D8-DCEB9672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BB8-6C95-4904-8F98-2FED440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343BD-E6D6-429B-99F7-C89CAFFE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5144E-B180-4778-A758-C2B0E4A3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17A5-F4E8-4290-A5B5-33060E2A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F455-F6E6-44A8-8068-7FEED93A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D028-D3E9-402F-984E-C0DD281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6567-E97C-4985-87B4-0A93F352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DC35-329C-415F-BB14-6F039DF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CE5B-01AD-49FD-8CFB-1F77751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21F1-E9A5-4DAC-9C30-888F43C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B74B-B38B-4074-A662-F3818C3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39F-51FD-4CD6-A0B0-24105F0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128D-C61A-498D-97E3-A957D4F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5A33-CC90-485D-B43D-A41C2191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7142D-3F05-45CA-8EF0-273FFE5A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CE8D8-AD79-468E-AD57-2488F971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E6779-3AA5-4B82-BA1D-9A1B03D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9652-E82D-42C7-BA41-C412AC3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8A95-2645-4DBB-9DE6-C82C6FB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9D69-C57C-43C3-B983-F3627AB9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9184-5304-4D9D-B113-65ED798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C761-701C-44A1-973F-4C1DB672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4CC-8104-45C0-8BB8-9347D96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3699-A988-438A-95FA-5043009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4792-F673-460A-956C-453A277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26EF-8E7F-44CA-807A-4349B34D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F8AD-190C-4BD9-8939-20E8D560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073B-73EB-4F1C-B037-AB45CA11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981E-ED57-4615-A5D2-BFF76BE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46BC5-1AF6-43EC-9CED-6524737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89866-23E5-48FA-975D-ACAF703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A96B-513C-4499-9402-7755062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25C7-BC33-4E09-9BE6-CF958A1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D89-33B1-465A-970B-9000B27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2249-B8FE-44BA-9390-991727B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FFFA-8189-4520-9E21-0410FC0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7050-DEB9-472D-8EFF-DFABEBB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F7A3-DAA0-4D15-B824-40341E8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0561-B3BD-4153-91C0-5F72907C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EE382-99B3-429D-B3C1-EAF1F9CD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7030-BB1A-4439-ACC6-C7D70A5E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AE2-4F33-467A-B523-5809DF2389B9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0383-72A0-4073-9908-DE87F1375DBB}" type="slidenum">
              <a:rPr b="0" lang="id-ID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A17-BC91-4BCD-9493-5A47BF177D0D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974E-12B3-41EA-8292-452851D8225E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F0E2-490B-4586-87AD-888490EEA110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AC06-15DA-4781-84E2-96F17EB06331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9B07-26A6-4F76-AC49-B6FE75495C75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5612-7448-4A51-ABFF-86C472F53ADF}" type="slidenum">
              <a:rPr b="0" lang="id-ID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000000"/>
                </a:solidFill>
                <a:latin typeface="Comic Sans MS"/>
              </a:rPr>
              <a:t>Olahraga dan Kesehatan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Created by 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is Priyanto, M.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2000160"/>
            <a:ext cx="8229600" cy="3286080"/>
          </a:xfrm>
          <a:prstGeom prst="rect">
            <a:avLst/>
          </a:prstGeom>
          <a:solidFill>
            <a:srgbClr val="a8bfd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umumnya menggunakan teknik start berdiri, kecuali pada lari jarak 800 m, ada juga yang menggunakan start jongkok tetapi jarang menggunakan balok st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7858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c07b8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Yang dilombakan di olimpiade adalah nomor        4 x 100 m, dan 4 x 400 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Operan tongkat ada 2 cara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 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1. Visual (melihat)→ 4x400 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 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2. Non visual (tidak melihat)→ 4x100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estafet 4 x 100 m, pelari berlari 3 zona   pengoperan masing-masing berjarak 20 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estafet 4 x400 m, pelari berlari pada jalurnya hanya pada putaran pertama dan tikungan pada putaran kedu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ari gawang yang diperlombakan adalah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110 m → put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100 m → put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400 m → putra dan put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279520" y="4383000"/>
            <a:ext cx="6602400" cy="1554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722160" y="785880"/>
            <a:ext cx="77724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785880" y="785880"/>
            <a:ext cx="7643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1000080" y="1643040"/>
            <a:ext cx="66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Atletik adalah salah satu cabang olahr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Nomor-nomor yang dilombakan dalam cabang olahraga atletik adala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1. Nomor j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2. Nomor 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3. Nomor le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4. Nomor lom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2109960"/>
            <a:ext cx="8382240" cy="389412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195120" y="201600"/>
            <a:ext cx="84981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PENDEK (SPRINT) 100 M – 200 M-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MENENGAH ( MIDDLE DISTANCE ) 800 M – 15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JAUH ( LONG DISTANCE )3000 M – 5000 M – 10.000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MARATH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KHUSUS : LARI GAWANG 100 M – 110 M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ESTAFET : 4 X 100 M dan 4 X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EMPAR LEMB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EMPAR CAKRAM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ONTAR MARTIL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TOLAK PELUR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JAU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TINGG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JANGK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GALA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 Black"/>
              </a:rPr>
              <a:t>LARI JARAK PENDEK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TEKNIK START UNTUK JARAK PENDEK ADALAH START JONGKOK, YANG TERBAGI DALAM TIGA MACAM 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PENDE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BUNCH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MENENGAH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 MEDIUM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PANJA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 LONG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857240"/>
            <a:ext cx="8229600" cy="4429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ABA-ABA “ BERSEDIA “ ATLIT MENEMPATKAN DIRI PADA BALOK START DENGAN BERAT BADAN DIBAGI SEIMBANG PADA LUTUT BELAKANG DAN LENG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ABA-ABA “ SIAP “ ATLIT MELENGKUNGKAN TUBUHNYA, PINGGUL DIANGKAT KEATAS SAMPAI SEDIKIT LEBIH TINGGI DARI BAH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PADA ABA-ABA “YA “ ATAU BUNYI PISTOL, KAKIYANG BERADA DIDEPAN DILURUSKAN DENGAN KUAT DAN KAKI YANG DIBELAKANG DIGERAKKAN KE DEP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2"/>
          <a:stretch/>
        </p:blipFill>
        <p:spPr>
          <a:xfrm>
            <a:off x="268200" y="281160"/>
            <a:ext cx="8467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DIBAGI MENJADI 3 CARA , YAITU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Dengan cara lari terus secepat-cepatnya melewati garis finish dengan tidak mengubah posisi lar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Saat akan menyentuh pita/melewati garis finish, dada dicondongkan kedep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Saat akan menyentuh pita, dada diputar sehingga salah satu bahu maju kedepan terlebih dahul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4:20:11Z</dcterms:created>
  <dc:creator>Microsoft</dc:creator>
  <dc:description/>
  <dc:language>en-US</dc:language>
  <cp:lastModifiedBy>Pak Aris</cp:lastModifiedBy>
  <dcterms:modified xsi:type="dcterms:W3CDTF">2011-08-01T05:05:27Z</dcterms:modified>
  <cp:revision>37</cp:revision>
  <dc:subject/>
  <dc:title>ATLETIK</dc:title>
</cp:coreProperties>
</file>