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42E-B975-4F67-A252-14D700FE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510-D81B-4878-B689-82121735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B97-E28E-4C2D-BB75-5C7B2C17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226-B67A-4DD8-9373-4D710C33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DED-7F5B-4895-8F69-F26D5979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67E-6638-49FB-94ED-367C9DBE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606-5241-4226-93A7-31EDACA3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7F4-B7B8-43B7-8F4C-655EC65D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824-7BA9-47D8-98EA-2D9CACD3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3B6-7891-43C9-BDDE-2DCF35BD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698-ECE6-45DE-B028-5D29AED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3C9-EC85-4805-908C-A71BE46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1D75-D573-4504-A68C-399B6D12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fmoochikncheez"/>
              </a:rPr>
              <a:t>Prepar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fmoochikncheez"/>
              </a:rPr>
              <a:t>Muhd Fazli b. Dol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197000"/>
            <a:ext cx="81360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malite Rifle"/>
              </a:rPr>
              <a:t>6.13 A Caring Attitud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malite Rifle"/>
              <a:ea typeface="Armalite Rif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malite Rifle"/>
              </a:rPr>
              <a:t>Towards Plan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malite Rifle"/>
              <a:ea typeface="Armalite Rifle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24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Anderson Four Feather Fall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Book"/>
              </a:rPr>
              <a:t>To tell why we need to take good care of plant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Book"/>
              </a:rPr>
              <a:t>To identify cases of mishandling or destruction of pla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569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Old newspaper fo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Old newspaper font"/>
              </a:rPr>
              <a:t>Must be thankful to plants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&amp;</a:t>
            </a:r>
            <a:r>
              <a:rPr b="0" lang="en-US" sz="3200" spc="-1" strike="noStrike">
                <a:solidFill>
                  <a:srgbClr val="003399"/>
                </a:solidFill>
                <a:latin typeface="Old newspaper font"/>
              </a:rPr>
              <a:t> practise a caring attitude towards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Old newspaper fo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Old newspaper font"/>
              </a:rPr>
              <a:t>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80"/>
              </a:buClr>
              <a:buFont typeface="Old newspaper fo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Old newspaper font"/>
              </a:rPr>
              <a:t>Plants produce food as a source of energy for us, maintaining the oxygen </a:t>
            </a:r>
            <a:r>
              <a:rPr b="0" lang="en-US" sz="3200" spc="-1" strike="noStrike">
                <a:solidFill>
                  <a:srgbClr val="008080"/>
                </a:solidFill>
                <a:latin typeface="Arial Unicode MS"/>
              </a:rPr>
              <a:t>&amp;</a:t>
            </a:r>
            <a:r>
              <a:rPr b="0" lang="en-US" sz="3200" spc="-1" strike="noStrike">
                <a:solidFill>
                  <a:srgbClr val="008080"/>
                </a:solidFill>
                <a:latin typeface="Old newspaper font"/>
              </a:rPr>
              <a:t> carbon dioxide content in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ld newspaper fo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newspaper font"/>
              </a:rPr>
              <a:t>Without plants, there will be more CO2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Old newspaper font"/>
              </a:rPr>
              <a:t> less O2 in the atmosphe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Old newspaper font"/>
              </a:rPr>
              <a:t> cause 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Old newspaper fo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Old newspaper font"/>
              </a:rPr>
              <a:t>Not destroy forests </a:t>
            </a:r>
            <a:r>
              <a:rPr b="0" lang="en-US" sz="3200" spc="-1" strike="noStrike">
                <a:solidFill>
                  <a:srgbClr val="800080"/>
                </a:solidFill>
                <a:latin typeface="Arial Unicode MS"/>
              </a:rPr>
              <a:t>@</a:t>
            </a:r>
            <a:r>
              <a:rPr b="0" lang="en-US" sz="3200" spc="-1" strike="noStrike">
                <a:solidFill>
                  <a:srgbClr val="800080"/>
                </a:solidFill>
                <a:latin typeface="Old newspaper font"/>
              </a:rPr>
              <a:t> chop down plants indiscriminately. Should grow more plants around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6.14 – Technology in Food P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quality &amp; quantity of food production in Malaysia through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eeding from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ponics &amp; aerop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urlz MT"/>
              </a:rPr>
              <a:t>6.15 : TECHNOLOGICAL DEVELOPMENT IN FOOD PROCESS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sh food can last only for a short time, easily spo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be processed in order to last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for food processing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raw food materials to othe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ng certain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cessity for food processing 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oying m/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ing the lifespan of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ing food wa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sifying the uses of food, like milk &amp; dair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ing sufficient food supply because processed food can last longer &amp; they can be easily sent to places with insufficient 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OOD PROCESS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Coo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o kill the bad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Using salt, sugar &amp; vineg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osm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Fermen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cess (yeast is us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luco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thanol + C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Dry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ehyd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asteuris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heated to certain temp and rapid coo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Cann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terilised at high temp, above 120oC, the container is vacuum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ill bacteria, prevent bacteria from grow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Refrige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low down the action of microorganism, temp low to -15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08:08:02Z</dcterms:created>
  <dc:creator>FAZLIE &amp; WAWA</dc:creator>
  <dc:description/>
  <dc:language>en-US</dc:language>
  <cp:lastModifiedBy>FAZLI &amp; WAWA </cp:lastModifiedBy>
  <dcterms:modified xsi:type="dcterms:W3CDTF">2008-09-08T00:24:47Z</dcterms:modified>
  <cp:revision>56</cp:revision>
  <dc:subject/>
  <dc:title>CHAPTER 6 : NUTRITION</dc:title>
</cp:coreProperties>
</file>