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766-1521-44DF-8EC2-BD9ECEDA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D4F-C627-4454-B570-B8AB685B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FD11-BA69-45BE-B395-0A8E0C4A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4FD-4F46-4D32-B4D1-28E5269B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45F-2EA3-4B10-95DB-9CA19334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DED-5923-4650-A783-E82426F7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FA2-A062-4F1F-833F-F67BF9BC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246-7A40-4B5E-B3C2-7D7F285A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8B8-5B44-41FB-9118-BEFDD8DA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000-6433-4544-9DBC-249CF1A6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3628-1084-4260-89E6-BCC32B9F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EB0-62F8-4B70-A0FC-D5CCA911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B0E4-912F-4FA3-BB53-1FC7B6AD3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fmoochikncheez"/>
              </a:rPr>
              <a:t>Prepar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fmoochikncheez"/>
              </a:rPr>
              <a:t>Muhd Fazli b. Dol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1197000"/>
            <a:ext cx="81360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malite Rifle"/>
              </a:rPr>
              <a:t>6.13 A Caring Attitud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malite Rifle"/>
              <a:ea typeface="Armalite Rif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malite Rifle"/>
              </a:rPr>
              <a:t>Towards Plant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malite Rifle"/>
              <a:ea typeface="Armalite Rifle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24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Anderson Four Feather Fall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Book"/>
              </a:rPr>
              <a:t>To tell why we need to take good care of plant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Book"/>
              </a:rPr>
              <a:t>To identify cases of mishandling or destruction of pla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569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Old newspaper fo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Old newspaper font"/>
              </a:rPr>
              <a:t>Must be thankful to plants 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&amp;</a:t>
            </a:r>
            <a:r>
              <a:rPr b="0" lang="en-US" sz="3200" spc="-1" strike="noStrike">
                <a:solidFill>
                  <a:srgbClr val="003399"/>
                </a:solidFill>
                <a:latin typeface="Old newspaper font"/>
              </a:rPr>
              <a:t> practise a caring attitude towards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Old newspaper fo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Old newspaper font"/>
              </a:rPr>
              <a:t>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80"/>
              </a:buClr>
              <a:buFont typeface="Old newspaper fo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Old newspaper font"/>
              </a:rPr>
              <a:t>Plants produce food as a source of energy for us, maintaining the oxygen </a:t>
            </a:r>
            <a:r>
              <a:rPr b="0" lang="en-US" sz="3200" spc="-1" strike="noStrike">
                <a:solidFill>
                  <a:srgbClr val="008080"/>
                </a:solidFill>
                <a:latin typeface="Arial Unicode MS"/>
              </a:rPr>
              <a:t>&amp;</a:t>
            </a:r>
            <a:r>
              <a:rPr b="0" lang="en-US" sz="3200" spc="-1" strike="noStrike">
                <a:solidFill>
                  <a:srgbClr val="008080"/>
                </a:solidFill>
                <a:latin typeface="Old newspaper font"/>
              </a:rPr>
              <a:t> carbon dioxide content in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ld newspaper fo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newspaper font"/>
              </a:rPr>
              <a:t>Without plants, there will be more CO2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&amp;</a:t>
            </a:r>
            <a:r>
              <a:rPr b="0" lang="en-US" sz="3200" spc="-1" strike="noStrike">
                <a:solidFill>
                  <a:srgbClr val="000000"/>
                </a:solidFill>
                <a:latin typeface="Old newspaper font"/>
              </a:rPr>
              <a:t> less O2 in the atmosphe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Old newspaper font"/>
              </a:rPr>
              <a:t> cause global 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Old newspaper fo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Old newspaper font"/>
              </a:rPr>
              <a:t>Not destroy forests </a:t>
            </a:r>
            <a:r>
              <a:rPr b="0" lang="en-US" sz="3200" spc="-1" strike="noStrike">
                <a:solidFill>
                  <a:srgbClr val="800080"/>
                </a:solidFill>
                <a:latin typeface="Arial Unicode MS"/>
              </a:rPr>
              <a:t>@</a:t>
            </a:r>
            <a:r>
              <a:rPr b="0" lang="en-US" sz="3200" spc="-1" strike="noStrike">
                <a:solidFill>
                  <a:srgbClr val="800080"/>
                </a:solidFill>
                <a:latin typeface="Old newspaper font"/>
              </a:rPr>
              <a:t> chop down plants indiscriminately. Should grow more plants around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6.14 – Technology in Food P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the quality &amp; quantity of food production in Malaysia through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eeding from 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ponics &amp; aerop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il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urlz MT"/>
              </a:rPr>
              <a:t>6.15 : TECHNOLOGICAL DEVELOPMENT IN FOOD PROCESS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sh food can last only for a short time, easily spoi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be processed in order to last 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for food processing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raw food materials to other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ng certain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cessity for food processing a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roying m/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ing the lifespan of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ing food wa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ersifying the uses of food, like milk &amp; dairy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ing sufficient food supply because processed food can last longer &amp; they can be easily sent to places with insufficient foo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FOOD PROCESS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Coo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o kill the bad bac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Using salt, sugar &amp; vineg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osm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Fermen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cess (yeast is use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lucos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thanol + CO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Dry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dehyd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Pasteuris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heated to certain temp and rapid coo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Cann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terilised at high temp, above 120oC, the container is vacuum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ill bacteria, prevent bacteria from grow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Refrige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low down the action of microorganism, temp low to -15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08:08:02Z</dcterms:created>
  <dc:creator>FAZLIE &amp; WAWA</dc:creator>
  <dc:description/>
  <dc:language>en-US</dc:language>
  <cp:lastModifiedBy>FAZLI &amp; WAWA </cp:lastModifiedBy>
  <dcterms:modified xsi:type="dcterms:W3CDTF">2008-09-08T00:24:47Z</dcterms:modified>
  <cp:revision>56</cp:revision>
  <dc:subject/>
  <dc:title>CHAPTER 6 : NUTRITION</dc:title>
</cp:coreProperties>
</file>