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17.pct" ContentType="image/x-pict"/>
  <Override PartName="/ppt/media/image23.pct" ContentType="image/x-pict"/>
  <Override PartName="/ppt/media/image22.pct" ContentType="image/x-pict"/>
  <Override PartName="/ppt/media/image27.pct" ContentType="image/x-pict"/>
  <Override PartName="/ppt/media/image4.pct" ContentType="image/x-pict"/>
  <Override PartName="/ppt/media/image7.png" ContentType="image/png"/>
  <Override PartName="/ppt/media/image20.pct" ContentType="image/x-pict"/>
  <Override PartName="/ppt/media/image18.pct" ContentType="image/x-pict"/>
  <Override PartName="/ppt/media/image5.pct" ContentType="image/x-pict"/>
  <Override PartName="/ppt/media/image30.pct" ContentType="image/x-pict"/>
  <Override PartName="/ppt/media/image10.pct" ContentType="image/x-pict"/>
  <Override PartName="/ppt/media/image29.pct" ContentType="image/x-pict"/>
  <Override PartName="/ppt/media/image6.pct" ContentType="image/x-pict"/>
  <Override PartName="/ppt/media/image11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31.pct" ContentType="image/x-pict"/>
  <Override PartName="/ppt/media/image1.pct" ContentType="image/x-pict"/>
  <Override PartName="/ppt/media/image24.pct" ContentType="image/x-pict"/>
  <Override PartName="/ppt/media/image14.pct" ContentType="image/x-pict"/>
  <Override PartName="/ppt/media/image12.pct" ContentType="image/x-pict"/>
  <Override PartName="/ppt/media/image15.png" ContentType="image/png"/>
  <Override PartName="/ppt/media/image16.pct" ContentType="image/x-pict"/>
  <Override PartName="/ppt/media/image19.pct" ContentType="image/x-pict"/>
  <Override PartName="/ppt/media/image21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0D1-EC23-4156-A8FD-9ABBB496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C66-9D96-414F-B904-877F0DE9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4AD-85E9-409D-853A-ED7F4FEAE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3A3-818B-4980-BDCF-FE52B96C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394E-4104-4AED-B91E-B938797F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4B98-2E37-43AA-991C-C5940EAE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1091-801A-4100-B4A8-3810E5D2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29DD-BDBA-47EB-A863-2E6AED5A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D750-E237-4242-B55E-DB1F8CEC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CB69-A7A5-4272-B2C7-9F986195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8517-FB0B-4FC3-A904-6996EB91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D74-4BEE-4D03-89C7-0E15ECC1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4CEB-4830-40DB-828E-06CC9CEB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9EC9-CFB6-47D7-849F-F310D913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8479-7B6B-4B33-A03D-5D7EB2D2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08F2-E1F9-46E0-80DD-1B0CEEC8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E725-5DAC-4134-BCF4-D3F45F6B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8FBA-941C-422F-8268-E180CDBE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264-5E93-4E50-8632-874982F2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0D9-2752-4A5C-8F8F-F0F7DA41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F134-2FBE-4A45-B777-CDB7811D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18A-76EF-4DB1-B884-099E0D9A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88F-B090-4484-9DC3-DC87DCD9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B4B-A6BB-4CAA-94F3-7E3EC72F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EFA1-AFBF-4B95-8A20-71EED806A46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C369-F9E6-4FC7-A7BB-AC4DAA78071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eacherweb.com/VA/ThurgoodMarshallElementarySchool/MrsStamp" TargetMode="Externa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9933ff"/>
                </a:solidFill>
                <a:latin typeface="Boulder"/>
              </a:rPr>
              <a:t>Phon-ercise!</a:t>
            </a:r>
            <a:endParaRPr b="0" lang="en-US" sz="10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388584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entury Gothic"/>
              </a:rPr>
              <a:t>A Dr. Jean Favorite from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Century Gothic"/>
              </a:rPr>
              <a:t>“</a:t>
            </a:r>
            <a:r>
              <a:rPr b="0" lang="en-US" sz="4000" spc="-1" strike="noStrike">
                <a:solidFill>
                  <a:srgbClr val="eaeaea"/>
                </a:solidFill>
                <a:latin typeface="Century Gothic"/>
              </a:rPr>
              <a:t>Sing to Learn with Dr. Jean”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entury Gothic"/>
              </a:rPr>
              <a:t>PowerPoint created by:  Karen Stam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ec85e"/>
                </a:solidFill>
                <a:uFillTx/>
                <a:latin typeface="Century Gothic"/>
                <a:hlinkClick r:id="rId1"/>
              </a:rPr>
              <a:t>http://www.teacherweb.com/VA/ThurgoodMarshallElementarySchool/MrsStamp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9880" y="2057400"/>
            <a:ext cx="1368720" cy="1841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791320" y="1981080"/>
            <a:ext cx="1198440" cy="1806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905120" y="2133720"/>
            <a:ext cx="135576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e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e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egg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365640" y="4176720"/>
            <a:ext cx="242568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f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f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fish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62520" y="3581280"/>
            <a:ext cx="1422360" cy="17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g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g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girl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3886200"/>
            <a:ext cx="1866960" cy="14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h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h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house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81280" y="37339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i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i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iguana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81280" y="4267080"/>
            <a:ext cx="1882800" cy="11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j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j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jelly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733920" y="3733920"/>
            <a:ext cx="148248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k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k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king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57600" y="3657600"/>
            <a:ext cx="18432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l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l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lion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1936800" cy="16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m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m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mouse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505320" y="4572000"/>
            <a:ext cx="1923840" cy="8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n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n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nest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1836720" cy="16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eaeaea"/>
                </a:solidFill>
                <a:latin typeface="Century Gothic"/>
              </a:rPr>
              <a:t>All right, everybody.</a:t>
            </a:r>
            <a:endParaRPr b="0" lang="en-US" sz="59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eaeaea"/>
                </a:solidFill>
                <a:latin typeface="Century Gothic"/>
              </a:rPr>
              <a:t>Time to</a:t>
            </a:r>
            <a:r>
              <a:rPr b="0" lang="en-US" sz="5900" spc="-1" strike="noStrike">
                <a:solidFill>
                  <a:srgbClr val="9933ff"/>
                </a:solidFill>
                <a:latin typeface="Century Gothic"/>
              </a:rPr>
              <a:t> </a:t>
            </a:r>
            <a:endParaRPr b="0" lang="en-US" sz="59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33ff"/>
                </a:solidFill>
                <a:latin typeface="Boulder"/>
              </a:rPr>
              <a:t>Phon-ercise!</a:t>
            </a: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00400" y="4343400"/>
            <a:ext cx="274644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o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o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octopus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30639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p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p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pig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4114800"/>
            <a:ext cx="1886040" cy="13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q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q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queen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962520" y="3581280"/>
            <a:ext cx="1063440" cy="19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r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r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ring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4191120"/>
            <a:ext cx="1197000" cy="123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s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s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sun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57600" y="3657600"/>
            <a:ext cx="180324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t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t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top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733920" y="3581280"/>
            <a:ext cx="1636560" cy="18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u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u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umbrella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v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v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vest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657600" y="3581280"/>
            <a:ext cx="1801800" cy="18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w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w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wagon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124080" y="3657600"/>
            <a:ext cx="2924280" cy="18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x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x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x-ray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86200" y="3733920"/>
            <a:ext cx="1306440" cy="18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eaeaea"/>
                </a:solidFill>
                <a:latin typeface="Century Gothic"/>
              </a:rPr>
              <a:t>Put your hands in the air and say the letter.</a:t>
            </a:r>
            <a:r>
              <a:rPr b="0" lang="en-US" sz="5900" spc="-1" strike="noStrike">
                <a:solidFill>
                  <a:srgbClr val="9933ff"/>
                </a:solidFill>
                <a:latin typeface="Century Gothic"/>
              </a:rPr>
              <a:t> </a:t>
            </a:r>
            <a:endParaRPr b="0" lang="en-US" sz="59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8120" y="2514600"/>
            <a:ext cx="305100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y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y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yo-yo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733920" y="4419720"/>
            <a:ext cx="1622160" cy="10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z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z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zipper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86200" y="3581280"/>
            <a:ext cx="139860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eaeaea"/>
                </a:solidFill>
                <a:latin typeface="Century Gothic"/>
              </a:rPr>
              <a:t>Touch your shoulders and make the </a:t>
            </a:r>
            <a:endParaRPr b="0" lang="en-US" sz="5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eaeaea"/>
                </a:solidFill>
                <a:latin typeface="Century Gothic"/>
              </a:rPr>
              <a:t>letter sound.</a:t>
            </a:r>
            <a:r>
              <a:rPr b="0" lang="en-US" sz="5200" spc="-1" strike="noStrike">
                <a:solidFill>
                  <a:srgbClr val="9933ff"/>
                </a:solidFill>
                <a:latin typeface="Century Gothic"/>
              </a:rPr>
              <a:t> </a:t>
            </a:r>
            <a:endParaRPr b="0" lang="en-US" sz="5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95480" y="3006720"/>
            <a:ext cx="3353040" cy="283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885800">
            <a:off x="5105160" y="3428640"/>
            <a:ext cx="1295280" cy="609480"/>
          </a:xfrm>
          <a:prstGeom prst="leftArrow">
            <a:avLst>
              <a:gd name="adj1" fmla="val 50000"/>
              <a:gd name="adj2" fmla="val 53131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rot="1714200">
            <a:off x="3047760" y="3428640"/>
            <a:ext cx="1295280" cy="609480"/>
          </a:xfrm>
          <a:prstGeom prst="leftArrow">
            <a:avLst>
              <a:gd name="adj1" fmla="val 50000"/>
              <a:gd name="adj2" fmla="val 53131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eaeaea"/>
                </a:solidFill>
                <a:latin typeface="Century Gothic"/>
              </a:rPr>
              <a:t>Touch the ground and name a word that begins with that sound.</a:t>
            </a:r>
            <a:r>
              <a:rPr b="0" lang="en-US" sz="5200" spc="-1" strike="noStrike">
                <a:solidFill>
                  <a:srgbClr val="9933ff"/>
                </a:solidFill>
                <a:latin typeface="Century Gothic"/>
              </a:rPr>
              <a:t> </a:t>
            </a:r>
            <a:endParaRPr b="0" lang="en-US" sz="5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95480" y="2971800"/>
            <a:ext cx="317196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a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a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alligator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0" y="3962520"/>
            <a:ext cx="467208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b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b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ball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182736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c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c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cat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1833480" cy="147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0010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d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/d/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  <a:p>
            <a:pPr marL="14724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eaeaea"/>
                </a:solidFill>
                <a:latin typeface="Century Gothic"/>
              </a:rPr>
              <a:t>duck </a:t>
            </a:r>
            <a:endParaRPr b="0" lang="en-US" sz="7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657600" y="3733920"/>
            <a:ext cx="1816200" cy="1596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14:25:40Z</dcterms:created>
  <dc:creator> Karen Stamp</dc:creator>
  <dc:description/>
  <dc:language>en-US</dc:language>
  <cp:lastModifiedBy>Alex May</cp:lastModifiedBy>
  <dcterms:modified xsi:type="dcterms:W3CDTF">2008-08-24T23:22:52Z</dcterms:modified>
  <cp:revision>13</cp:revision>
  <dc:subject/>
  <dc:title>Phon-ercise!</dc:title>
</cp:coreProperties>
</file>