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17.pct" ContentType="image/x-pict"/>
  <Override PartName="/ppt/media/image23.pct" ContentType="image/x-pict"/>
  <Override PartName="/ppt/media/image22.pct" ContentType="image/x-pict"/>
  <Override PartName="/ppt/media/image27.pct" ContentType="image/x-pict"/>
  <Override PartName="/ppt/media/image4.pct" ContentType="image/x-pict"/>
  <Override PartName="/ppt/media/image7.png" ContentType="image/png"/>
  <Override PartName="/ppt/media/image20.pct" ContentType="image/x-pict"/>
  <Override PartName="/ppt/media/image18.pct" ContentType="image/x-pict"/>
  <Override PartName="/ppt/media/image5.pct" ContentType="image/x-pict"/>
  <Override PartName="/ppt/media/image30.pct" ContentType="image/x-pict"/>
  <Override PartName="/ppt/media/image10.pct" ContentType="image/x-pict"/>
  <Override PartName="/ppt/media/image29.pct" ContentType="image/x-pict"/>
  <Override PartName="/ppt/media/image6.pct" ContentType="image/x-pict"/>
  <Override PartName="/ppt/media/image11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3.pct" ContentType="image/x-pict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31.pct" ContentType="image/x-pict"/>
  <Override PartName="/ppt/media/image1.pct" ContentType="image/x-pict"/>
  <Override PartName="/ppt/media/image24.pct" ContentType="image/x-pict"/>
  <Override PartName="/ppt/media/image14.pct" ContentType="image/x-pict"/>
  <Override PartName="/ppt/media/image12.pct" ContentType="image/x-pict"/>
  <Override PartName="/ppt/media/image15.png" ContentType="image/png"/>
  <Override PartName="/ppt/media/image16.pct" ContentType="image/x-pict"/>
  <Override PartName="/ppt/media/image19.pct" ContentType="image/x-pict"/>
  <Override PartName="/ppt/media/image21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334-8619-432B-A7A0-E9A2BA68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1B6-CC13-4FEA-88DE-EE6D277E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059-B0DC-4D0C-8390-F72B8085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BA1-6EAE-4085-B287-2A51905F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34CB-7B5A-40D0-913E-A6E0C470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414D-7AE7-4173-BCE8-B769DCC8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37A0-5E6E-40DC-BCCD-B5B66F33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7800-6C7E-4274-870D-CDB12101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6CA9-1C07-4438-8940-B31C5B10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657F-36B5-4F21-A550-40E4D181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4D14-6DE9-47C4-8886-BC66FDC7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E80-8E03-4C10-8CA5-0E5F729A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82AA-5C52-426B-ABD6-80925A1C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B79F-E20A-40E9-B998-64D4E5D7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C51A-DE98-4A69-9FB4-050888EF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CA54-424D-4199-8144-9EC3071B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28F7-8B1A-4B6D-A908-67BFE54D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906-581B-480A-B106-707294B6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3CD-ADF5-46D7-A8A2-851956AA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BDC-2011-42D3-80C5-625D8294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772-4A16-4D98-81EF-703C1043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FFF-C673-4519-B9DD-7981877D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57D-FCE1-4241-A5F8-9457114D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DD9-5E1F-4A80-93B8-3A29BE04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B468-85FC-4E88-92B3-4C1F8746C4D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7BED-CD07-4245-9093-869D3B7B617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acherweb.com/VA/ThurgoodMarshallElementarySchool/MrsStamp" TargetMode="Externa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9933ff"/>
                </a:solidFill>
                <a:latin typeface="Boulder"/>
              </a:rPr>
              <a:t>Phon-ercise!</a:t>
            </a:r>
            <a:endParaRPr b="0" lang="en-US" sz="10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388584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entury Gothic"/>
              </a:rPr>
              <a:t>A Dr. Jean Favorite from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entury Gothic"/>
              </a:rPr>
              <a:t>“</a:t>
            </a:r>
            <a:r>
              <a:rPr b="0" lang="en-US" sz="4000" spc="-1" strike="noStrike">
                <a:solidFill>
                  <a:srgbClr val="eaeaea"/>
                </a:solidFill>
                <a:latin typeface="Century Gothic"/>
              </a:rPr>
              <a:t>Sing to Learn with Dr. Jean”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PowerPoint created by:  Karen Stam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ec85e"/>
                </a:solidFill>
                <a:uFillTx/>
                <a:latin typeface="Century Gothic"/>
                <a:hlinkClick r:id="rId1"/>
              </a:rPr>
              <a:t>http://www.teacherweb.com/VA/ThurgoodMarshallElementarySchool/MrsStamp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9880" y="2057400"/>
            <a:ext cx="1368720" cy="1841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1320" y="1981080"/>
            <a:ext cx="1198440" cy="1806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905120" y="2133720"/>
            <a:ext cx="135576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e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e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egg 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365640" y="4176720"/>
            <a:ext cx="242568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f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f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fish 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62520" y="3581280"/>
            <a:ext cx="1422360" cy="17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g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g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girl 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3886200"/>
            <a:ext cx="1866960" cy="14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h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h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house 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i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iguana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1882800" cy="11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j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j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jelly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148248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k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k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king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57600" y="3657600"/>
            <a:ext cx="18432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l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l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lion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1936800" cy="16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m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m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mouse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505320" y="4572000"/>
            <a:ext cx="1923840" cy="8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n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n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nest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1836720" cy="16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eaeaea"/>
                </a:solidFill>
                <a:latin typeface="Century Gothic"/>
              </a:rPr>
              <a:t>All right, everybody.</a:t>
            </a:r>
            <a:endParaRPr b="0" lang="en-US" sz="59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eaeaea"/>
                </a:solidFill>
                <a:latin typeface="Century Gothic"/>
              </a:rPr>
              <a:t>Time to</a:t>
            </a:r>
            <a:r>
              <a:rPr b="0" lang="en-US" sz="5900" spc="-1" strike="noStrike">
                <a:solidFill>
                  <a:srgbClr val="9933ff"/>
                </a:solidFill>
                <a:latin typeface="Century Gothic"/>
              </a:rPr>
              <a:t> </a:t>
            </a:r>
            <a:endParaRPr b="0" lang="en-US" sz="59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33ff"/>
                </a:solidFill>
                <a:latin typeface="Boulder"/>
              </a:rPr>
              <a:t>Phon-ercise!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00400" y="4343400"/>
            <a:ext cx="274644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o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octopus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30639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p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p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pig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8604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q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q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queen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62520" y="3581280"/>
            <a:ext cx="106344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r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r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ring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4191120"/>
            <a:ext cx="1197000" cy="123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s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s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sun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57600" y="3657600"/>
            <a:ext cx="180324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t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t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top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733920" y="3581280"/>
            <a:ext cx="1636560" cy="18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u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u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umbrella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v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v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vest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657600" y="3581280"/>
            <a:ext cx="1801800" cy="18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w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w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wagon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924280" cy="18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x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x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x-ray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86200" y="3733920"/>
            <a:ext cx="1306440" cy="18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eaeaea"/>
                </a:solidFill>
                <a:latin typeface="Century Gothic"/>
              </a:rPr>
              <a:t>Put your hands in the air and say the letter.</a:t>
            </a:r>
            <a:r>
              <a:rPr b="0" lang="en-US" sz="5900" spc="-1" strike="noStrike">
                <a:solidFill>
                  <a:srgbClr val="9933ff"/>
                </a:solidFill>
                <a:latin typeface="Century Gothic"/>
              </a:rPr>
              <a:t> </a:t>
            </a:r>
            <a:endParaRPr b="0" lang="en-US" sz="59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305100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y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y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yo-yo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733920" y="4419720"/>
            <a:ext cx="162216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z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z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zipper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139860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eaeaea"/>
                </a:solidFill>
                <a:latin typeface="Century Gothic"/>
              </a:rPr>
              <a:t>Touch your shoulders and make the </a:t>
            </a:r>
            <a:endParaRPr b="0" lang="en-US" sz="5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eaeaea"/>
                </a:solidFill>
                <a:latin typeface="Century Gothic"/>
              </a:rPr>
              <a:t>letter sound.</a:t>
            </a:r>
            <a:r>
              <a:rPr b="0" lang="en-US" sz="5200" spc="-1" strike="noStrike">
                <a:solidFill>
                  <a:srgbClr val="9933ff"/>
                </a:solidFill>
                <a:latin typeface="Century Gothic"/>
              </a:rPr>
              <a:t> </a:t>
            </a:r>
            <a:endParaRPr b="0" lang="en-US" sz="5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95480" y="3006720"/>
            <a:ext cx="3353040" cy="283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885800">
            <a:off x="5105160" y="3428640"/>
            <a:ext cx="1295280" cy="609480"/>
          </a:xfrm>
          <a:prstGeom prst="leftArrow">
            <a:avLst>
              <a:gd name="adj1" fmla="val 50000"/>
              <a:gd name="adj2" fmla="val 53131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rot="1714200">
            <a:off x="3047760" y="3428640"/>
            <a:ext cx="1295280" cy="609480"/>
          </a:xfrm>
          <a:prstGeom prst="leftArrow">
            <a:avLst>
              <a:gd name="adj1" fmla="val 50000"/>
              <a:gd name="adj2" fmla="val 53131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eaeaea"/>
                </a:solidFill>
                <a:latin typeface="Century Gothic"/>
              </a:rPr>
              <a:t>Touch the ground and name a word that begins with that sound.</a:t>
            </a:r>
            <a:r>
              <a:rPr b="0" lang="en-US" sz="5200" spc="-1" strike="noStrike">
                <a:solidFill>
                  <a:srgbClr val="9933ff"/>
                </a:solidFill>
                <a:latin typeface="Century Gothic"/>
              </a:rPr>
              <a:t> </a:t>
            </a:r>
            <a:endParaRPr b="0" lang="en-US" sz="5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95480" y="2971800"/>
            <a:ext cx="317196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a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alligator 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467208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b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b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ball 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182736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c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c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cat 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1833480" cy="14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d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duck 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657600" y="3733920"/>
            <a:ext cx="1816200" cy="159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14:25:40Z</dcterms:created>
  <dc:creator> Karen Stamp</dc:creator>
  <dc:description/>
  <dc:language>en-US</dc:language>
  <cp:lastModifiedBy>Alex May</cp:lastModifiedBy>
  <dcterms:modified xsi:type="dcterms:W3CDTF">2008-08-24T23:22:52Z</dcterms:modified>
  <cp:revision>13</cp:revision>
  <dc:subject/>
  <dc:title>Phon-ercise!</dc:title>
</cp:coreProperties>
</file>