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EC9-17BC-4247-BED8-7141729E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A52-1DCF-43DD-A18D-251BD8D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5FC-1997-4FE6-BB94-661F9653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31D-CBB4-4025-8CFB-0DDE9877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14DF-0EB9-4997-9233-4A2A10DC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34DA-4EB6-4B6F-BF47-D1F52445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CAB2-A465-43C8-9583-BE10E218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9929-B35A-45B5-B247-A628299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4E84-7E65-4377-A1B9-B19AED76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9E4-E281-4E0D-BAFE-3D3D529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A0F7-1670-4F80-BECC-59EBC5E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40F-8C4C-4EFA-9395-F9A28ABF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4DB1-8BDB-4A87-BB77-DC1C503B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E177-BFAA-4097-821B-DBFA2965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098D-677E-4168-8CA4-B14E3C40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069-C2E6-4B9D-9E1E-9637F4F9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9EA6-54ED-4895-94AF-31A3A714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CD6-97CA-4329-B666-53E335F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E7B-003B-4F11-92EA-2CCCF345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3E6-F801-4BA1-8D3C-8A0D0D6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B3D-B97B-46FC-BE35-DCF4C493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60D-159D-493C-BFAB-CB96C63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141-52C4-49C7-8D59-BBC75448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4C3-839C-4C20-96A8-C9BE316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091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3241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2C62-F3EE-4751-8F91-3C32FA19A5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iversidad Nacional de Ingenier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457840" y="6858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3569-B6F0-4D60-9B6A-6C44FE0ED5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dad Nacional de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ejo de Even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enguaje de programación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ientado a obje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Tahoma"/>
              </a:rPr>
              <a:t>Universidad Nacional de Ingenierí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Facultad de Ingeniería Industrial y de Sist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DE68-0CAB-4F47-9C75-3C77872EA4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o Even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3789360"/>
            <a:ext cx="8569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vento: Objeto que encapsula la información sobre la acción del usuario con la aplicación grá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esionar un botón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ulsar con el rat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ava.util.EventObject -&gt; java.awt.event.ActionEv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tributo: Objeto Fuente que ha generado el ev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étodo: Object getSource() para obtener el objeto fu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8640" y="19098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66680" y="3206880"/>
            <a:ext cx="54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actionPerformed (ActionEvent ev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5AC-99AB-427A-AC92-7569B45EB2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o fuen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378936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onente en el que se genera el ev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étodos de manejo de oy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d&lt;TipoEvento&gt;Listener(): Agrega el oyente al objeto fu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move&lt;TipoEvento&gt;Listener(): Elimina el oyente del objeto fu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8640" y="19098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997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5C0-8317-4285-A573-EF8416FF00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o oyen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4436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Objeto oyente gestiona, maneja, responde a un ev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implementación del objeto oyente se realiza en un Listener para este tipo de event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&lt;TipoEvento&gt;Listener  (ej. ActionListen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e métodos que son invocados por el objeto fuente y reciben como argumento el objeto ev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3213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ass OyenteAccion implement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ActionListene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actionPerforme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ActionEvent ev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8640" y="19098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02800" y="1197000"/>
            <a:ext cx="39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Accion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oyenteBoto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=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new OyenteAccio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61E-EDCE-45E8-9FCB-1325CF260D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Código de la delegación de event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7345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oyenteBoton = new OyenteAccio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s OyenteAccion implements ActionListener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oid actionPerformed (ActionEvent evento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 = (JButton) evento.getSource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.setText(boton.getText() + " amigo! 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84120" y="3886200"/>
            <a:ext cx="179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1. Se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crea el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oy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4343400"/>
            <a:ext cx="26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2. Se agrega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la lista de oyentes del objeto fu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4952880"/>
            <a:ext cx="180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3. Cuando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ocurr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un evento,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e comunica al oyente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 evento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s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rgumento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del mensaj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861-6948-43B8-A762-FE87E265F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ventos de Rató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curren cuando el usuario usa el ratón para interactuar con un compon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terfaz MouseListener contienen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étodos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2565360"/>
          <a:ext cx="8136000" cy="362592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Click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que el usuario pulse sobre el componente escuchado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Enter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que el cursor entre en los límites d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Exit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cursor salga de los límites d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Press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se presione un botón del ratón mientras el cursor está sobre 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Releas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se libere un botón del ratón después de ser presionado sobre el componente es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854080" cy="66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20020800">
            <a:off x="7162920" y="304776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18D-A27C-4744-AEE3-B1BE030B21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7094520" cy="67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// …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Mouse oyenteMouse = new OyenteMouse(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.addMouseListener(oyenteMous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ass OyenteMouse implements MouseListener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Press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Presionad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Releas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Liberad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Enter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ingres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Exit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sali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Click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Pulsad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0" y="2458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857680" cy="666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rot="20020800">
            <a:off x="7740720" y="184428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020800">
            <a:off x="7740720" y="299700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084720" y="33577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084720" y="4292640"/>
            <a:ext cx="285768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20020800">
            <a:off x="7812000" y="3718080"/>
            <a:ext cx="122400" cy="287280"/>
          </a:xfrm>
          <a:prstGeom prst="upArrow">
            <a:avLst>
              <a:gd name="adj1" fmla="val 34037"/>
              <a:gd name="adj2" fmla="val 107932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020800">
            <a:off x="7812000" y="4869000"/>
            <a:ext cx="122400" cy="287280"/>
          </a:xfrm>
          <a:prstGeom prst="upArrow">
            <a:avLst>
              <a:gd name="adj1" fmla="val 34037"/>
              <a:gd name="adj2" fmla="val 107932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084720" y="5229360"/>
            <a:ext cx="285768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20020800">
            <a:off x="7740720" y="558936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E55-732E-4267-934B-9E38939B46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ventos de Tecla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curren cuando el usuario usa el teclado en un componente que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a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iene el fo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terfaz KeyListener contienen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étodos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44640" y="3103560"/>
          <a:ext cx="7305480" cy="3094200"/>
        </p:xfrm>
        <a:graphic>
          <a:graphicData uri="http://schemas.openxmlformats.org/drawingml/2006/table">
            <a:tbl>
              <a:tblPr/>
              <a:tblGrid>
                <a:gridCol w="3652920"/>
                <a:gridCol w="36525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keyTyped(Key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usuario teclee un caracter dentro d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keyPressed(Key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usuario pulse una tecla mientras el componente escuchado tiene el foc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keyReleased(Key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usuario libere una tecla mientras el componente escuchado tiene el foc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934320" y="36576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334120" y="2895480"/>
            <a:ext cx="285408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ACF-6CEC-4749-9C62-1E4F4FBB3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134640"/>
            <a:ext cx="5616360" cy="67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// …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Key oyenteKey = new OyenteKey(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Adios.addKeyListener(oyenteKey);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ass OyenteKey implements KeyListener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keyTyped(Key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Tecla Tipeada =" +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e.getKeyChar(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keyPressed(Key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Tecla Presionada ="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getKeyChar(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keyReleased(Key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Tecla Liberada ="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getKeyChar(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2458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796000" y="32004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791320" y="45720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772400" y="25146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7772400" y="38862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7848720" y="5257800"/>
            <a:ext cx="36180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D46-E0EC-4107-A380-59F78EE50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854440" cy="665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ventos de Venta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675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n generados por una ventana cuando es abierta, cerrada, iconificada, desiconificada, activada o desactiv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terfaz WindowListener contienen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étodos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2971800"/>
          <a:ext cx="8569080" cy="340344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Open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e que l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ntana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strada por primera vez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Closing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lamada en respuesta 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ición que la ventana escuchada sea cerrada. Para cerrar realmente la ventana, el oyente debería invocar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étodo setVisible(false) de window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Clos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lamado justo después de que la ventana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errada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Iconifi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Deiconifi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que la ventana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iconificada o desiconificada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Activat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Deactivat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que la ventana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ivada o desactivada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rot="20020800">
            <a:off x="8412120" y="2379600"/>
            <a:ext cx="122400" cy="287280"/>
          </a:xfrm>
          <a:prstGeom prst="upArrow">
            <a:avLst>
              <a:gd name="adj1" fmla="val 34037"/>
              <a:gd name="adj2" fmla="val 107932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748-3D81-4250-B525-25B3134D2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481800" cy="67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yenteWindow oyenteWindow = new OyenteWindow(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his.addWindowListener(oyenteWindow);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lass OyenteWindow implements WindowListener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Closing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por cerrarse"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Window ventana1 = (Window) e.getSource(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ventana1.setVisible(false);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public void windowClos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cerrada");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Open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abierta");   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Iconifi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iconificada");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Deiconifi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desiconificada");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Activat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activada");   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Deactivat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desactivada");  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0" y="2458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96000" y="152388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50436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796000" y="263376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2857320" cy="66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778000" y="21812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39480" y="32767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aximiz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2400" y="44956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lt+T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2400" y="57294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lt+T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F21-E2B3-440A-9913-ECC0617292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eni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200" y="1341000"/>
            <a:ext cx="7759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is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ción de aplicaciones gráficas. Pa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odelo de delegación de even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jeto fuente, evento, o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ódigo de la delegación de eventos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ventos de Rat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ventos de Tec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ventos de Vent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su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97A-AC86-4291-9E67-61E43FAAF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Resume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r la clase oyente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implements ActionListener {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lementar en la clase oyente el método</a:t>
            </a:r>
            <a:br>
              <a:rPr sz="28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oid actionPerformed (ActionEvent evento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 = (JButton) evento.getSource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.setText(boton.getText() + " amigo! 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r un objeto de la clase oyente.</a:t>
            </a:r>
            <a:br>
              <a:rPr sz="28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oyenteBoton = new OyenteAccio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gistrarlo como oyente en los componentes.</a:t>
            </a:r>
            <a:br>
              <a:rPr sz="28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BE9-A556-4F2C-8129-6F9C46C983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cia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240" y="41144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4956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g. Angel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Nicola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hata Tintay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ttp://aulaportal.googlepages.com</a:t>
            </a:r>
            <a:br>
              <a:rPr sz="2800"/>
            </a:b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angel.chata@g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61F0-B81B-4A0D-8955-90311B0D86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stor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1.0: AWT: Abstract Windowing Toolkit.  Primeros componentes gr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icos (Frame, Button, Label, Panel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1.1: Modificación de la gestión de interacción con el usuario (Delegación de event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1.2: Swing: Nuevo conjunto de componentes gráficos livianos (JFrame, Jbutton, JLabel, JPanel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C7A-C601-4FCD-8BCD-C560EFC30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reación de aplicaciones gráfic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0200" y="1125360"/>
            <a:ext cx="8462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eño y composición de la apariencia de la aplicación gráf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eño de la ventana, los componentes y forma de actu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cribir código que crea los componentes y la apariencia de la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ap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scribir código para l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isualización de la aplicación grá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cribir código de comportamiento de la aplicación con el usuar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egación del manejo de ev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27B-CF14-4E0E-91C9-DBB3313A6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1. Diseño de la 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aplicación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gráf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95640" y="1341000"/>
            <a:ext cx="309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on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Label : Bienv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Button: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la, A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Panel: Bienvenido, Hola, A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Frame: Ventana S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486080"/>
            <a:ext cx="428616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2920" y="3286080"/>
            <a:ext cx="4286160" cy="100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94680" y="285264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ulsa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3960" y="1125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ntana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3080" y="450864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ulsar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CF1-DD2D-4B3D-97D7-E8F54BD352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0" y="0"/>
            <a:ext cx="51847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Código de la aplicación gráf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655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.awt.event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x.swing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Label etique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Hola, botonAdio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Panel pane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 = new JLabel("Bienvenido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 = new JButton("Hola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 = new JButton("Adio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 = new JPanel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.add(etique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.add(botonHol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.add(botonAdio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etContentPane().add(pane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7840" y="537372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975-58CE-4297-BE53-055679DDC6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. Visualización de la aplicación gráf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.awt.event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x.swing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void main (String[] args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 ventana = new Ventana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.setTitle("UNI - FIIS - ST232 (Ventana Swing)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.setSize(300,7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.setVisible(true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7840" y="537372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F5C-C654-4C60-939E-8F235F14FE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274320"/>
            <a:ext cx="53341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. Código de la interacción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con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el 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usuari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734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Label etique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Hola, botonAdio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oyenteBoton = new OyenteAccio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s OyenteAccion implements ActionListener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oid actionPerformed (ActionEvent evento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 = (JButton) evento.getSource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.setText(boton.getText() + " amigo! 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533412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061-7069-4FE8-86BA-0888DD9A5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delo de delegación de event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732720" y="3141720"/>
            <a:ext cx="1706400" cy="162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2484000" y="34290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0053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125360"/>
            <a:ext cx="8208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manejo de un evento que ocurre en un objeto (fuente) se delega a otro objeto (oy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6530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20200" y="4437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4560" y="297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rea e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oy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769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 Se agrega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a lista de oyentes del objeto fu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494172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3. Cuando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curr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un even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comunica al oyente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 evento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e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rgumento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 del mensaj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44960" y="270828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7082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37360" y="37162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BDB-339E-4D97-9FF9-37492F49A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7:47:43Z</dcterms:created>
  <dc:creator>angel.chata</dc:creator>
  <dc:description/>
  <dc:language>en-US</dc:language>
  <cp:lastModifiedBy>Maquina</cp:lastModifiedBy>
  <dcterms:modified xsi:type="dcterms:W3CDTF">2008-03-25T04:09:33Z</dcterms:modified>
  <cp:revision>150</cp:revision>
  <dc:subject/>
  <dc:title>Diapositiva 1</dc:title>
</cp:coreProperties>
</file>