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4B31-4189-41C6-A667-3AFA6DAA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0B0-B424-4294-AAB4-5F8215B3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460-9676-4EC7-AAF5-E9A626CD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6985-7DDB-4AF8-9F79-24EE3558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55C7-EAB3-42A3-9E73-9E81353F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5BE0-FD97-43F7-9D74-10A850EB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12EE-D187-4C40-8D8E-E019A19B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F4BF-ACF6-49FD-AD5E-A6244741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0287-1F27-48A3-8F3E-016AF9A7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4360" y="126792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F716-6B3A-4A54-834D-22EE892F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6077-2F9B-4373-8DE0-AF3CEAAB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BB06-6A5E-441C-8658-89964753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B9B2-400D-422D-B250-FDDD6B11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0B96-092B-4BBD-BD1E-E7B1CFA8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0A2A-1302-4473-A8BB-0231F6D4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1EF2-247A-4BEA-92AC-95EEA151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8699-ED60-46A2-AAD3-6F405387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26FC-43EA-4EFF-A2CA-73A64EFD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FACE-19DE-441E-8B09-5738BCA4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24ED-A2D3-4DB9-A349-1C547E22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4360" y="126792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2729-E130-4D51-8A4C-2B5F4E1D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F6A-EF39-49D7-A226-E6079266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AA98-72E9-469A-97CD-94C41AC3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C49-DF05-4D3B-86F2-D9117720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091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3241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A101-98D9-4F2C-B24E-66875FEF36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iversidad Nacional de Ingenierí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8457840" y="6858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DEAA-ACBB-494D-A334-0E2B78B6960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858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dad Nacional de Ingenie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2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3733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ejo de Event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enguaje de programación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orientado a obje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ffffff"/>
                </a:solidFill>
                <a:latin typeface="Tahoma"/>
              </a:rPr>
              <a:t>Universidad Nacional de Ingenierí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43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Facultad de Ingeniería Industrial y de Siste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4BAB-491D-4844-81F5-17452489FB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bjeto Event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3789360"/>
            <a:ext cx="8569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vento: Objeto que encapsula la información sobre la acción del usuario con la aplicación gráf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esionar un botón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ulsar con el rat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java.util.EventObject -&gt; java.awt.event.ActionEv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tributo: Objeto Fuente que ha generado el ev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étodo: Object getSource() para obtener el objeto fu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406520"/>
            <a:ext cx="1709640" cy="1636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732720" y="1406520"/>
            <a:ext cx="1706400" cy="1625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H="1">
            <a:off x="2484000" y="169380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95640" y="2270160"/>
            <a:ext cx="1150920" cy="1008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1780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20200" y="26956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18040" y="104616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yenteBo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47800" y="10461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otonH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08640" y="190980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ctionEvent 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66680" y="3206880"/>
            <a:ext cx="54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oid actionPerformed (ActionEvent even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104-F721-4508-B58F-691176A0E1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bjeto fuen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3789360"/>
            <a:ext cx="8569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mponente en el que se genera el ev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étodos de manejo de oy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dd&lt;TipoEvento&gt;Listener(): Agrega el oyente al objeto fu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move&lt;TipoEvento&gt;Listener(): Elimina el oyente del objeto fu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55640" y="1406520"/>
            <a:ext cx="1709640" cy="1636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32720" y="1406520"/>
            <a:ext cx="1706400" cy="1625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>
            <a:off x="2484000" y="169380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2270160"/>
            <a:ext cx="1150920" cy="1008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291780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20200" y="26956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18040" y="104616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yenteBo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47800" y="10461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otonH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8640" y="190980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ctionEvent 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29973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otonHola.addActionListener(oyenteBoto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00D-D1FB-4611-8F20-87A459EB39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bjeto oyen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3640" y="4436640"/>
            <a:ext cx="8569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Objeto oyente gestiona, maneja, responde a un ev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implementación del objeto oyente se realiza en un Listener para este tipo de event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&lt;TipoEvento&gt;Listener  (ej. ActionListener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ine métodos que son invocados por el objeto fuente y reciben como argumento el objeto ev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708360" y="321300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lass OyenteAccion implements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ahoma"/>
              </a:rPr>
              <a:t>ActionListener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oid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ahoma"/>
              </a:rPr>
              <a:t>actionPerformed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(ActionEvent even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55640" y="1406520"/>
            <a:ext cx="1709640" cy="163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732720" y="1406520"/>
            <a:ext cx="1706400" cy="1625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>
            <a:off x="2484000" y="169380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95640" y="2270160"/>
            <a:ext cx="1150920" cy="1008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291780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20200" y="26956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18040" y="104616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yenteBo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47800" y="10461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otonH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8640" y="190980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ctionEvent 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29973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otonHola.addActionListener(oyenteBoto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02800" y="1197000"/>
            <a:ext cx="3918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yenteAccion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ahoma"/>
              </a:rPr>
              <a:t>oyenteBoton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=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                   new OyenteAccion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DA94-FA43-4C3F-A20B-C23C778E50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ffffcc"/>
                </a:solidFill>
                <a:latin typeface="Tahoma"/>
              </a:rPr>
              <a:t>Código de la delegación de evento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3200040"/>
            <a:ext cx="734544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Ventana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yenteAccion oyenteBoton = new OyenteAccion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otonHola.addActionListener(oyenteBoton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otonAdios.addActionListener(oyenteBoton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lass OyenteAccion implements ActionListener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void actionPerformed (ActionEvent evento)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JButton boton = (JButton) evento.getSource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tiqueta.setText(boton.getText() + " amigo! 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5640" y="1406520"/>
            <a:ext cx="1709640" cy="1636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732720" y="1406520"/>
            <a:ext cx="1706400" cy="1625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H="1">
            <a:off x="2484000" y="169380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95640" y="2270160"/>
            <a:ext cx="1150920" cy="1008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84360" y="291780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20200" y="26956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18040" y="104616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yenteBo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47800" y="10461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otonH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84120" y="3886200"/>
            <a:ext cx="179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1. Se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crea el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 oy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4343400"/>
            <a:ext cx="266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2. Se agrega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 la lista de oyentes del objeto fu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4952880"/>
            <a:ext cx="1800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3. Cuando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ocurre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 un evento,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se comunica al oyente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l evento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es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argumento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 del mensaje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A57-28AA-47F0-8207-4C0FE9BE60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ventos de Rató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curren cuando el usuario usa el ratón para interactuar con un componen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interfaz MouseListener contienen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métodos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8360" y="2565360"/>
          <a:ext cx="8136000" cy="3625920"/>
        </p:xfrm>
        <a:graphic>
          <a:graphicData uri="http://schemas.openxmlformats.org/drawingml/2006/table">
            <a:tbl>
              <a:tblPr/>
              <a:tblGrid>
                <a:gridCol w="4068720"/>
                <a:gridCol w="4067280"/>
              </a:tblGrid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mouseClicked(Mouse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ués que el usuario pulse sobre el componente escuchado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mouseEntered(Mouse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ués que el cursor entre en los límites del componente escuchad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mouseExited(Mouse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ués de que el cursor salga de los límites del componente escuchad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mousePressed(Mouse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ués de que se presione un botón del ratón mientras el cursor está sobre el componente escuchad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mouseReleased(Mouse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ués de que se libere un botón del ratón después de ser presionado sobre el componente esuchad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2854080" cy="664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rot="20020800">
            <a:off x="7162920" y="3047760"/>
            <a:ext cx="122040" cy="287280"/>
          </a:xfrm>
          <a:prstGeom prst="upArrow">
            <a:avLst>
              <a:gd name="adj1" fmla="val 34037"/>
              <a:gd name="adj2" fmla="val 108250"/>
            </a:avLst>
          </a:prstGeom>
          <a:solidFill>
            <a:srgbClr val="ffffff"/>
          </a:solidFill>
          <a:ln w="1908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3DC-E98B-4220-8462-05F5BD6578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7094520" cy="67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class Ventana extends JFrame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entana()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// …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yenteMouse oyenteMouse = new OyenteMouse(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otonHola.addMouseListener(oyenteMouse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lass OyenteMouse implements MouseListener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oid mousePressed(MouseEvent e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tiqueta.setText("Raton Presionado"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oid mouseReleased(MouseEvent e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tiqueta.setText("Raton Liberado"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oid mouseEntered(MouseEvent e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tiqueta.setText("Raton ingreso"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oid mouseExited(MouseEvent e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tiqueta.setText("Raton salio"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oid mouseClicked(MouseEvent e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tiqueta.setText("Raton Pulsado"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0" y="2458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2857680" cy="666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2857680" cy="666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rot="20020800">
            <a:off x="7740720" y="1844280"/>
            <a:ext cx="122040" cy="287280"/>
          </a:xfrm>
          <a:prstGeom prst="upArrow">
            <a:avLst>
              <a:gd name="adj1" fmla="val 34037"/>
              <a:gd name="adj2" fmla="val 108250"/>
            </a:avLst>
          </a:prstGeom>
          <a:solidFill>
            <a:srgbClr val="ffffff"/>
          </a:solidFill>
          <a:ln w="1908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0020800">
            <a:off x="7740720" y="2997000"/>
            <a:ext cx="122040" cy="287280"/>
          </a:xfrm>
          <a:prstGeom prst="upArrow">
            <a:avLst>
              <a:gd name="adj1" fmla="val 34037"/>
              <a:gd name="adj2" fmla="val 108250"/>
            </a:avLst>
          </a:prstGeom>
          <a:solidFill>
            <a:srgbClr val="ffffff"/>
          </a:solidFill>
          <a:ln w="1908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084720" y="3357720"/>
            <a:ext cx="2857680" cy="666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6084720" y="4292640"/>
            <a:ext cx="2857680" cy="666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rot="20020800">
            <a:off x="7812000" y="3718080"/>
            <a:ext cx="122400" cy="287280"/>
          </a:xfrm>
          <a:prstGeom prst="upArrow">
            <a:avLst>
              <a:gd name="adj1" fmla="val 34037"/>
              <a:gd name="adj2" fmla="val 107932"/>
            </a:avLst>
          </a:prstGeom>
          <a:solidFill>
            <a:srgbClr val="ffffff"/>
          </a:solidFill>
          <a:ln w="1908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20020800">
            <a:off x="7812000" y="4869000"/>
            <a:ext cx="122400" cy="287280"/>
          </a:xfrm>
          <a:prstGeom prst="upArrow">
            <a:avLst>
              <a:gd name="adj1" fmla="val 34037"/>
              <a:gd name="adj2" fmla="val 107932"/>
            </a:avLst>
          </a:prstGeom>
          <a:solidFill>
            <a:srgbClr val="ffffff"/>
          </a:solidFill>
          <a:ln w="1908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084720" y="5229360"/>
            <a:ext cx="285768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rot="20020800">
            <a:off x="7740720" y="5589360"/>
            <a:ext cx="122040" cy="287280"/>
          </a:xfrm>
          <a:prstGeom prst="upArrow">
            <a:avLst>
              <a:gd name="adj1" fmla="val 34037"/>
              <a:gd name="adj2" fmla="val 108250"/>
            </a:avLst>
          </a:prstGeom>
          <a:solidFill>
            <a:srgbClr val="ffffff"/>
          </a:solidFill>
          <a:ln w="1908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6C5-54B0-4AE0-B4C9-32796E2CEA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ventos de Tecla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curren cuando el usuario usa el teclado en un componente que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a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iene el fo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interfaz KeyListener contienen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métodos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944640" y="3103560"/>
          <a:ext cx="7305480" cy="3094200"/>
        </p:xfrm>
        <a:graphic>
          <a:graphicData uri="http://schemas.openxmlformats.org/drawingml/2006/table">
            <a:tbl>
              <a:tblPr/>
              <a:tblGrid>
                <a:gridCol w="3652920"/>
                <a:gridCol w="365256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keyTyped(Key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ués de que el usuario teclee un caracter dentro del componente escuchad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keyPressed(Key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ués de que el usuario pulse una tecla mientras el componente escuchado tiene el foc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keyReleased(Key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ués de que el usuario libere una tecla mientras el componente escuchado tiene el foc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477120" y="3657600"/>
            <a:ext cx="361800" cy="380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934320" y="3657600"/>
            <a:ext cx="361800" cy="3808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5334120" y="2895480"/>
            <a:ext cx="285408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90A-698F-424F-BB53-6295B24171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560" y="134640"/>
            <a:ext cx="5616360" cy="67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class Ventana extends JFrame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entana()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// …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yenteKey oyenteKey = new OyenteKey(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otonAdios.addKeyListener(oyenteKey);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lass OyenteKey implements KeyListener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oid keyTyped(KeyEvent e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tiqueta.setText("Tecla Tipeada =" +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                                  e.getKeyChar()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oid keyPressed(KeyEvent e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tiqueta.setText("Tecla Presionada ="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.getKeyChar()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ublic void keyReleased(KeyEvent e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tiqueta.setText("Tecla Liberada ="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.getKeyChar()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0" y="2458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2857320" cy="666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796000" y="3200400"/>
            <a:ext cx="2857320" cy="666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5791320" y="4572000"/>
            <a:ext cx="2857320" cy="666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7772400" y="2514600"/>
            <a:ext cx="361800" cy="380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7772400" y="3886200"/>
            <a:ext cx="361800" cy="3808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7848720" y="5257800"/>
            <a:ext cx="36180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9C9-7383-4831-9DDF-662AC80D52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715000" y="2209680"/>
            <a:ext cx="2854440" cy="665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ventos de Ventan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6756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on generados por una ventana cuando es abierta, cerrada, iconificada, desiconificada, activada o desactiv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interfaz WindowListener contienen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métodos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04920" y="2971800"/>
          <a:ext cx="8569080" cy="3403440"/>
        </p:xfrm>
        <a:graphic>
          <a:graphicData uri="http://schemas.openxmlformats.org/drawingml/2006/table">
            <a:tbl>
              <a:tblPr/>
              <a:tblGrid>
                <a:gridCol w="4286160"/>
                <a:gridCol w="428292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windowOpened(Window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ués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de que la </a:t>
                      </a: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ntana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escuchada </a:t>
                      </a: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mostrada por primera vez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windowClosing(Window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lamada en respuesta a </a:t>
                      </a: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tición que la ventana escuchada sea cerrada. Para cerrar realmente la ventana, el oyente debería invocar </a:t>
                      </a: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étodo setVisible(false) de window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windowClosed(Window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lamado justo después de que la ventana escuchada </a:t>
                      </a: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cerrada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windowIconified(Window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windowDeiconified(Window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ués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que la ventana escuchada </a:t>
                      </a: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iconificada o desiconificada</a:t>
                      </a: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windowActivated(Window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id windowDeactivated(WindowEv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ués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que la ventana escuchada </a:t>
                      </a: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tivada o desactivada</a:t>
                      </a:r>
                      <a:r>
                        <a:rPr b="0" lang="es-PE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 rot="20020800">
            <a:off x="8412120" y="2379600"/>
            <a:ext cx="122400" cy="287280"/>
          </a:xfrm>
          <a:prstGeom prst="upArrow">
            <a:avLst>
              <a:gd name="adj1" fmla="val 34037"/>
              <a:gd name="adj2" fmla="val 107932"/>
            </a:avLst>
          </a:prstGeom>
          <a:solidFill>
            <a:srgbClr val="ffffff"/>
          </a:solidFill>
          <a:ln w="1908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F40-A3D4-4BF7-ADA3-FD0B491E99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6481800" cy="67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public class Ventana extends JFrame 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public Ventana()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OyenteWindow oyenteWindow = new OyenteWindow(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his.addWindowListener(oyenteWindow);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}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lass OyenteWindow implements WindowListener 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public void windowClosing(WindowEvent e) 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iqueta.setText("Ventana por cerrarse"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Window ventana1 = (Window) e.getSource(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ventana1.setVisible(false);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}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public void windowClosed(WindowEvent e) 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iqueta.setText("Ventana cerrada");     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public void windowOpened(WindowEvent e) 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iqueta.setText("Ventana abierta");        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public void windowIconified(WindowEvent e) 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iqueta.setText("Ventana iconificada");    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public void windowDeiconified(WindowEvent e) 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iqueta.setText("Ventana desiconificada");   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public void windowActivated(WindowEvent e) 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iqueta.setText("Ventana activada");        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public void windowDeactivated(WindowEvent e) 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iqueta.setText("Ventana desactivada");       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0" y="2458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796000" y="1523880"/>
            <a:ext cx="2857320" cy="66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791320" y="5043600"/>
            <a:ext cx="2857320" cy="666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796000" y="2633760"/>
            <a:ext cx="2857320" cy="666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5791320" y="3809880"/>
            <a:ext cx="2857320" cy="666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778000" y="21812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39480" y="327672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Maximiz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2400" y="44956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lt+T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2400" y="57294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lt+T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535-1FAF-40B1-94C9-C0AFB2D54F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teni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200" y="1341000"/>
            <a:ext cx="7759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is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reación de aplicaciones gráficas. Pa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odelo de delegación de event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bjeto fuente, evento, oy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ódigo de la delegación de eventos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ventos de Rat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ventos de Tecl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ventos de Venta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su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1DA-6A0F-49FB-92CC-353B48ECE6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Resume</a:t>
            </a:r>
            <a:r>
              <a:rPr b="0" lang="es-PE" sz="4000" spc="-1" strike="noStrike">
                <a:solidFill>
                  <a:srgbClr val="ffffcc"/>
                </a:solidFill>
                <a:latin typeface="Tahoma"/>
              </a:rPr>
              <a:t>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rear la clase oyente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yenteAccion implements ActionListener {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mplementar en la clase oyente el método</a:t>
            </a:r>
            <a:br>
              <a:rPr sz="28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void actionPerformed (ActionEvent evento)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JButton boton = (JButton) evento.getSource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tiqueta.setText(boton.getText() + " amigo! 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rear un objeto de la clase oyente.</a:t>
            </a:r>
            <a:br>
              <a:rPr sz="2800"/>
            </a:b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yenteAccion oyenteBoton = new OyenteAccion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gistrarlo como oyente en los componentes.</a:t>
            </a:r>
            <a:br>
              <a:rPr sz="2800"/>
            </a:b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otonHola.addActionListener(oyenteBoton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otonAdios.addActionListener(oyenteBoton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D0B-9064-440F-B596-9EED60A75F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acia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240" y="411444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4956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g. Angel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Nicolas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hata Tintaya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ttp://aulaportal.googlepages.com</a:t>
            </a:r>
            <a:br>
              <a:rPr sz="2800"/>
            </a:b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angel.chata@gmail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C065-FA1F-45C7-A928-81DAF73D56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istori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ava 1.0: AWT: Abstract Windowing Toolkit.  Primeros componentes gr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icos (Frame, Button, Label, Panel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ava 1.1: Modificación de la gestión de interacción con el usuario (Delegación de event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ava 1.2: Swing: Nuevo conjunto de componentes gráficos livianos (JFrame, Jbutton, JLabel, JPanel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01F-9EF3-415C-BBFD-1A019B2D39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reación de aplicaciones gráfic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0200" y="1125360"/>
            <a:ext cx="8462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seño y composición de la apariencia de la aplicación gráf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seño de la ventana, los componentes y forma de actu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cribir código que crea los componentes y la apariencia de la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ap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Escribir código para la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isualización de la aplicación gráf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cribir código de comportamiento de la aplicación con el usuari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legación del manejo de ev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4BC6-9BC3-488C-B5F9-96B79EA86D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1. Diseño de la </a:t>
            </a:r>
            <a:r>
              <a:rPr b="0" lang="es-PE" sz="4000" spc="-1" strike="noStrike">
                <a:solidFill>
                  <a:srgbClr val="ffffcc"/>
                </a:solidFill>
                <a:latin typeface="Tahoma"/>
              </a:rPr>
              <a:t>aplicación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PE" sz="4000" spc="-1" strike="noStrike">
                <a:solidFill>
                  <a:srgbClr val="ffffcc"/>
                </a:solidFill>
                <a:latin typeface="Tahoma"/>
              </a:rPr>
              <a:t>gráfic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95640" y="1341000"/>
            <a:ext cx="3097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mpon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JLabel : Bienv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JButton: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ola, Ad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JPanel: Bienvenido, Hola, Ad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JFrame: Ventana Sw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1486080"/>
            <a:ext cx="4286160" cy="1000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42920" y="3286080"/>
            <a:ext cx="4286160" cy="1000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4869000"/>
            <a:ext cx="4286160" cy="1000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94680" y="285264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l 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ulsar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H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3960" y="1125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entana ini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3080" y="450864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l 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ulsar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d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5AE-2C75-4989-9A69-635E946E22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780000" y="0"/>
            <a:ext cx="51847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Código de la aplicación gráfic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404640"/>
            <a:ext cx="6553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mport java.awt.event.*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mport javax.swing.*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class Ventana extends JFrame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JLabel etiquet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JButton botonHola, botonAdio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JPanel panel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Ventana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tiqueta = new JLabel("Bienvenido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otonHola = new JButton("Hola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otonAdios = new JButton("Adio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anel = new JPanel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anel.add(etiquet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anel.add(botonHol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anel.add(botonAdios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getContentPane().add(panel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7840" y="5373720"/>
            <a:ext cx="4286160" cy="100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B5C-8EAB-47FA-9515-B9E1FE9618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. Visualización de la aplicación gráfic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mport java.awt.event.*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mport javax.swing.*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class Ventana extends JFrame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//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static void main (String[] args)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entana ventana = new Ventana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entana.setTitle("UNI - FIIS - ST232 (Ventana Swing)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entana.setSize(300,70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entana.setVisible(true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//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57840" y="5373720"/>
            <a:ext cx="4286160" cy="100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3CF-C730-401E-9117-D97F435374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520" y="274320"/>
            <a:ext cx="53341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. Código de la interacción</a:t>
            </a:r>
            <a:r>
              <a:rPr b="0" lang="es-PE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con</a:t>
            </a:r>
            <a:r>
              <a:rPr b="0" lang="es-PE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s-PE" sz="4000" spc="-1" strike="noStrike">
                <a:solidFill>
                  <a:srgbClr val="ffffcc"/>
                </a:solidFill>
                <a:latin typeface="Tahoma"/>
              </a:rPr>
              <a:t>el 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usuari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7345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class Ventana extends JFrame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JLabel etiquet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JButton botonHola, botonAdio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//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Ventana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//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yenteAccion oyenteBoton = new OyenteAccion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otonHola.addActionListener(oyenteBoton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otonAdios.addActionListener(oyenteBoton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lass OyenteAccion implements ActionListener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void actionPerformed (ActionEvent evento)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JButton boton = (JButton) evento.getSource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tiqueta.setText(boton.getText() + " amigo! 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0" y="5334120"/>
            <a:ext cx="4286160" cy="100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B35-63C5-4B59-B745-92D50C875F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odelo de delegación de evento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1709640" cy="1636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732720" y="3141720"/>
            <a:ext cx="1706400" cy="1625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H="1">
            <a:off x="2484000" y="342900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4005360"/>
            <a:ext cx="1150920" cy="1008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125360"/>
            <a:ext cx="8208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manejo de un evento que ocurre en un objeto (fuente) se delega a otro objeto (oyen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65300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20200" y="44370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44560" y="2971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rea el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oy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7692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. Se agrega 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a lista de oyentes del objeto fu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7640" y="4941720"/>
            <a:ext cx="36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3. Cuando 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ocurr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un event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comunica al oyente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 evento 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es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rgumento</a:t>
            </a: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 del mensaj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44960" y="270828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yenteBo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70828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otonH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37360" y="371628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ctionEvent 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AC2-C8B1-4005-8B21-7917D1FA5D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7:47:43Z</dcterms:created>
  <dc:creator>angel.chata</dc:creator>
  <dc:description/>
  <dc:language>en-US</dc:language>
  <cp:lastModifiedBy>Maquina</cp:lastModifiedBy>
  <dcterms:modified xsi:type="dcterms:W3CDTF">2008-03-25T04:09:33Z</dcterms:modified>
  <cp:revision>150</cp:revision>
  <dc:subject/>
  <dc:title>Diapositiva 1</dc:title>
</cp:coreProperties>
</file>