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29E6-1FDD-4844-95E5-269B814C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C02-50B2-40E5-A802-32E46D24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7C1-FBEA-47CD-89FA-76D964DC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6F0-6F8D-46F0-83C3-FB95C65F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9C40-5F6F-4B74-92E5-ACFB83C9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7A2B-C892-4D6D-9522-C4379E57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F037-C790-4D0A-AC99-82779CA2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AD0D-764B-4BCF-88C4-F232E587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AECD-A992-497C-B642-22B4830E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A418-0950-453E-94C4-51F18892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0AD9-76C7-4136-9DC1-1ACCD92B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D67B-6C5C-41C1-B88E-839034AF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C229-F57E-4972-8501-B2AE2F6E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79EE-BB5D-4DA7-8EF4-57161594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BA0F-E051-4FCA-9A25-532EEB62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3E64-D394-4BB0-9B12-6FBB9598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B724-33B2-4454-A1B8-6FE42666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1063-1D25-4A23-A9DD-B62AD624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69D-A526-420F-81A9-679834AC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6ED8-BF39-4B47-9506-532399E0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A5D-9BF2-46AB-AFFE-B649D4A7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271-1079-4528-B816-5F04D03C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33E-F571-4EC8-9DF9-E0855F38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C79C-8F97-4431-9533-463DD421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1209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abnormal labor/Obstructed lab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5BED-8DBD-4FB5-A004-7A3D15815C6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1209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abnormal labour/obstructed lab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D7A6-B210-4A79-9007-C41669A2600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0066"/>
                </a:solidFill>
                <a:latin typeface="Arial"/>
              </a:rPr>
              <a:t>Abnormal Labour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Obstructed labour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Ibu – 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dehydrated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, ketotic dan sentiasa dalam kesakita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Verdana"/>
              </a:rPr>
              <a:t>Pireksia dan takikardi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Bahagian dibawah segmen uterus tender apabila dipalpa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Verdana"/>
              </a:rPr>
              <a:t>Pengeluaran urin sedikit dan mungkin terdapat hematur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Peperiksaan vagin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Verdana"/>
              </a:rPr>
              <a:t>Vagina – hot and d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Verdana"/>
              </a:rPr>
              <a:t>Cervix not well applied to presenting par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Moulding dan caput succedaneum hadi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Fetu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ungkin fetal distres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ahay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586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&gt;&gt;&gt;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kematian fet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&gt;&gt;&gt;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kematian ibu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1752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Pengurus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tenat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Good antenatal ca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&gt;&gt;&gt; keluarkan ovarian cy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&gt;&gt;&gt; rancangkan caesarean sec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62480" y="2286000"/>
            <a:ext cx="782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Terangkan data-data yang diperolehi semasa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ntenatal untuk mengesan risiko obstructed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labou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Pengurusan samb/…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eringkat Pertama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erhatikan kemajuan labou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enurunan presenting pa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ontraksi uteru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emeriksaan vagin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–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esarian sec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eringkat Kedu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–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Vacuum extrac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orceps delive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esarean sec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ila nyatakan tanggungjawab anda untuk mengelakkan dan mengesan dengan awal tanda – tanda </a:t>
            </a:r>
            <a:r>
              <a:rPr b="0" i="1" lang="en-US" sz="3200" spc="-1" strike="noStrike">
                <a:solidFill>
                  <a:srgbClr val="eec85e"/>
                </a:solidFill>
                <a:latin typeface="Verdana"/>
              </a:rPr>
              <a:t>obstructed labour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erangkan tindakkan yang perlu dilakukan semasa </a:t>
            </a:r>
            <a:r>
              <a:rPr b="0" i="1" lang="en-US" sz="3200" spc="-1" strike="noStrike">
                <a:solidFill>
                  <a:srgbClr val="ffff00"/>
                </a:solidFill>
                <a:latin typeface="Verdana"/>
              </a:rPr>
              <a:t>obstructed labour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dikesa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r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Komplikas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3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Matern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ff"/>
                </a:solidFill>
                <a:latin typeface="Verdana"/>
              </a:rPr>
              <a:t>Trauma </a:t>
            </a:r>
            <a:r>
              <a:rPr b="0" lang="en-US" sz="2400" spc="-1" strike="noStrike">
                <a:solidFill>
                  <a:srgbClr val="ccffff"/>
                </a:solidFill>
                <a:latin typeface="Verdana"/>
              </a:rPr>
              <a:t>kepada</a:t>
            </a:r>
            <a:r>
              <a:rPr b="0" i="1" lang="en-US" sz="2400" spc="-1" strike="noStrike">
                <a:solidFill>
                  <a:srgbClr val="ccffff"/>
                </a:solidFill>
                <a:latin typeface="Verdana"/>
              </a:rPr>
              <a:t> bladd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ff"/>
                </a:solidFill>
                <a:latin typeface="Verdana"/>
              </a:rPr>
              <a:t>Vesico vaginal fistul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ff"/>
                </a:solidFill>
                <a:latin typeface="Verdana"/>
              </a:rPr>
              <a:t>Urinary incontine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ff"/>
                </a:solidFill>
                <a:latin typeface="Verdana"/>
              </a:rPr>
              <a:t>Intrauterine infec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ff"/>
                </a:solidFill>
                <a:latin typeface="Verdana"/>
              </a:rPr>
              <a:t>Rupture of uterus &gt;&gt; haemorrhag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24480" y="12193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019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Fet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i="1" lang="en-US" sz="2800" spc="-1" strike="noStrike">
                <a:solidFill>
                  <a:srgbClr val="ccffff"/>
                </a:solidFill>
                <a:latin typeface="Verdana"/>
              </a:rPr>
              <a:t>intrauterine asphyxia &gt;&gt;&gt;Fresh stillbirt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ff"/>
                </a:solidFill>
                <a:latin typeface="Verdana"/>
              </a:rPr>
              <a:t>Permanent brain dama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ff"/>
                </a:solidFill>
                <a:latin typeface="Verdana"/>
              </a:rPr>
              <a:t>- Neonatal pneumon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58000" y="380880"/>
            <a:ext cx="1927080" cy="2362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Objektif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ri definisi obstructed labou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yatakan sebab obstructed labou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enalpasti tanda- tanda obstructed labou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yatakan bahaya obstructed labou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erangkan pengurusan obstructed labou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oalan Latiha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52120" y="1523520"/>
            <a:ext cx="716292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uan J gravida 2 dengan gestasi 40 minggu berada dalam labour selama 8 jam. Melalui pemerhatian anda mengesyaki Puan J mengalami labour terhalang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) Nyatakan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EMPAT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tanda klinikal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bstructed labou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905120" cy="182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Setelah pemeriksaan dilakukan, doktor menetapkan kelahiran bayinya dengan cara pembedahan Caesarean section serta mert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b)Terangkan persediaan spesifik pra operatif untuk Puan J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) Terangkan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IGA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komplikasi ke atas ibu dan fetus yang mungkin berlaku jika masalah tidak diatasi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Franklin Gothic Medium"/>
              </a:rPr>
              <a:t>Unless you’re willing to take a risk, to have a go, to fail miserably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Medium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Franklin Gothic Medium"/>
              </a:rPr>
              <a:t>and have another go, success won’t happe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hilip Adam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772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Definis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atu keadaan dimana tak ada penurunan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presenting par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walaupun terdapat kontraksi uterus yang ku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(</a:t>
            </a:r>
            <a:r>
              <a:rPr b="0" i="1" lang="en-US" sz="3200" spc="-1" strike="noStrike">
                <a:solidFill>
                  <a:srgbClr val="eec85e"/>
                </a:solidFill>
                <a:latin typeface="Verdana"/>
              </a:rPr>
              <a:t>labour is said to be obstructed when there is no advance of the presenting part despite strong uterine contraction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ebab-sebab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Peringkat Pertama Kelahir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9e6f7"/>
                </a:solidFill>
                <a:latin typeface="Verdana"/>
              </a:rPr>
              <a:t>A.</a:t>
            </a:r>
            <a:r>
              <a:rPr b="0" lang="en-US" sz="3200" spc="-1" strike="noStrike">
                <a:solidFill>
                  <a:srgbClr val="09e6f7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9e6f7"/>
                </a:solidFill>
                <a:latin typeface="Verdana"/>
              </a:rPr>
              <a:t>Jani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lpresentasi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dah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bah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Persistent occipito posterior position&gt;&gt; deep transverse arre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Janin Besar – 5 k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idrosefalu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Locked twins -rar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Cephalopelvic dispropor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elvi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contracted pelvis- akibat rickets, osteomalacia, kecederaan teruk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fibroids ,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 bahagian bawah uterus atau pada servik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umour ovarian atau tumour, pada bony pelvis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ovarian cyst mengecilkan ruang pelvi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Peringkat Kedua Kelahir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Jani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edudukan breech dan kepala tersangku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aya fetus - OP menjadi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direct transverse arre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Renung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57150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yatakan sebab-sebab 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obstructed labour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477120" y="11430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Tanda- Tanda Obstructed Labour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9e6f7"/>
                </a:solidFill>
                <a:latin typeface="Verdana"/>
              </a:rPr>
              <a:t>Presenting part</a:t>
            </a:r>
            <a:r>
              <a:rPr b="0" lang="en-US" sz="3200" spc="-1" strike="noStrike">
                <a:solidFill>
                  <a:srgbClr val="09e6f7"/>
                </a:solidFill>
                <a:latin typeface="Verdana"/>
              </a:rPr>
              <a:t> tidak memasuki brim pelvik walaupun terdapat kontraksi uterus yang ku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Verdana"/>
              </a:rPr>
              <a:t>Dilatasi serviks lamb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Membrans ruptur awal atau pembentukan </a:t>
            </a:r>
            <a:r>
              <a:rPr b="0" i="1" lang="en-US" sz="3200" spc="-1" strike="noStrike">
                <a:solidFill>
                  <a:srgbClr val="ffffcc"/>
                </a:solidFill>
                <a:latin typeface="Verdana"/>
              </a:rPr>
              <a:t>sac forewater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yang panjan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mb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212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Late sig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Uteru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–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idak relaks diantara kontraks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&gt;&gt;&gt; tonic contractions berlak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&gt;&gt;&gt; uterine exhaustion berlak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Arial"/>
              </a:rPr>
              <a:t>Bahagian atas uteru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Shorter and thick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Arial"/>
              </a:rPr>
              <a:t>Bahagian bawah uteru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thinner and long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Kehadiran Bandl’s ring </a:t>
            </a: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&gt;&gt;&gt;&gt;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ruptur uteru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04-09T07:24:57Z</dcterms:modified>
  <cp:revision>18</cp:revision>
  <dc:subject/>
  <dc:title>PowerPoint Presentation</dc:title>
</cp:coreProperties>
</file>