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B8A-84CA-4B55-960B-1A1E1E17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B64-58F2-4756-BAE3-A209844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B5C-0A9C-4782-B5B1-0E2F4AFA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438-7B5F-42DE-96FF-BDA664CC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DC4F-1B99-4D5B-AEDA-048CF751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F686-4AD9-499C-B222-00BB1CD8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7857-8D11-473E-8C93-61EA0A7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5F65-58CE-4CFA-8EEB-894BFD66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B43A-D80D-452E-B10B-3791A9D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AA4C-9615-4865-A490-18FC912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5F11-6980-4F17-9675-C0B7E202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E1D-1487-4541-93D2-788CB615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57C5-4550-4741-9091-AFE184D0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E30-5EE9-4662-89BE-570E554B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2BB9-21AF-440A-9A21-142D88E5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85C1-01FB-4EBC-AB37-F98597FB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B594-2037-4AB4-9F0B-4E488C85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66D-4E80-4BD8-91AE-D92A20A2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036-19F3-4670-AB68-83EF98AA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0C5-73BE-4E7A-97EC-F401626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A4C-2C5E-4E82-917D-29643FBA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C7F-0EE4-4AFC-961A-8C31F09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FA3-0507-48B7-A428-FA2B9B8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602-C9B9-4152-A600-C8E15BE0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1209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abnormal labor/Obstructed lab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941-F510-411B-BF36-AD37F50D71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1209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abnormal labour/obstructed lab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2172-F719-4E2C-A719-2031B79E14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66"/>
                </a:solidFill>
                <a:latin typeface="Arial"/>
              </a:rPr>
              <a:t>Abnormal Labou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Obstructed labour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bu – </a:t>
            </a: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dehydrated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, ketotic dan sentiasa dalam kesakita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Pireksia dan takikardi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Bahagian dibawah segmen uterus tender apabila dipalpa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Verdana"/>
              </a:rPr>
              <a:t>Pengeluaran urin sedikit dan mungkin terdapat hematu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Peperiksaan vagi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Vagina – hot and d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Cervix not well applied to presenting par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ulding dan caput succedaneum hadi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Fet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ungkin fetal distres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ahay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&gt;&gt;&gt;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kematian fet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&gt;&gt;&gt;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kematian ibu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17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engurus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tenat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Good antenatal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&gt;&gt;&gt; keluarkan ovarian cy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&gt;&gt;&gt; rancangkan caesarean s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62480" y="2286000"/>
            <a:ext cx="782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rangkan data-data yang diperolehi semas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ntenatal untuk mengesan risiko obstruct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labo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Pengurusan samb/…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eringkat Pertama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rhatikan kemajuan labou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nurunan presenting pa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ontraksi 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emeriksaan vagin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eringkat Ked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Vacuum extra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orceps delive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esarean s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ila nyatakan tanggungjawab anda untuk mengelakkan dan mengesan dengan awal tanda – tanda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obstructed labour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erangkan tindakkan yang perlu dilakukan semasa </a:t>
            </a: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obstructed labour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dikesa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Komplikas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atern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Trauma </a:t>
            </a:r>
            <a:r>
              <a:rPr b="0" lang="en-US" sz="2400" spc="-1" strike="noStrike">
                <a:solidFill>
                  <a:srgbClr val="ccffff"/>
                </a:solidFill>
                <a:latin typeface="Verdana"/>
              </a:rPr>
              <a:t>kepada</a:t>
            </a: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 bladd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Vesico vaginal fistul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Urinary incontin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Intrauterine infec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Verdana"/>
              </a:rPr>
              <a:t>Rupture of uterus &gt;&gt; haemorrh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Feta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i="1" lang="en-US" sz="2800" spc="-1" strike="noStrike">
                <a:solidFill>
                  <a:srgbClr val="ccffff"/>
                </a:solidFill>
                <a:latin typeface="Verdana"/>
              </a:rPr>
              <a:t>intrauterine asphyxia &gt;&gt;&gt;Fresh stillbir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Verdana"/>
              </a:rPr>
              <a:t>Permanent brain dam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ff"/>
                </a:solidFill>
                <a:latin typeface="Verdana"/>
              </a:rPr>
              <a:t>- Neonatal pneumon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192708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Objekti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ri definisi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yatakan sebab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nalpasti tanda- tanda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yatakan bahaya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rangkan pengurusan obstructed labou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oalan Latiha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52120" y="1523520"/>
            <a:ext cx="71629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uan J gravida 2 dengan gestasi 40 minggu berada dalam labour selama 8 jam. Melalui pemerhatian anda mengesyaki Puan J mengalami labour terhala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) Nyatakan </a:t>
            </a: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EMPAT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tanda klinikal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structed labou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Setelah pemeriksaan dilakukan, doktor menetapkan kelahiran bayinya dengan cara pembedahan Caesarean section serta merta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b)Terangkan persediaan spesifik pra operatif untuk Puan J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) Terangkan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IG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komplikasi ke atas ibu dan fetus yang mungkin berlaku jika masalah tidak diatasi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Unless you’re willing to take a risk, to have a go, to fail miserab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and have another go, success won’t happe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hilip Ad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772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Definis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 keadaan dimana tak ada penurunan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presenting par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walaupun terdapat kontraksi uterus yang ku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labour is said to be obstructed when there is no advance of the presenting part despite strong uterine contractions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ebab-sebab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eringkat Pertama Kelahir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A.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Jan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lpresentasi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dah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bahu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Persistent occipito posterior position&gt;&gt; deep transverse ar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Janin Besar – 5 k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idrosefal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Locked twins -ra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Cephalopelvic dispropor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elv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contracted pelvis- akibat rickets, osteomalacia, kecederaan teruk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fibroids ,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 bahagian bawah uterus atau pada servik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umour ovarian atau tumour, pada bony pelvis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ovarian cyst mengecilkan ruang pelv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eringkat Kedua Kelahir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an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dudukan breech dan kepala tersangk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aya fetus - OP menjadi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direct transverse ar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Renung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57150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yatakan sebab-sebab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obstructed labour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Tanda- Tanda Obstructed Labour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9e6f7"/>
                </a:solidFill>
                <a:latin typeface="Verdana"/>
              </a:rPr>
              <a:t>Presenting part</a:t>
            </a:r>
            <a:r>
              <a:rPr b="0" lang="en-US" sz="3200" spc="-1" strike="noStrike">
                <a:solidFill>
                  <a:srgbClr val="09e6f7"/>
                </a:solidFill>
                <a:latin typeface="Verdana"/>
              </a:rPr>
              <a:t> tidak memasuki brim pelvik walaupun terdapat kontraksi uterus yang ku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Verdana"/>
              </a:rPr>
              <a:t>Dilatasi serviks lamba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Membrans ruptur awal atau pembentukan </a:t>
            </a:r>
            <a:r>
              <a:rPr b="0" i="1" lang="en-US" sz="3200" spc="-1" strike="noStrike">
                <a:solidFill>
                  <a:srgbClr val="ffffcc"/>
                </a:solidFill>
                <a:latin typeface="Verdana"/>
              </a:rPr>
              <a:t>sac forewaters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yang panja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Verdana"/>
              </a:rPr>
              <a:t>Late 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–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idak relaks diantara kontraksi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&gt;&gt;&gt; tonic contractions berla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&gt;&gt;&gt; uterine exhaustion berlak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Arial"/>
              </a:rPr>
              <a:t>Bahagian atas 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Shorter and thick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Arial"/>
              </a:rPr>
              <a:t>Bahagian bawah uteru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thinner and long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Kehadiran Bandl’s ring </a:t>
            </a: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&gt;&gt;&gt;&gt;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ruptur uter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4-09T07:24:57Z</dcterms:modified>
  <cp:revision>18</cp:revision>
  <dc:subject/>
  <dc:title>PowerPoint Presentation</dc:title>
</cp:coreProperties>
</file>